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chimes.wav" ContentType="audio/x-wav"/>
  <Override PartName="/ppt/media/image32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21.wmf" ContentType="image/x-wmf"/>
  <Override PartName="/ppt/media/image6.jpeg" ContentType="image/jpeg"/>
  <Override PartName="/ppt/media/type.wav" ContentType="audio/x-wav"/>
  <Override PartName="/ppt/media/image19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jpeg" ContentType="image/jpeg"/>
  <Override PartName="/ppt/media/image4.jpeg" ContentType="image/jpeg"/>
  <Override PartName="/ppt/media/image10.wmf" ContentType="image/x-wmf"/>
  <Override PartName="/ppt/media/image27.wmf" ContentType="image/x-wmf"/>
  <Override PartName="/ppt/media/image29.wmf" ContentType="image/x-wmf"/>
  <Override PartName="/ppt/media/image31.wmf" ContentType="image/x-wmf"/>
  <Override PartName="/ppt/media/image30.wmf" ContentType="image/x-wmf"/>
  <Override PartName="/ppt/media/image33.wmf" ContentType="image/x-wmf"/>
  <Override PartName="/ppt/media/camera.wav" ContentType="audio/x-wav"/>
  <Override PartName="/ppt/media/image34.wmf" ContentType="image/x-wmf"/>
  <Override PartName="/ppt/media/image9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3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0F4-A45E-47CC-AF61-7CFF6B1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6A0-9914-4E35-96EA-4305D07D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916-A060-47A3-91D2-77462A3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C24-5D63-4D2A-97A3-4EC93F3F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F81-4578-47B5-AC37-8E5B067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866-A92E-4F26-9389-79DBB438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98B-7DFE-48BE-9D10-395ACC6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19C-FE24-4BAB-BF75-ECAD7F8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827-5D54-49AF-AD49-D0C03F5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126-679D-42CC-8976-9F1AE4C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82F-4593-4F53-8A26-614B086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11D-0DDE-46C4-9E8D-F72F2C4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16F1-8C91-4AD3-A5FA-96C074E98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.jpeg"/><Relationship Id="rId11" Type="http://schemas.openxmlformats.org/officeDocument/2006/relationships/image" Target="../media/image6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35.wmf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36.wmf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0.wmf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whoosh.wav"/><Relationship Id="rId39" Type="http://schemas.openxmlformats.org/officeDocument/2006/relationships/audio" Target="../media/camera.wav"/><Relationship Id="rId40" Type="http://schemas.openxmlformats.org/officeDocument/2006/relationships/audio" Target="../media/whoosh.wav"/><Relationship Id="rId41" Type="http://schemas.openxmlformats.org/officeDocument/2006/relationships/audio" Target="../media/camera.wav"/><Relationship Id="rId42" Type="http://schemas.openxmlformats.org/officeDocument/2006/relationships/audio" Target="../media/whoosh.wav"/><Relationship Id="rId43" Type="http://schemas.openxmlformats.org/officeDocument/2006/relationships/audio" Target="../media/camera.wav"/><Relationship Id="rId4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whoosh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whoosh.wav"/><Relationship Id="rId46" Type="http://schemas.openxmlformats.org/officeDocument/2006/relationships/audio" Target="../media/camera.wav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0.wmf"/><Relationship Id="rId2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62600"/>
            <a:ext cx="9144000" cy="954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4860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46040" y="1003320"/>
            <a:ext cx="6496200" cy="4127400"/>
            <a:chOff x="1346040" y="1003320"/>
            <a:chExt cx="6496200" cy="4127400"/>
          </a:xfrm>
        </p:grpSpPr>
        <p:grpSp>
          <p:nvGrpSpPr>
            <p:cNvPr id="46" name=""/>
            <p:cNvGrpSpPr/>
            <p:nvPr/>
          </p:nvGrpSpPr>
          <p:grpSpPr>
            <a:xfrm>
              <a:off x="1346040" y="1003320"/>
              <a:ext cx="6496200" cy="4127400"/>
              <a:chOff x="1346040" y="1003320"/>
              <a:chExt cx="6496200" cy="4127400"/>
            </a:xfrm>
          </p:grpSpPr>
          <p:sp>
            <p:nvSpPr>
              <p:cNvPr id="47" name=""/>
              <p:cNvSpPr/>
              <p:nvPr/>
            </p:nvSpPr>
            <p:spPr>
              <a:xfrm>
                <a:off x="1508040" y="1047600"/>
                <a:ext cx="6245280" cy="40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352520" y="10476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89960" y="10350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46040" y="100332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46040" y="499104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192400" y="1170000"/>
              <a:ext cx="5067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Whiteboardmaths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24480" y="4764240"/>
              <a:ext cx="224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© 2007 All rights 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76360" y="1692360"/>
              <a:ext cx="4038840" cy="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49400" y="1871640"/>
              <a:ext cx="850680" cy="990720"/>
              <a:chOff x="1949400" y="1871640"/>
              <a:chExt cx="850680" cy="990720"/>
            </a:xfrm>
          </p:grpSpPr>
          <p:sp>
            <p:nvSpPr>
              <p:cNvPr id="56" name=""/>
              <p:cNvSpPr/>
              <p:nvPr/>
            </p:nvSpPr>
            <p:spPr>
              <a:xfrm>
                <a:off x="1950840" y="1871640"/>
                <a:ext cx="849240" cy="99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d918d"/>
                  </a:gs>
                  <a:gs pos="50000">
                    <a:srgbClr val="eedcd6"/>
                  </a:gs>
                  <a:gs pos="100000">
                    <a:srgbClr val="9d918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50840" y="1949400"/>
                <a:ext cx="846720" cy="847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2156"/>
                    </a:srgbClr>
                  </a:gs>
                  <a:gs pos="100000">
                    <a:srgbClr val="a8a8a8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49400" y="263592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949400" y="200088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308400" y="1785960"/>
              <a:ext cx="1144440" cy="1259280"/>
              <a:chOff x="3308400" y="1785960"/>
              <a:chExt cx="1144440" cy="1259280"/>
            </a:xfrm>
          </p:grpSpPr>
          <p:sp>
            <p:nvSpPr>
              <p:cNvPr id="61" name=""/>
              <p:cNvSpPr/>
              <p:nvPr/>
            </p:nvSpPr>
            <p:spPr>
              <a:xfrm>
                <a:off x="3308400" y="2241000"/>
                <a:ext cx="340200" cy="34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647880" y="258624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30000">
                <a:off x="3787560" y="2670840"/>
                <a:ext cx="398880" cy="2314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16800">
                <a:off x="3709800" y="2815920"/>
                <a:ext cx="39384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16800">
                <a:off x="3563640" y="273060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0797600">
                <a:off x="3819960" y="1785960"/>
                <a:ext cx="39888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10800">
                <a:off x="4135680" y="2044080"/>
                <a:ext cx="400680" cy="23220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16800">
                <a:off x="3563640" y="210168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596400">
                <a:off x="3878280" y="236376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77920" y="2016000"/>
                <a:ext cx="343440" cy="3459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046840" y="4151160"/>
              <a:ext cx="2611440" cy="639720"/>
              <a:chOff x="5046840" y="4151160"/>
              <a:chExt cx="2611440" cy="6397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5046840" y="4151160"/>
                <a:ext cx="2611440" cy="639720"/>
                <a:chOff x="5046840" y="4151160"/>
                <a:chExt cx="2611440" cy="639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046840" y="4668480"/>
                  <a:ext cx="2611440" cy="1224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5349600" y="4151160"/>
                  <a:ext cx="2009880" cy="517320"/>
                  <a:chOff x="5349600" y="4151160"/>
                  <a:chExt cx="2009880" cy="5173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534960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635256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29972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" name=""/>
              <p:cNvSpPr/>
              <p:nvPr/>
            </p:nvSpPr>
            <p:spPr>
              <a:xfrm>
                <a:off x="6065640" y="4606560"/>
                <a:ext cx="66780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01280" y="4545000"/>
                <a:ext cx="583200" cy="61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145200" y="4482720"/>
                <a:ext cx="47916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46360" y="4606560"/>
                <a:ext cx="376920" cy="6192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3320" y="4606560"/>
                <a:ext cx="28440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46840" y="4668480"/>
                <a:ext cx="2611440" cy="122400"/>
              </a:xfrm>
              <a:prstGeom prst="rect">
                <a:avLst/>
              </a:prstGeom>
              <a:gradFill rotWithShape="0">
                <a:gsLst>
                  <a:gs pos="0">
                    <a:srgbClr val="8e7459"/>
                  </a:gs>
                  <a:gs pos="50000">
                    <a:srgbClr val="d8b088"/>
                  </a:gs>
                  <a:gs pos="100000">
                    <a:srgbClr val="8e745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959360" y="1932120"/>
              <a:ext cx="905040" cy="868320"/>
              <a:chOff x="4959360" y="1932120"/>
              <a:chExt cx="905040" cy="868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4959360" y="1947960"/>
                <a:ext cx="858960" cy="852480"/>
                <a:chOff x="4959360" y="1947960"/>
                <a:chExt cx="858960" cy="8524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9593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2455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53212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9593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2455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3212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593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455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53212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5241960" y="22194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26120" y="193212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08720" y="193356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9360" y="22176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717800" y="2920680"/>
              <a:ext cx="1087560" cy="1089360"/>
              <a:chOff x="4717800" y="2920680"/>
              <a:chExt cx="1087560" cy="108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717800" y="2920680"/>
                <a:ext cx="1087560" cy="1089360"/>
                <a:chOff x="4717800" y="2920680"/>
                <a:chExt cx="1087560" cy="10893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4717800" y="2920680"/>
                  <a:ext cx="1087560" cy="1089360"/>
                  <a:chOff x="4717800" y="2920680"/>
                  <a:chExt cx="1087560" cy="108936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4718160" y="2920680"/>
                    <a:ext cx="1087200" cy="9720"/>
                    <a:chOff x="4718160" y="2920680"/>
                    <a:chExt cx="1087200" cy="972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 flipV="1">
                      <a:off x="47181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flipV="1">
                      <a:off x="4771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4825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flipV="1">
                      <a:off x="4879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flipV="1">
                      <a:off x="4933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flipV="1">
                      <a:off x="4987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flipV="1">
                      <a:off x="5041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flipV="1">
                      <a:off x="5095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V="1">
                      <a:off x="5149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5203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V="1">
                      <a:off x="5256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>
                      <a:off x="5310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V="1">
                      <a:off x="5364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 flipV="1">
                      <a:off x="5418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V="1">
                      <a:off x="5472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5526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flipV="1">
                      <a:off x="5580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V="1">
                      <a:off x="5634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flipV="1">
                      <a:off x="5688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flipV="1">
                      <a:off x="5741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V="1">
                      <a:off x="5795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4718160" y="3999240"/>
                    <a:ext cx="1087200" cy="9720"/>
                    <a:chOff x="4718160" y="3999240"/>
                    <a:chExt cx="1087200" cy="97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flipV="1">
                      <a:off x="47181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V="1">
                      <a:off x="4771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V="1">
                      <a:off x="4825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flipV="1">
                      <a:off x="4879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 flipV="1">
                      <a:off x="4933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flipV="1">
                      <a:off x="4987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flipV="1">
                      <a:off x="5041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flipV="1">
                      <a:off x="5095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V="1">
                      <a:off x="5149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flipV="1">
                      <a:off x="5203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V="1">
                      <a:off x="5256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flipV="1">
                      <a:off x="5310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flipV="1">
                      <a:off x="5364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flipV="1">
                      <a:off x="5418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flipV="1">
                      <a:off x="5472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V="1">
                      <a:off x="5526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5580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5634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flipV="1">
                      <a:off x="5688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flipV="1">
                      <a:off x="5741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flipV="1">
                      <a:off x="5795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"/>
                  <p:cNvSpPr/>
                  <p:nvPr/>
                </p:nvSpPr>
                <p:spPr>
                  <a:xfrm flipV="1" rot="16200000">
                    <a:off x="471780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 rot="16200000">
                    <a:off x="471780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 rot="16200000">
                    <a:off x="471780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 rot="16200000">
                    <a:off x="471780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 rot="16200000">
                    <a:off x="471780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 rot="16200000">
                    <a:off x="471780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 rot="16200000">
                    <a:off x="471780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 rot="16200000">
                    <a:off x="471780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 rot="16200000">
                    <a:off x="471780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 rot="16200000">
                    <a:off x="471780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 rot="16200000">
                    <a:off x="471780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 rot="16200000">
                    <a:off x="471780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 rot="16200000">
                    <a:off x="471780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 rot="16200000">
                    <a:off x="471780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 rot="16200000">
                    <a:off x="471780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V="1" rot="16200000">
                    <a:off x="471780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 rot="16200000">
                    <a:off x="471780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 rot="16200000">
                    <a:off x="471780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 rot="16200000">
                    <a:off x="471780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 rot="16200000">
                    <a:off x="471780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 rot="16200000">
                    <a:off x="579492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 rot="16200000">
                    <a:off x="579492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 rot="16200000">
                    <a:off x="579492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 rot="16200000">
                    <a:off x="579492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 rot="16200000">
                    <a:off x="579492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 rot="16200000">
                    <a:off x="579492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 rot="16200000">
                    <a:off x="579492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 rot="16200000">
                    <a:off x="579492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V="1" rot="16200000">
                    <a:off x="579492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 rot="16200000">
                    <a:off x="579528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 rot="16200000">
                    <a:off x="579492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 rot="16200000">
                    <a:off x="579492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V="1" rot="16200000">
                    <a:off x="579492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 rot="16200000">
                    <a:off x="579492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 rot="16200000">
                    <a:off x="579492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V="1" rot="16200000">
                    <a:off x="579492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V="1" rot="16200000">
                    <a:off x="579492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 rot="16200000">
                    <a:off x="579492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 rot="16200000">
                    <a:off x="579492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V="1" rot="16200000">
                    <a:off x="579492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727880" y="292572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27880" y="400428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800680" y="292356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723920" y="292932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437080" y="2924280"/>
                  <a:ext cx="363600" cy="365760"/>
                  <a:chOff x="5437080" y="2924280"/>
                  <a:chExt cx="363600" cy="365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440320" y="2924280"/>
                    <a:ext cx="36036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8880800">
                    <a:off x="5749920" y="2964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8880800">
                    <a:off x="5715360" y="2999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8880800">
                    <a:off x="5680800" y="3034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8880800">
                    <a:off x="5646240" y="3069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8880800">
                    <a:off x="5611680" y="3103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8880800">
                    <a:off x="5577120" y="3138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8880800">
                    <a:off x="5542560" y="3173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8880800">
                    <a:off x="5508000" y="3208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8880800">
                    <a:off x="5473800" y="32428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8880800">
                    <a:off x="5439240" y="32778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725720" y="2929320"/>
                  <a:ext cx="365400" cy="363960"/>
                  <a:chOff x="4725720" y="2929320"/>
                  <a:chExt cx="365400" cy="363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4726080" y="292896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3480800">
                    <a:off x="4766040" y="2969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3480800">
                    <a:off x="4800960" y="3004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3480800">
                    <a:off x="4835880" y="3039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3480800">
                    <a:off x="4870440" y="307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3480800">
                    <a:off x="4905360" y="310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3480800">
                    <a:off x="4939920" y="31424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3480800">
                    <a:off x="4974840" y="31773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3480800">
                    <a:off x="5009760" y="3211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3480800">
                    <a:off x="5044320" y="3246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3480800">
                    <a:off x="5079240" y="32806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5433480" y="3637800"/>
                  <a:ext cx="365400" cy="363960"/>
                  <a:chOff x="5433480" y="3637800"/>
                  <a:chExt cx="365400" cy="363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5400000">
                    <a:off x="5437800" y="364068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2680800">
                    <a:off x="5748480" y="3950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680800">
                    <a:off x="5713560" y="3915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2680800">
                    <a:off x="5678640" y="3881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680800">
                    <a:off x="5644080" y="38469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680800">
                    <a:off x="5609160" y="38120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2680800">
                    <a:off x="5574600" y="37778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680800">
                    <a:off x="5539680" y="37429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2680800">
                    <a:off x="5504760" y="3708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680800">
                    <a:off x="547020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680800">
                    <a:off x="5435280" y="36396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4724640" y="3637800"/>
                  <a:ext cx="363600" cy="366120"/>
                  <a:chOff x="4724640" y="3637800"/>
                  <a:chExt cx="363600" cy="3661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0">
                    <a:off x="4724640" y="3641760"/>
                    <a:ext cx="360360" cy="3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8080800">
                    <a:off x="4765320" y="3953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8080800">
                    <a:off x="4799880" y="391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8080800">
                    <a:off x="4834440" y="388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8080800">
                    <a:off x="4869000" y="3848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8080800">
                    <a:off x="4903560" y="3813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8080800">
                    <a:off x="4938120" y="3778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8080800">
                    <a:off x="4972680" y="3744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8080800">
                    <a:off x="5007240" y="3709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8080800">
                    <a:off x="504144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8080800">
                    <a:off x="5076000" y="3639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>
                <a:off x="5104800" y="3283200"/>
                <a:ext cx="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76120" y="2925000"/>
                <a:ext cx="310680" cy="364680"/>
              </a:xfrm>
              <a:custGeom>
                <a:avLst/>
                <a:gdLst/>
                <a:ahLst/>
                <a:rect l="l" t="t" r="r" b="b"/>
                <a:pathLst>
                  <a:path w="1108" h="1299">
                    <a:moveTo>
                      <a:pt x="1108" y="1299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828320" y="2925720"/>
                <a:ext cx="219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4884480" y="2927880"/>
                <a:ext cx="132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38840" y="2923560"/>
                <a:ext cx="41040" cy="258840"/>
              </a:xfrm>
              <a:custGeom>
                <a:avLst/>
                <a:gdLst/>
                <a:ahLst/>
                <a:rect l="l" t="t" r="r" b="b"/>
                <a:pathLst>
                  <a:path w="147" h="922">
                    <a:moveTo>
                      <a:pt x="147" y="92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45680" y="2925720"/>
                <a:ext cx="46800" cy="219600"/>
              </a:xfrm>
              <a:custGeom>
                <a:avLst/>
                <a:gdLst/>
                <a:ahLst/>
                <a:rect l="l" t="t" r="r" b="b"/>
                <a:pathLst>
                  <a:path w="168" h="783">
                    <a:moveTo>
                      <a:pt x="0" y="783"/>
                    </a:moveTo>
                    <a:lnTo>
                      <a:pt x="1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909680" y="292356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875840" y="2923560"/>
                <a:ext cx="22896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842360" y="2925720"/>
                <a:ext cx="31176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5640" y="2925720"/>
                <a:ext cx="399960" cy="82800"/>
              </a:xfrm>
              <a:custGeom>
                <a:avLst/>
                <a:gdLst/>
                <a:ahLst/>
                <a:rect l="l" t="t" r="r" b="b"/>
                <a:pathLst>
                  <a:path w="1426" h="296">
                    <a:moveTo>
                      <a:pt x="0" y="296"/>
                    </a:moveTo>
                    <a:lnTo>
                      <a:pt x="142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72160" y="2925720"/>
                <a:ext cx="494280" cy="48600"/>
              </a:xfrm>
              <a:custGeom>
                <a:avLst/>
                <a:gdLst/>
                <a:ahLst/>
                <a:rect l="l" t="t" r="r" b="b"/>
                <a:pathLst>
                  <a:path w="1762" h="173">
                    <a:moveTo>
                      <a:pt x="0" y="173"/>
                    </a:moveTo>
                    <a:lnTo>
                      <a:pt x="17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66440" y="2925720"/>
                <a:ext cx="486720" cy="4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15760" y="2928240"/>
                <a:ext cx="404280" cy="76680"/>
              </a:xfrm>
              <a:custGeom>
                <a:avLst/>
                <a:gdLst/>
                <a:ahLst/>
                <a:rect l="l" t="t" r="r" b="b"/>
                <a:pathLst>
                  <a:path w="1442" h="274">
                    <a:moveTo>
                      <a:pt x="0" y="0"/>
                    </a:moveTo>
                    <a:lnTo>
                      <a:pt x="1442" y="2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67600" y="2925720"/>
                <a:ext cx="316440" cy="11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23760" y="2925720"/>
                <a:ext cx="226800" cy="147240"/>
              </a:xfrm>
              <a:custGeom>
                <a:avLst/>
                <a:gdLst/>
                <a:ahLst/>
                <a:rect l="l" t="t" r="r" b="b"/>
                <a:pathLst>
                  <a:path w="809" h="525">
                    <a:moveTo>
                      <a:pt x="0" y="0"/>
                    </a:moveTo>
                    <a:lnTo>
                      <a:pt x="809" y="5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5240" y="2925720"/>
                <a:ext cx="140040" cy="181440"/>
              </a:xfrm>
              <a:custGeom>
                <a:avLst/>
                <a:gdLst/>
                <a:ahLst/>
                <a:rect l="l" t="t" r="r" b="b"/>
                <a:pathLst>
                  <a:path w="500" h="647">
                    <a:moveTo>
                      <a:pt x="0" y="0"/>
                    </a:moveTo>
                    <a:lnTo>
                      <a:pt x="500" y="6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31400" y="2925720"/>
                <a:ext cx="50400" cy="217800"/>
              </a:xfrm>
              <a:custGeom>
                <a:avLst/>
                <a:gdLst/>
                <a:ahLst/>
                <a:rect l="l" t="t" r="r" b="b"/>
                <a:pathLst>
                  <a:path w="180" h="776">
                    <a:moveTo>
                      <a:pt x="0" y="0"/>
                    </a:moveTo>
                    <a:lnTo>
                      <a:pt x="180" y="7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546520" y="2925720"/>
                <a:ext cx="3564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513400" y="2925720"/>
                <a:ext cx="123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79560" y="2925720"/>
                <a:ext cx="210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41400" y="2925720"/>
                <a:ext cx="306000" cy="359640"/>
              </a:xfrm>
              <a:custGeom>
                <a:avLst/>
                <a:gdLst/>
                <a:ahLst/>
                <a:rect l="l" t="t" r="r" b="b"/>
                <a:pathLst>
                  <a:path w="1091" h="1281">
                    <a:moveTo>
                      <a:pt x="1091" y="0"/>
                    </a:moveTo>
                    <a:lnTo>
                      <a:pt x="0" y="12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42120" y="2980800"/>
                <a:ext cx="358920" cy="303840"/>
              </a:xfrm>
              <a:custGeom>
                <a:avLst/>
                <a:gdLst/>
                <a:ahLst/>
                <a:rect l="l" t="t" r="r" b="b"/>
                <a:pathLst>
                  <a:path w="1280" h="1082">
                    <a:moveTo>
                      <a:pt x="0" y="1082"/>
                    </a:moveTo>
                    <a:lnTo>
                      <a:pt x="128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77400" y="3034440"/>
                <a:ext cx="323640" cy="214920"/>
              </a:xfrm>
              <a:custGeom>
                <a:avLst/>
                <a:gdLst/>
                <a:ahLst/>
                <a:rect l="l" t="t" r="r" b="b"/>
                <a:pathLst>
                  <a:path w="1154" h="766">
                    <a:moveTo>
                      <a:pt x="0" y="766"/>
                    </a:moveTo>
                    <a:lnTo>
                      <a:pt x="115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512680" y="3085920"/>
                <a:ext cx="287640" cy="12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544720" y="3141720"/>
                <a:ext cx="2574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81800" y="3144960"/>
                <a:ext cx="21852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16000" y="3108960"/>
                <a:ext cx="186120" cy="140400"/>
              </a:xfrm>
              <a:custGeom>
                <a:avLst/>
                <a:gdLst/>
                <a:ahLst/>
                <a:rect l="l" t="t" r="r" b="b"/>
                <a:pathLst>
                  <a:path w="664" h="500">
                    <a:moveTo>
                      <a:pt x="0" y="0"/>
                    </a:moveTo>
                    <a:lnTo>
                      <a:pt x="664" y="5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50920" y="3075480"/>
                <a:ext cx="149760" cy="229680"/>
              </a:xfrm>
              <a:custGeom>
                <a:avLst/>
                <a:gdLst/>
                <a:ahLst/>
                <a:rect l="l" t="t" r="r" b="b"/>
                <a:pathLst>
                  <a:path w="534" h="818">
                    <a:moveTo>
                      <a:pt x="0" y="0"/>
                    </a:moveTo>
                    <a:lnTo>
                      <a:pt x="534" y="8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85840" y="3038400"/>
                <a:ext cx="115200" cy="318240"/>
              </a:xfrm>
              <a:custGeom>
                <a:avLst/>
                <a:gdLst/>
                <a:ahLst/>
                <a:rect l="l" t="t" r="r" b="b"/>
                <a:pathLst>
                  <a:path w="412" h="1134">
                    <a:moveTo>
                      <a:pt x="0" y="0"/>
                    </a:moveTo>
                    <a:lnTo>
                      <a:pt x="412" y="1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20400" y="3005280"/>
                <a:ext cx="80280" cy="407520"/>
              </a:xfrm>
              <a:custGeom>
                <a:avLst/>
                <a:gdLst/>
                <a:ahLst/>
                <a:rect l="l" t="t" r="r" b="b"/>
                <a:pathLst>
                  <a:path w="286" h="1452">
                    <a:moveTo>
                      <a:pt x="0" y="0"/>
                    </a:moveTo>
                    <a:lnTo>
                      <a:pt x="286" y="14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5320" y="2967840"/>
                <a:ext cx="45360" cy="50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753520" y="3519000"/>
                <a:ext cx="46800" cy="43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17520" y="3573000"/>
                <a:ext cx="82800" cy="347400"/>
              </a:xfrm>
              <a:custGeom>
                <a:avLst/>
                <a:gdLst/>
                <a:ahLst/>
                <a:rect l="l" t="t" r="r" b="b"/>
                <a:pathLst>
                  <a:path w="296" h="1238">
                    <a:moveTo>
                      <a:pt x="296" y="0"/>
                    </a:moveTo>
                    <a:lnTo>
                      <a:pt x="0" y="12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684400" y="3627000"/>
                <a:ext cx="11592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649120" y="3681000"/>
                <a:ext cx="149760" cy="169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5615640" y="3735000"/>
                <a:ext cx="1850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580000" y="3782160"/>
                <a:ext cx="2203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544720" y="3748320"/>
                <a:ext cx="255600" cy="9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5511240" y="3714840"/>
                <a:ext cx="29088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72360" y="3677400"/>
                <a:ext cx="327600" cy="271800"/>
              </a:xfrm>
              <a:custGeom>
                <a:avLst/>
                <a:gdLst/>
                <a:ahLst/>
                <a:rect l="l" t="t" r="r" b="b"/>
                <a:pathLst>
                  <a:path w="1168" h="968">
                    <a:moveTo>
                      <a:pt x="1168" y="96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32400" y="3640320"/>
                <a:ext cx="316440" cy="36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475240" y="3681000"/>
                <a:ext cx="222120" cy="3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11240" y="3714840"/>
                <a:ext cx="127800" cy="29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544720" y="3746160"/>
                <a:ext cx="40320" cy="259200"/>
              </a:xfrm>
              <a:custGeom>
                <a:avLst/>
                <a:gdLst/>
                <a:ahLst/>
                <a:rect l="l" t="t" r="r" b="b"/>
                <a:pathLst>
                  <a:path w="144" h="923">
                    <a:moveTo>
                      <a:pt x="0" y="0"/>
                    </a:moveTo>
                    <a:lnTo>
                      <a:pt x="144" y="9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528880" y="3784320"/>
                <a:ext cx="49320" cy="21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75240" y="381564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23400" y="3849480"/>
                <a:ext cx="22644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5369760" y="3885480"/>
                <a:ext cx="31392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7560" y="3918960"/>
                <a:ext cx="402120" cy="84240"/>
              </a:xfrm>
              <a:custGeom>
                <a:avLst/>
                <a:gdLst/>
                <a:ahLst/>
                <a:rect l="l" t="t" r="r" b="b"/>
                <a:pathLst>
                  <a:path w="1434" h="301">
                    <a:moveTo>
                      <a:pt x="1434" y="0"/>
                    </a:moveTo>
                    <a:lnTo>
                      <a:pt x="0" y="30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59600" y="3955680"/>
                <a:ext cx="493560" cy="48600"/>
              </a:xfrm>
              <a:custGeom>
                <a:avLst/>
                <a:gdLst/>
                <a:ahLst/>
                <a:rect l="l" t="t" r="r" b="b"/>
                <a:pathLst>
                  <a:path w="1760" h="174">
                    <a:moveTo>
                      <a:pt x="1760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4767840" y="3957120"/>
                <a:ext cx="49356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04200" y="3921840"/>
                <a:ext cx="403920" cy="82440"/>
              </a:xfrm>
              <a:custGeom>
                <a:avLst/>
                <a:gdLst/>
                <a:ahLst/>
                <a:rect l="l" t="t" r="r" b="b"/>
                <a:pathLst>
                  <a:path w="1440" h="294">
                    <a:moveTo>
                      <a:pt x="1440" y="29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39840" y="3887280"/>
                <a:ext cx="311760" cy="117000"/>
              </a:xfrm>
              <a:custGeom>
                <a:avLst/>
                <a:gdLst/>
                <a:ahLst/>
                <a:rect l="l" t="t" r="r" b="b"/>
                <a:pathLst>
                  <a:path w="1112" h="417">
                    <a:moveTo>
                      <a:pt x="1112" y="417"/>
                    </a:moveTo>
                    <a:lnTo>
                      <a:pt x="7" y="0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2960" y="3852720"/>
                <a:ext cx="229320" cy="153720"/>
              </a:xfrm>
              <a:custGeom>
                <a:avLst/>
                <a:gdLst/>
                <a:ahLst/>
                <a:rect l="l" t="t" r="r" b="b"/>
                <a:pathLst>
                  <a:path w="818" h="548">
                    <a:moveTo>
                      <a:pt x="818" y="54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4907160" y="3822120"/>
                <a:ext cx="141120" cy="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2800" y="3782160"/>
                <a:ext cx="49680" cy="222120"/>
              </a:xfrm>
              <a:custGeom>
                <a:avLst/>
                <a:gdLst/>
                <a:ahLst/>
                <a:rect l="l" t="t" r="r" b="b"/>
                <a:pathLst>
                  <a:path w="177" h="792">
                    <a:moveTo>
                      <a:pt x="177" y="79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38840" y="3749040"/>
                <a:ext cx="39240" cy="257400"/>
              </a:xfrm>
              <a:custGeom>
                <a:avLst/>
                <a:gdLst/>
                <a:ahLst/>
                <a:rect l="l" t="t" r="r" b="b"/>
                <a:pathLst>
                  <a:path w="141" h="917">
                    <a:moveTo>
                      <a:pt x="0" y="917"/>
                    </a:moveTo>
                    <a:lnTo>
                      <a:pt x="14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85920" y="3712320"/>
                <a:ext cx="129240" cy="291240"/>
              </a:xfrm>
              <a:custGeom>
                <a:avLst/>
                <a:gdLst/>
                <a:ahLst/>
                <a:rect l="l" t="t" r="r" b="b"/>
                <a:pathLst>
                  <a:path w="461" h="1037">
                    <a:moveTo>
                      <a:pt x="0" y="1037"/>
                    </a:moveTo>
                    <a:lnTo>
                      <a:pt x="4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31200" y="3678840"/>
                <a:ext cx="217440" cy="324720"/>
              </a:xfrm>
              <a:custGeom>
                <a:avLst/>
                <a:gdLst/>
                <a:ahLst/>
                <a:rect l="l" t="t" r="r" b="b"/>
                <a:pathLst>
                  <a:path w="776" h="1157">
                    <a:moveTo>
                      <a:pt x="0" y="1157"/>
                    </a:moveTo>
                    <a:lnTo>
                      <a:pt x="77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777200" y="3642840"/>
                <a:ext cx="304920" cy="36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720680" y="3645000"/>
                <a:ext cx="358920" cy="30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721040" y="3681000"/>
                <a:ext cx="325440" cy="21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718880" y="3710160"/>
                <a:ext cx="293760" cy="13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720680" y="3748320"/>
                <a:ext cx="258120" cy="40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4723200" y="3734640"/>
                <a:ext cx="21744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4722840" y="3678480"/>
                <a:ext cx="186120" cy="14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4723200" y="3624840"/>
                <a:ext cx="15480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2480" y="3571560"/>
                <a:ext cx="115200" cy="313920"/>
              </a:xfrm>
              <a:custGeom>
                <a:avLst/>
                <a:gdLst/>
                <a:ahLst/>
                <a:rect l="l" t="t" r="r" b="b"/>
                <a:pathLst>
                  <a:path w="411" h="1118">
                    <a:moveTo>
                      <a:pt x="411" y="111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725720" y="3518640"/>
                <a:ext cx="82800" cy="40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4722840" y="3462480"/>
                <a:ext cx="49320" cy="49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723200" y="2973240"/>
                <a:ext cx="46800" cy="43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727880" y="3006360"/>
                <a:ext cx="78480" cy="35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20680" y="3044880"/>
                <a:ext cx="119160" cy="257400"/>
              </a:xfrm>
              <a:custGeom>
                <a:avLst/>
                <a:gdLst/>
                <a:ahLst/>
                <a:rect l="l" t="t" r="r" b="b"/>
                <a:pathLst>
                  <a:path w="425" h="917">
                    <a:moveTo>
                      <a:pt x="0" y="917"/>
                    </a:moveTo>
                    <a:lnTo>
                      <a:pt x="4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20680" y="3078720"/>
                <a:ext cx="152640" cy="16812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5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22480" y="3114720"/>
                <a:ext cx="189360" cy="79200"/>
              </a:xfrm>
              <a:custGeom>
                <a:avLst/>
                <a:gdLst/>
                <a:ahLst/>
                <a:rect l="l" t="t" r="r" b="b"/>
                <a:pathLst>
                  <a:path w="675" h="282">
                    <a:moveTo>
                      <a:pt x="0" y="282"/>
                    </a:moveTo>
                    <a:lnTo>
                      <a:pt x="6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21760" y="3141720"/>
                <a:ext cx="222840" cy="3960"/>
              </a:xfrm>
              <a:custGeom>
                <a:avLst/>
                <a:gdLst/>
                <a:ahLst/>
                <a:rect l="l" t="t" r="r" b="b"/>
                <a:pathLst>
                  <a:path w="795" h="15">
                    <a:moveTo>
                      <a:pt x="0" y="0"/>
                    </a:moveTo>
                    <a:lnTo>
                      <a:pt x="795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23200" y="3087720"/>
                <a:ext cx="260280" cy="9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21760" y="3033000"/>
                <a:ext cx="297720" cy="185040"/>
              </a:xfrm>
              <a:custGeom>
                <a:avLst/>
                <a:gdLst/>
                <a:ahLst/>
                <a:rect l="l" t="t" r="r" b="b"/>
                <a:pathLst>
                  <a:path w="1062" h="659">
                    <a:moveTo>
                      <a:pt x="0" y="0"/>
                    </a:moveTo>
                    <a:lnTo>
                      <a:pt x="1062" y="6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262560" y="3111480"/>
              <a:ext cx="1008360" cy="920880"/>
              <a:chOff x="6262560" y="3111480"/>
              <a:chExt cx="1008360" cy="9208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6262560" y="3111480"/>
                <a:ext cx="1008360" cy="920880"/>
                <a:chOff x="6262560" y="3111480"/>
                <a:chExt cx="1008360" cy="920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35880" y="31114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09160" y="33310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58640" y="3333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382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34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85360" y="35539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262560" y="37749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13120" y="37731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58640" y="37735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4240" y="3775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391080" y="3234960"/>
                <a:ext cx="759600" cy="699840"/>
                <a:chOff x="6391080" y="3234960"/>
                <a:chExt cx="759600" cy="6998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44160" y="3234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17440" y="345492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66920" y="345780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91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43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894000" y="36777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16000" y="3366720"/>
                <a:ext cx="506160" cy="479520"/>
                <a:chOff x="6516000" y="3366720"/>
                <a:chExt cx="506160" cy="4795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45240" y="3366720"/>
                  <a:ext cx="2574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16000" y="3586680"/>
                  <a:ext cx="25740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765480" y="3589560"/>
                  <a:ext cx="25668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6644160" y="3487680"/>
                <a:ext cx="257040" cy="257040"/>
              </a:xfrm>
              <a:prstGeom prst="ellipse">
                <a:avLst/>
              </a:prstGeom>
              <a:gradFill rotWithShape="0">
                <a:gsLst>
                  <a:gs pos="0">
                    <a:srgbClr val="eded59"/>
                  </a:gs>
                  <a:gs pos="100000">
                    <a:srgbClr val="9c9c3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768320" y="4043160"/>
              <a:ext cx="787680" cy="803520"/>
              <a:chOff x="1768320" y="4043160"/>
              <a:chExt cx="787680" cy="803520"/>
            </a:xfrm>
          </p:grpSpPr>
          <p:sp>
            <p:nvSpPr>
              <p:cNvPr id="341" name=""/>
              <p:cNvSpPr/>
              <p:nvPr/>
            </p:nvSpPr>
            <p:spPr>
              <a:xfrm>
                <a:off x="1768320" y="4043520"/>
                <a:ext cx="786240" cy="802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2162880" y="4446720"/>
                <a:ext cx="393120" cy="398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68680" y="4043520"/>
                <a:ext cx="590760" cy="605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59440" y="4242600"/>
                <a:ext cx="0" cy="40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768320" y="4043160"/>
                <a:ext cx="783720" cy="80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1640" y="4642920"/>
                <a:ext cx="200880" cy="203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2881440" y="3554280"/>
              <a:ext cx="1861920" cy="139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1557360" y="3127320"/>
              <a:ext cx="2886120" cy="718920"/>
              <a:chOff x="1557360" y="3127320"/>
              <a:chExt cx="2886120" cy="718920"/>
            </a:xfrm>
          </p:grpSpPr>
          <p:sp>
            <p:nvSpPr>
              <p:cNvPr id="349" name=""/>
              <p:cNvSpPr/>
              <p:nvPr/>
            </p:nvSpPr>
            <p:spPr>
              <a:xfrm>
                <a:off x="1566720" y="3127320"/>
                <a:ext cx="2860560" cy="715680"/>
              </a:xfrm>
              <a:custGeom>
                <a:avLst/>
                <a:gdLst/>
                <a:ahLst/>
                <a:rect l="l" t="t" r="r" b="b"/>
                <a:pathLst>
                  <a:path w="4788" h="1682">
                    <a:moveTo>
                      <a:pt x="0" y="7"/>
                    </a:moveTo>
                    <a:cubicBezTo>
                      <a:pt x="13" y="10"/>
                      <a:pt x="41" y="0"/>
                      <a:pt x="80" y="25"/>
                    </a:cubicBezTo>
                    <a:cubicBezTo>
                      <a:pt x="119" y="50"/>
                      <a:pt x="174" y="81"/>
                      <a:pt x="231" y="157"/>
                    </a:cubicBezTo>
                    <a:cubicBezTo>
                      <a:pt x="288" y="233"/>
                      <a:pt x="364" y="368"/>
                      <a:pt x="424" y="481"/>
                    </a:cubicBezTo>
                    <a:cubicBezTo>
                      <a:pt x="484" y="594"/>
                      <a:pt x="533" y="710"/>
                      <a:pt x="591" y="832"/>
                    </a:cubicBezTo>
                    <a:cubicBezTo>
                      <a:pt x="649" y="954"/>
                      <a:pt x="718" y="1109"/>
                      <a:pt x="774" y="1216"/>
                    </a:cubicBezTo>
                    <a:cubicBezTo>
                      <a:pt x="830" y="1323"/>
                      <a:pt x="879" y="1410"/>
                      <a:pt x="927" y="1477"/>
                    </a:cubicBezTo>
                    <a:cubicBezTo>
                      <a:pt x="975" y="1544"/>
                      <a:pt x="1021" y="1588"/>
                      <a:pt x="1065" y="1621"/>
                    </a:cubicBezTo>
                    <a:cubicBezTo>
                      <a:pt x="1109" y="1654"/>
                      <a:pt x="1156" y="1674"/>
                      <a:pt x="1194" y="1678"/>
                    </a:cubicBezTo>
                    <a:cubicBezTo>
                      <a:pt x="1232" y="1682"/>
                      <a:pt x="1258" y="1668"/>
                      <a:pt x="1293" y="1645"/>
                    </a:cubicBezTo>
                    <a:cubicBezTo>
                      <a:pt x="1328" y="1622"/>
                      <a:pt x="1363" y="1594"/>
                      <a:pt x="1407" y="1540"/>
                    </a:cubicBezTo>
                    <a:cubicBezTo>
                      <a:pt x="1451" y="1486"/>
                      <a:pt x="1513" y="1400"/>
                      <a:pt x="1560" y="1321"/>
                    </a:cubicBezTo>
                    <a:cubicBezTo>
                      <a:pt x="1607" y="1242"/>
                      <a:pt x="1649" y="1146"/>
                      <a:pt x="1688" y="1065"/>
                    </a:cubicBezTo>
                    <a:cubicBezTo>
                      <a:pt x="1727" y="984"/>
                      <a:pt x="1745" y="936"/>
                      <a:pt x="1794" y="832"/>
                    </a:cubicBezTo>
                    <a:cubicBezTo>
                      <a:pt x="1843" y="728"/>
                      <a:pt x="1922" y="552"/>
                      <a:pt x="1980" y="444"/>
                    </a:cubicBezTo>
                    <a:cubicBezTo>
                      <a:pt x="2038" y="336"/>
                      <a:pt x="2091" y="248"/>
                      <a:pt x="2142" y="181"/>
                    </a:cubicBezTo>
                    <a:cubicBezTo>
                      <a:pt x="2193" y="114"/>
                      <a:pt x="2248" y="69"/>
                      <a:pt x="2289" y="40"/>
                    </a:cubicBezTo>
                    <a:cubicBezTo>
                      <a:pt x="2330" y="11"/>
                      <a:pt x="2360" y="9"/>
                      <a:pt x="2391" y="7"/>
                    </a:cubicBezTo>
                    <a:cubicBezTo>
                      <a:pt x="2422" y="5"/>
                      <a:pt x="2441" y="10"/>
                      <a:pt x="2474" y="28"/>
                    </a:cubicBezTo>
                    <a:cubicBezTo>
                      <a:pt x="2507" y="46"/>
                      <a:pt x="2546" y="69"/>
                      <a:pt x="2589" y="115"/>
                    </a:cubicBezTo>
                    <a:cubicBezTo>
                      <a:pt x="2632" y="161"/>
                      <a:pt x="2688" y="236"/>
                      <a:pt x="2731" y="306"/>
                    </a:cubicBezTo>
                    <a:cubicBezTo>
                      <a:pt x="2774" y="376"/>
                      <a:pt x="2812" y="461"/>
                      <a:pt x="2850" y="535"/>
                    </a:cubicBezTo>
                    <a:cubicBezTo>
                      <a:pt x="2888" y="609"/>
                      <a:pt x="2934" y="702"/>
                      <a:pt x="2958" y="751"/>
                    </a:cubicBezTo>
                    <a:cubicBezTo>
                      <a:pt x="2982" y="800"/>
                      <a:pt x="2965" y="761"/>
                      <a:pt x="2997" y="829"/>
                    </a:cubicBezTo>
                    <a:cubicBezTo>
                      <a:pt x="3029" y="897"/>
                      <a:pt x="3091" y="1047"/>
                      <a:pt x="3147" y="1156"/>
                    </a:cubicBezTo>
                    <a:cubicBezTo>
                      <a:pt x="3203" y="1265"/>
                      <a:pt x="3274" y="1402"/>
                      <a:pt x="3334" y="1484"/>
                    </a:cubicBezTo>
                    <a:cubicBezTo>
                      <a:pt x="3394" y="1566"/>
                      <a:pt x="3462" y="1617"/>
                      <a:pt x="3506" y="1648"/>
                    </a:cubicBezTo>
                    <a:cubicBezTo>
                      <a:pt x="3550" y="1679"/>
                      <a:pt x="3564" y="1674"/>
                      <a:pt x="3600" y="1672"/>
                    </a:cubicBezTo>
                    <a:cubicBezTo>
                      <a:pt x="3636" y="1670"/>
                      <a:pt x="3679" y="1667"/>
                      <a:pt x="3723" y="1633"/>
                    </a:cubicBezTo>
                    <a:cubicBezTo>
                      <a:pt x="3767" y="1599"/>
                      <a:pt x="3817" y="1539"/>
                      <a:pt x="3865" y="1469"/>
                    </a:cubicBezTo>
                    <a:cubicBezTo>
                      <a:pt x="3913" y="1399"/>
                      <a:pt x="3966" y="1306"/>
                      <a:pt x="4014" y="1215"/>
                    </a:cubicBezTo>
                    <a:cubicBezTo>
                      <a:pt x="4062" y="1124"/>
                      <a:pt x="4125" y="987"/>
                      <a:pt x="4156" y="923"/>
                    </a:cubicBezTo>
                    <a:cubicBezTo>
                      <a:pt x="4187" y="859"/>
                      <a:pt x="4162" y="914"/>
                      <a:pt x="4201" y="833"/>
                    </a:cubicBezTo>
                    <a:cubicBezTo>
                      <a:pt x="4240" y="752"/>
                      <a:pt x="4332" y="546"/>
                      <a:pt x="4388" y="437"/>
                    </a:cubicBezTo>
                    <a:cubicBezTo>
                      <a:pt x="4444" y="328"/>
                      <a:pt x="4488" y="246"/>
                      <a:pt x="4536" y="181"/>
                    </a:cubicBezTo>
                    <a:cubicBezTo>
                      <a:pt x="4584" y="116"/>
                      <a:pt x="4632" y="76"/>
                      <a:pt x="4674" y="46"/>
                    </a:cubicBezTo>
                    <a:cubicBezTo>
                      <a:pt x="4716" y="16"/>
                      <a:pt x="4764" y="13"/>
                      <a:pt x="4788" y="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1570320" y="3127320"/>
                <a:ext cx="2855520" cy="718920"/>
                <a:chOff x="1570320" y="3127320"/>
                <a:chExt cx="2855520" cy="718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570320" y="312876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99520" y="312732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1570320" y="3127320"/>
                <a:ext cx="2864160" cy="713160"/>
              </a:xfrm>
              <a:custGeom>
                <a:avLst/>
                <a:gdLst/>
                <a:ahLst/>
                <a:rect l="l" t="t" r="r" b="b"/>
                <a:pathLst>
                  <a:path w="4796" h="1194">
                    <a:moveTo>
                      <a:pt x="0" y="1194"/>
                    </a:moveTo>
                    <a:cubicBezTo>
                      <a:pt x="43" y="1189"/>
                      <a:pt x="184" y="1183"/>
                      <a:pt x="265" y="1166"/>
                    </a:cubicBezTo>
                    <a:cubicBezTo>
                      <a:pt x="346" y="1149"/>
                      <a:pt x="402" y="1129"/>
                      <a:pt x="485" y="1091"/>
                    </a:cubicBezTo>
                    <a:cubicBezTo>
                      <a:pt x="571" y="1053"/>
                      <a:pt x="690" y="991"/>
                      <a:pt x="781" y="935"/>
                    </a:cubicBezTo>
                    <a:cubicBezTo>
                      <a:pt x="872" y="879"/>
                      <a:pt x="955" y="811"/>
                      <a:pt x="1030" y="753"/>
                    </a:cubicBezTo>
                    <a:cubicBezTo>
                      <a:pt x="1104" y="696"/>
                      <a:pt x="1139" y="662"/>
                      <a:pt x="1234" y="588"/>
                    </a:cubicBezTo>
                    <a:cubicBezTo>
                      <a:pt x="1329" y="514"/>
                      <a:pt x="1482" y="389"/>
                      <a:pt x="1596" y="312"/>
                    </a:cubicBezTo>
                    <a:cubicBezTo>
                      <a:pt x="1706" y="235"/>
                      <a:pt x="1809" y="172"/>
                      <a:pt x="1908" y="125"/>
                    </a:cubicBezTo>
                    <a:cubicBezTo>
                      <a:pt x="2007" y="77"/>
                      <a:pt x="2112" y="45"/>
                      <a:pt x="2192" y="24"/>
                    </a:cubicBezTo>
                    <a:cubicBezTo>
                      <a:pt x="2271" y="4"/>
                      <a:pt x="2329" y="2"/>
                      <a:pt x="2390" y="1"/>
                    </a:cubicBezTo>
                    <a:cubicBezTo>
                      <a:pt x="2450" y="0"/>
                      <a:pt x="2487" y="3"/>
                      <a:pt x="2550" y="16"/>
                    </a:cubicBezTo>
                    <a:cubicBezTo>
                      <a:pt x="2614" y="29"/>
                      <a:pt x="2690" y="45"/>
                      <a:pt x="2773" y="78"/>
                    </a:cubicBezTo>
                    <a:cubicBezTo>
                      <a:pt x="2857" y="110"/>
                      <a:pt x="2965" y="164"/>
                      <a:pt x="3047" y="214"/>
                    </a:cubicBezTo>
                    <a:cubicBezTo>
                      <a:pt x="3131" y="263"/>
                      <a:pt x="3203" y="324"/>
                      <a:pt x="3278" y="376"/>
                    </a:cubicBezTo>
                    <a:cubicBezTo>
                      <a:pt x="3353" y="429"/>
                      <a:pt x="3441" y="495"/>
                      <a:pt x="3487" y="530"/>
                    </a:cubicBezTo>
                    <a:cubicBezTo>
                      <a:pt x="3534" y="565"/>
                      <a:pt x="3500" y="537"/>
                      <a:pt x="3562" y="585"/>
                    </a:cubicBezTo>
                    <a:cubicBezTo>
                      <a:pt x="3625" y="634"/>
                      <a:pt x="3745" y="740"/>
                      <a:pt x="3853" y="818"/>
                    </a:cubicBezTo>
                    <a:cubicBezTo>
                      <a:pt x="3961" y="895"/>
                      <a:pt x="4098" y="993"/>
                      <a:pt x="4215" y="1051"/>
                    </a:cubicBezTo>
                    <a:cubicBezTo>
                      <a:pt x="4332" y="1110"/>
                      <a:pt x="4451" y="1146"/>
                      <a:pt x="4548" y="1168"/>
                    </a:cubicBezTo>
                    <a:cubicBezTo>
                      <a:pt x="4645" y="1190"/>
                      <a:pt x="4744" y="1182"/>
                      <a:pt x="4796" y="118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1565280" y="3127320"/>
                <a:ext cx="2863080" cy="714240"/>
                <a:chOff x="1565280" y="3127320"/>
                <a:chExt cx="2863080" cy="714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56528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2000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475080" y="3127320"/>
                  <a:ext cx="953280" cy="71280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1557360" y="3488040"/>
                <a:ext cx="28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613320" y="2543040"/>
              <a:ext cx="48960" cy="4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The image “file:///C:/windows/TEMP/IncrediMail/COL_M_S_RGB.jpg” cannot be displayed, because it contains errors."/>
            <p:cNvPicPr/>
            <p:nvPr/>
          </p:nvPicPr>
          <p:blipFill>
            <a:blip r:embed="rId16"/>
            <a:stretch/>
          </p:blipFill>
          <p:spPr>
            <a:xfrm>
              <a:off x="6373800" y="1222200"/>
              <a:ext cx="64764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6172200" y="1870200"/>
              <a:ext cx="1122480" cy="1120680"/>
              <a:chOff x="6172200" y="1870200"/>
              <a:chExt cx="1122480" cy="112068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6172200" y="1870200"/>
                <a:ext cx="1122480" cy="1120680"/>
                <a:chOff x="6172200" y="1870200"/>
                <a:chExt cx="1122480" cy="11206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172200" y="1870200"/>
                  <a:ext cx="1122480" cy="1120680"/>
                </a:xfrm>
                <a:custGeom>
                  <a:avLst/>
                  <a:gdLst/>
                  <a:ahLst/>
                  <a:rect l="l" t="t" r="r" b="b"/>
                  <a:pathLst>
                    <a:path w="17375" h="17375">
                      <a:moveTo>
                        <a:pt x="8688" y="17375"/>
                      </a:moveTo>
                      <a:lnTo>
                        <a:pt x="9134" y="17363"/>
                      </a:lnTo>
                      <a:lnTo>
                        <a:pt x="9577" y="17329"/>
                      </a:lnTo>
                      <a:lnTo>
                        <a:pt x="10010" y="17275"/>
                      </a:lnTo>
                      <a:lnTo>
                        <a:pt x="10439" y="17198"/>
                      </a:lnTo>
                      <a:lnTo>
                        <a:pt x="10858" y="17101"/>
                      </a:lnTo>
                      <a:lnTo>
                        <a:pt x="11271" y="16983"/>
                      </a:lnTo>
                      <a:lnTo>
                        <a:pt x="11675" y="16847"/>
                      </a:lnTo>
                      <a:lnTo>
                        <a:pt x="12070" y="16691"/>
                      </a:lnTo>
                      <a:lnTo>
                        <a:pt x="12455" y="16517"/>
                      </a:lnTo>
                      <a:lnTo>
                        <a:pt x="12829" y="16325"/>
                      </a:lnTo>
                      <a:lnTo>
                        <a:pt x="13192" y="16117"/>
                      </a:lnTo>
                      <a:lnTo>
                        <a:pt x="13546" y="15891"/>
                      </a:lnTo>
                      <a:lnTo>
                        <a:pt x="13886" y="15648"/>
                      </a:lnTo>
                      <a:lnTo>
                        <a:pt x="14214" y="15391"/>
                      </a:lnTo>
                      <a:lnTo>
                        <a:pt x="14529" y="15117"/>
                      </a:lnTo>
                      <a:lnTo>
                        <a:pt x="14831" y="14830"/>
                      </a:lnTo>
                      <a:lnTo>
                        <a:pt x="15119" y="14528"/>
                      </a:lnTo>
                      <a:lnTo>
                        <a:pt x="15392" y="14212"/>
                      </a:lnTo>
                      <a:lnTo>
                        <a:pt x="15650" y="13885"/>
                      </a:lnTo>
                      <a:lnTo>
                        <a:pt x="15892" y="13545"/>
                      </a:lnTo>
                      <a:lnTo>
                        <a:pt x="16118" y="13191"/>
                      </a:lnTo>
                      <a:lnTo>
                        <a:pt x="16327" y="12827"/>
                      </a:lnTo>
                      <a:lnTo>
                        <a:pt x="16519" y="12453"/>
                      </a:lnTo>
                      <a:lnTo>
                        <a:pt x="16693" y="12069"/>
                      </a:lnTo>
                      <a:lnTo>
                        <a:pt x="16849" y="11674"/>
                      </a:lnTo>
                      <a:lnTo>
                        <a:pt x="16985" y="11271"/>
                      </a:lnTo>
                      <a:lnTo>
                        <a:pt x="17103" y="10858"/>
                      </a:lnTo>
                      <a:lnTo>
                        <a:pt x="17200" y="10437"/>
                      </a:lnTo>
                      <a:lnTo>
                        <a:pt x="17275" y="10009"/>
                      </a:lnTo>
                      <a:lnTo>
                        <a:pt x="17330" y="9574"/>
                      </a:lnTo>
                      <a:lnTo>
                        <a:pt x="17365" y="9134"/>
                      </a:lnTo>
                      <a:lnTo>
                        <a:pt x="17375" y="8687"/>
                      </a:lnTo>
                      <a:lnTo>
                        <a:pt x="17365" y="8240"/>
                      </a:lnTo>
                      <a:lnTo>
                        <a:pt x="17330" y="7798"/>
                      </a:lnTo>
                      <a:lnTo>
                        <a:pt x="17275" y="7364"/>
                      </a:lnTo>
                      <a:lnTo>
                        <a:pt x="17200" y="6936"/>
                      </a:lnTo>
                      <a:lnTo>
                        <a:pt x="17103" y="6515"/>
                      </a:lnTo>
                      <a:lnTo>
                        <a:pt x="16985" y="6104"/>
                      </a:lnTo>
                      <a:lnTo>
                        <a:pt x="16849" y="5699"/>
                      </a:lnTo>
                      <a:lnTo>
                        <a:pt x="16693" y="5306"/>
                      </a:lnTo>
                      <a:lnTo>
                        <a:pt x="16519" y="4920"/>
                      </a:lnTo>
                      <a:lnTo>
                        <a:pt x="16327" y="4546"/>
                      </a:lnTo>
                      <a:lnTo>
                        <a:pt x="16118" y="4182"/>
                      </a:lnTo>
                      <a:lnTo>
                        <a:pt x="15892" y="3830"/>
                      </a:lnTo>
                      <a:lnTo>
                        <a:pt x="15650" y="3489"/>
                      </a:lnTo>
                      <a:lnTo>
                        <a:pt x="15392" y="3161"/>
                      </a:lnTo>
                      <a:lnTo>
                        <a:pt x="15119" y="2846"/>
                      </a:lnTo>
                      <a:lnTo>
                        <a:pt x="14831" y="2545"/>
                      </a:lnTo>
                      <a:lnTo>
                        <a:pt x="14529" y="2256"/>
                      </a:lnTo>
                      <a:lnTo>
                        <a:pt x="14214" y="1984"/>
                      </a:lnTo>
                      <a:lnTo>
                        <a:pt x="13886" y="1726"/>
                      </a:lnTo>
                      <a:lnTo>
                        <a:pt x="13546" y="1484"/>
                      </a:lnTo>
                      <a:lnTo>
                        <a:pt x="13192" y="1258"/>
                      </a:lnTo>
                      <a:lnTo>
                        <a:pt x="12829" y="1048"/>
                      </a:lnTo>
                      <a:lnTo>
                        <a:pt x="12455" y="856"/>
                      </a:lnTo>
                      <a:lnTo>
                        <a:pt x="12070" y="682"/>
                      </a:lnTo>
                      <a:lnTo>
                        <a:pt x="11675" y="528"/>
                      </a:lnTo>
                      <a:lnTo>
                        <a:pt x="11271" y="390"/>
                      </a:lnTo>
                      <a:lnTo>
                        <a:pt x="10858" y="272"/>
                      </a:lnTo>
                      <a:lnTo>
                        <a:pt x="10439" y="176"/>
                      </a:lnTo>
                      <a:lnTo>
                        <a:pt x="10010" y="100"/>
                      </a:lnTo>
                      <a:lnTo>
                        <a:pt x="9577" y="45"/>
                      </a:lnTo>
                      <a:lnTo>
                        <a:pt x="9134" y="12"/>
                      </a:lnTo>
                      <a:lnTo>
                        <a:pt x="8688" y="0"/>
                      </a:lnTo>
                      <a:lnTo>
                        <a:pt x="8241" y="12"/>
                      </a:lnTo>
                      <a:lnTo>
                        <a:pt x="7799" y="45"/>
                      </a:lnTo>
                      <a:lnTo>
                        <a:pt x="7366" y="100"/>
                      </a:lnTo>
                      <a:lnTo>
                        <a:pt x="6936" y="176"/>
                      </a:lnTo>
                      <a:lnTo>
                        <a:pt x="6517" y="272"/>
                      </a:lnTo>
                      <a:lnTo>
                        <a:pt x="6104" y="390"/>
                      </a:lnTo>
                      <a:lnTo>
                        <a:pt x="5701" y="528"/>
                      </a:lnTo>
                      <a:lnTo>
                        <a:pt x="5306" y="682"/>
                      </a:lnTo>
                      <a:lnTo>
                        <a:pt x="4922" y="856"/>
                      </a:lnTo>
                      <a:lnTo>
                        <a:pt x="4547" y="1048"/>
                      </a:lnTo>
                      <a:lnTo>
                        <a:pt x="4184" y="1258"/>
                      </a:lnTo>
                      <a:lnTo>
                        <a:pt x="3830" y="1484"/>
                      </a:lnTo>
                      <a:lnTo>
                        <a:pt x="3490" y="1726"/>
                      </a:lnTo>
                      <a:lnTo>
                        <a:pt x="3161" y="1984"/>
                      </a:lnTo>
                      <a:lnTo>
                        <a:pt x="2847" y="2256"/>
                      </a:lnTo>
                      <a:lnTo>
                        <a:pt x="2544" y="2545"/>
                      </a:lnTo>
                      <a:lnTo>
                        <a:pt x="2257" y="2846"/>
                      </a:lnTo>
                      <a:lnTo>
                        <a:pt x="1983" y="3161"/>
                      </a:lnTo>
                      <a:lnTo>
                        <a:pt x="1726" y="3489"/>
                      </a:lnTo>
                      <a:lnTo>
                        <a:pt x="1484" y="3830"/>
                      </a:lnTo>
                      <a:lnTo>
                        <a:pt x="1257" y="4182"/>
                      </a:lnTo>
                      <a:lnTo>
                        <a:pt x="1048" y="4546"/>
                      </a:lnTo>
                      <a:lnTo>
                        <a:pt x="856" y="4920"/>
                      </a:lnTo>
                      <a:lnTo>
                        <a:pt x="682" y="5306"/>
                      </a:lnTo>
                      <a:lnTo>
                        <a:pt x="527" y="5699"/>
                      </a:lnTo>
                      <a:lnTo>
                        <a:pt x="390" y="6104"/>
                      </a:lnTo>
                      <a:lnTo>
                        <a:pt x="274" y="6515"/>
                      </a:lnTo>
                      <a:lnTo>
                        <a:pt x="176" y="6936"/>
                      </a:lnTo>
                      <a:lnTo>
                        <a:pt x="100" y="7364"/>
                      </a:lnTo>
                      <a:lnTo>
                        <a:pt x="45" y="7798"/>
                      </a:lnTo>
                      <a:lnTo>
                        <a:pt x="11" y="8240"/>
                      </a:lnTo>
                      <a:lnTo>
                        <a:pt x="0" y="8687"/>
                      </a:lnTo>
                      <a:lnTo>
                        <a:pt x="11" y="9134"/>
                      </a:lnTo>
                      <a:lnTo>
                        <a:pt x="45" y="9574"/>
                      </a:lnTo>
                      <a:lnTo>
                        <a:pt x="100" y="10009"/>
                      </a:lnTo>
                      <a:lnTo>
                        <a:pt x="176" y="10437"/>
                      </a:lnTo>
                      <a:lnTo>
                        <a:pt x="274" y="10858"/>
                      </a:lnTo>
                      <a:lnTo>
                        <a:pt x="390" y="11271"/>
                      </a:lnTo>
                      <a:lnTo>
                        <a:pt x="527" y="11674"/>
                      </a:lnTo>
                      <a:lnTo>
                        <a:pt x="682" y="12069"/>
                      </a:lnTo>
                      <a:lnTo>
                        <a:pt x="856" y="12453"/>
                      </a:lnTo>
                      <a:lnTo>
                        <a:pt x="1048" y="12827"/>
                      </a:lnTo>
                      <a:lnTo>
                        <a:pt x="1257" y="13191"/>
                      </a:lnTo>
                      <a:lnTo>
                        <a:pt x="1484" y="13545"/>
                      </a:lnTo>
                      <a:lnTo>
                        <a:pt x="1726" y="13885"/>
                      </a:lnTo>
                      <a:lnTo>
                        <a:pt x="1983" y="14212"/>
                      </a:lnTo>
                      <a:lnTo>
                        <a:pt x="2257" y="14528"/>
                      </a:lnTo>
                      <a:lnTo>
                        <a:pt x="2544" y="14830"/>
                      </a:lnTo>
                      <a:lnTo>
                        <a:pt x="2847" y="15117"/>
                      </a:lnTo>
                      <a:lnTo>
                        <a:pt x="3161" y="15391"/>
                      </a:lnTo>
                      <a:lnTo>
                        <a:pt x="3490" y="15648"/>
                      </a:lnTo>
                      <a:lnTo>
                        <a:pt x="3830" y="15891"/>
                      </a:lnTo>
                      <a:lnTo>
                        <a:pt x="4184" y="16117"/>
                      </a:lnTo>
                      <a:lnTo>
                        <a:pt x="4547" y="16325"/>
                      </a:lnTo>
                      <a:lnTo>
                        <a:pt x="4922" y="16517"/>
                      </a:lnTo>
                      <a:lnTo>
                        <a:pt x="5306" y="16691"/>
                      </a:lnTo>
                      <a:lnTo>
                        <a:pt x="5701" y="16847"/>
                      </a:lnTo>
                      <a:lnTo>
                        <a:pt x="6104" y="16983"/>
                      </a:lnTo>
                      <a:lnTo>
                        <a:pt x="6517" y="17101"/>
                      </a:lnTo>
                      <a:lnTo>
                        <a:pt x="6936" y="17198"/>
                      </a:lnTo>
                      <a:lnTo>
                        <a:pt x="7366" y="17275"/>
                      </a:lnTo>
                      <a:lnTo>
                        <a:pt x="7799" y="17329"/>
                      </a:lnTo>
                      <a:lnTo>
                        <a:pt x="8241" y="17363"/>
                      </a:lnTo>
                      <a:lnTo>
                        <a:pt x="8688" y="1737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cc"/>
                    </a:gs>
                    <a:gs pos="100000">
                      <a:srgbClr val="0000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38800" y="1926000"/>
                  <a:ext cx="992520" cy="990360"/>
                </a:xfrm>
                <a:custGeom>
                  <a:avLst/>
                  <a:gdLst/>
                  <a:ahLst/>
                  <a:rect l="l" t="t" r="r" b="b"/>
                  <a:pathLst>
                    <a:path w="15359" h="15357">
                      <a:moveTo>
                        <a:pt x="7680" y="15357"/>
                      </a:moveTo>
                      <a:lnTo>
                        <a:pt x="8075" y="15345"/>
                      </a:lnTo>
                      <a:lnTo>
                        <a:pt x="8466" y="15317"/>
                      </a:lnTo>
                      <a:lnTo>
                        <a:pt x="8850" y="15268"/>
                      </a:lnTo>
                      <a:lnTo>
                        <a:pt x="9226" y="15200"/>
                      </a:lnTo>
                      <a:lnTo>
                        <a:pt x="9600" y="15115"/>
                      </a:lnTo>
                      <a:lnTo>
                        <a:pt x="9964" y="15011"/>
                      </a:lnTo>
                      <a:lnTo>
                        <a:pt x="10320" y="14891"/>
                      </a:lnTo>
                      <a:lnTo>
                        <a:pt x="10669" y="14752"/>
                      </a:lnTo>
                      <a:lnTo>
                        <a:pt x="11009" y="14599"/>
                      </a:lnTo>
                      <a:lnTo>
                        <a:pt x="11339" y="14430"/>
                      </a:lnTo>
                      <a:lnTo>
                        <a:pt x="11663" y="14244"/>
                      </a:lnTo>
                      <a:lnTo>
                        <a:pt x="11973" y="14044"/>
                      </a:lnTo>
                      <a:lnTo>
                        <a:pt x="12275" y="13831"/>
                      </a:lnTo>
                      <a:lnTo>
                        <a:pt x="12566" y="13603"/>
                      </a:lnTo>
                      <a:lnTo>
                        <a:pt x="12843" y="13362"/>
                      </a:lnTo>
                      <a:lnTo>
                        <a:pt x="13110" y="13107"/>
                      </a:lnTo>
                      <a:lnTo>
                        <a:pt x="13364" y="12841"/>
                      </a:lnTo>
                      <a:lnTo>
                        <a:pt x="13606" y="12562"/>
                      </a:lnTo>
                      <a:lnTo>
                        <a:pt x="13833" y="12272"/>
                      </a:lnTo>
                      <a:lnTo>
                        <a:pt x="14048" y="11971"/>
                      </a:lnTo>
                      <a:lnTo>
                        <a:pt x="14248" y="11659"/>
                      </a:lnTo>
                      <a:lnTo>
                        <a:pt x="14433" y="11339"/>
                      </a:lnTo>
                      <a:lnTo>
                        <a:pt x="14603" y="11006"/>
                      </a:lnTo>
                      <a:lnTo>
                        <a:pt x="14756" y="10666"/>
                      </a:lnTo>
                      <a:lnTo>
                        <a:pt x="14892" y="10318"/>
                      </a:lnTo>
                      <a:lnTo>
                        <a:pt x="15013" y="9961"/>
                      </a:lnTo>
                      <a:lnTo>
                        <a:pt x="15117" y="9597"/>
                      </a:lnTo>
                      <a:lnTo>
                        <a:pt x="15204" y="9226"/>
                      </a:lnTo>
                      <a:lnTo>
                        <a:pt x="15270" y="8846"/>
                      </a:lnTo>
                      <a:lnTo>
                        <a:pt x="15320" y="8462"/>
                      </a:lnTo>
                      <a:lnTo>
                        <a:pt x="15349" y="8072"/>
                      </a:lnTo>
                      <a:lnTo>
                        <a:pt x="15359" y="7677"/>
                      </a:lnTo>
                      <a:lnTo>
                        <a:pt x="15349" y="7282"/>
                      </a:lnTo>
                      <a:lnTo>
                        <a:pt x="15320" y="6892"/>
                      </a:lnTo>
                      <a:lnTo>
                        <a:pt x="15270" y="6508"/>
                      </a:lnTo>
                      <a:lnTo>
                        <a:pt x="15204" y="6131"/>
                      </a:lnTo>
                      <a:lnTo>
                        <a:pt x="15117" y="5758"/>
                      </a:lnTo>
                      <a:lnTo>
                        <a:pt x="15013" y="5394"/>
                      </a:lnTo>
                      <a:lnTo>
                        <a:pt x="14892" y="5038"/>
                      </a:lnTo>
                      <a:lnTo>
                        <a:pt x="14756" y="4689"/>
                      </a:lnTo>
                      <a:lnTo>
                        <a:pt x="14603" y="4349"/>
                      </a:lnTo>
                      <a:lnTo>
                        <a:pt x="14433" y="4019"/>
                      </a:lnTo>
                      <a:lnTo>
                        <a:pt x="14248" y="3696"/>
                      </a:lnTo>
                      <a:lnTo>
                        <a:pt x="14048" y="3385"/>
                      </a:lnTo>
                      <a:lnTo>
                        <a:pt x="13833" y="3083"/>
                      </a:lnTo>
                      <a:lnTo>
                        <a:pt x="13606" y="2793"/>
                      </a:lnTo>
                      <a:lnTo>
                        <a:pt x="13364" y="2515"/>
                      </a:lnTo>
                      <a:lnTo>
                        <a:pt x="13110" y="2248"/>
                      </a:lnTo>
                      <a:lnTo>
                        <a:pt x="12843" y="1995"/>
                      </a:lnTo>
                      <a:lnTo>
                        <a:pt x="12566" y="1753"/>
                      </a:lnTo>
                      <a:lnTo>
                        <a:pt x="12275" y="1525"/>
                      </a:lnTo>
                      <a:lnTo>
                        <a:pt x="11973" y="1311"/>
                      </a:lnTo>
                      <a:lnTo>
                        <a:pt x="11663" y="1110"/>
                      </a:lnTo>
                      <a:lnTo>
                        <a:pt x="11339" y="926"/>
                      </a:lnTo>
                      <a:lnTo>
                        <a:pt x="11009" y="756"/>
                      </a:lnTo>
                      <a:lnTo>
                        <a:pt x="10669" y="603"/>
                      </a:lnTo>
                      <a:lnTo>
                        <a:pt x="10320" y="466"/>
                      </a:lnTo>
                      <a:lnTo>
                        <a:pt x="9964" y="345"/>
                      </a:lnTo>
                      <a:lnTo>
                        <a:pt x="9600" y="242"/>
                      </a:lnTo>
                      <a:lnTo>
                        <a:pt x="9226" y="154"/>
                      </a:lnTo>
                      <a:lnTo>
                        <a:pt x="8850" y="88"/>
                      </a:lnTo>
                      <a:lnTo>
                        <a:pt x="8466" y="38"/>
                      </a:lnTo>
                      <a:lnTo>
                        <a:pt x="8075" y="9"/>
                      </a:lnTo>
                      <a:lnTo>
                        <a:pt x="7680" y="0"/>
                      </a:lnTo>
                      <a:lnTo>
                        <a:pt x="7286" y="9"/>
                      </a:lnTo>
                      <a:lnTo>
                        <a:pt x="6895" y="38"/>
                      </a:lnTo>
                      <a:lnTo>
                        <a:pt x="6511" y="88"/>
                      </a:lnTo>
                      <a:lnTo>
                        <a:pt x="6132" y="154"/>
                      </a:lnTo>
                      <a:lnTo>
                        <a:pt x="5761" y="242"/>
                      </a:lnTo>
                      <a:lnTo>
                        <a:pt x="5397" y="345"/>
                      </a:lnTo>
                      <a:lnTo>
                        <a:pt x="5040" y="466"/>
                      </a:lnTo>
                      <a:lnTo>
                        <a:pt x="4690" y="603"/>
                      </a:lnTo>
                      <a:lnTo>
                        <a:pt x="4350" y="756"/>
                      </a:lnTo>
                      <a:lnTo>
                        <a:pt x="4019" y="926"/>
                      </a:lnTo>
                      <a:lnTo>
                        <a:pt x="3698" y="1110"/>
                      </a:lnTo>
                      <a:lnTo>
                        <a:pt x="3387" y="1311"/>
                      </a:lnTo>
                      <a:lnTo>
                        <a:pt x="3086" y="1525"/>
                      </a:lnTo>
                      <a:lnTo>
                        <a:pt x="2795" y="1753"/>
                      </a:lnTo>
                      <a:lnTo>
                        <a:pt x="2517" y="1995"/>
                      </a:lnTo>
                      <a:lnTo>
                        <a:pt x="2251" y="2248"/>
                      </a:lnTo>
                      <a:lnTo>
                        <a:pt x="1995" y="2515"/>
                      </a:lnTo>
                      <a:lnTo>
                        <a:pt x="1755" y="2793"/>
                      </a:lnTo>
                      <a:lnTo>
                        <a:pt x="1526" y="3083"/>
                      </a:lnTo>
                      <a:lnTo>
                        <a:pt x="1312" y="3385"/>
                      </a:lnTo>
                      <a:lnTo>
                        <a:pt x="1113" y="3696"/>
                      </a:lnTo>
                      <a:lnTo>
                        <a:pt x="928" y="4019"/>
                      </a:lnTo>
                      <a:lnTo>
                        <a:pt x="758" y="4349"/>
                      </a:lnTo>
                      <a:lnTo>
                        <a:pt x="604" y="4689"/>
                      </a:lnTo>
                      <a:lnTo>
                        <a:pt x="466" y="5038"/>
                      </a:lnTo>
                      <a:lnTo>
                        <a:pt x="345" y="5394"/>
                      </a:lnTo>
                      <a:lnTo>
                        <a:pt x="242" y="5758"/>
                      </a:lnTo>
                      <a:lnTo>
                        <a:pt x="156" y="6131"/>
                      </a:lnTo>
                      <a:lnTo>
                        <a:pt x="89" y="6508"/>
                      </a:lnTo>
                      <a:lnTo>
                        <a:pt x="41" y="6892"/>
                      </a:lnTo>
                      <a:lnTo>
                        <a:pt x="10" y="7282"/>
                      </a:lnTo>
                      <a:lnTo>
                        <a:pt x="0" y="7677"/>
                      </a:lnTo>
                      <a:lnTo>
                        <a:pt x="10" y="8072"/>
                      </a:lnTo>
                      <a:lnTo>
                        <a:pt x="41" y="8462"/>
                      </a:lnTo>
                      <a:lnTo>
                        <a:pt x="89" y="8846"/>
                      </a:lnTo>
                      <a:lnTo>
                        <a:pt x="156" y="9226"/>
                      </a:lnTo>
                      <a:lnTo>
                        <a:pt x="242" y="9597"/>
                      </a:lnTo>
                      <a:lnTo>
                        <a:pt x="345" y="9961"/>
                      </a:lnTo>
                      <a:lnTo>
                        <a:pt x="466" y="10318"/>
                      </a:lnTo>
                      <a:lnTo>
                        <a:pt x="604" y="10666"/>
                      </a:lnTo>
                      <a:lnTo>
                        <a:pt x="758" y="11006"/>
                      </a:lnTo>
                      <a:lnTo>
                        <a:pt x="928" y="11339"/>
                      </a:lnTo>
                      <a:lnTo>
                        <a:pt x="1113" y="11659"/>
                      </a:lnTo>
                      <a:lnTo>
                        <a:pt x="1312" y="11971"/>
                      </a:lnTo>
                      <a:lnTo>
                        <a:pt x="1526" y="12272"/>
                      </a:lnTo>
                      <a:lnTo>
                        <a:pt x="1755" y="12562"/>
                      </a:lnTo>
                      <a:lnTo>
                        <a:pt x="1995" y="12841"/>
                      </a:lnTo>
                      <a:lnTo>
                        <a:pt x="2251" y="13107"/>
                      </a:lnTo>
                      <a:lnTo>
                        <a:pt x="2517" y="13362"/>
                      </a:lnTo>
                      <a:lnTo>
                        <a:pt x="2795" y="13603"/>
                      </a:lnTo>
                      <a:lnTo>
                        <a:pt x="3086" y="13831"/>
                      </a:lnTo>
                      <a:lnTo>
                        <a:pt x="3387" y="14044"/>
                      </a:lnTo>
                      <a:lnTo>
                        <a:pt x="3698" y="14244"/>
                      </a:lnTo>
                      <a:lnTo>
                        <a:pt x="4019" y="14430"/>
                      </a:lnTo>
                      <a:lnTo>
                        <a:pt x="4350" y="14599"/>
                      </a:lnTo>
                      <a:lnTo>
                        <a:pt x="4690" y="14752"/>
                      </a:lnTo>
                      <a:lnTo>
                        <a:pt x="5040" y="14891"/>
                      </a:lnTo>
                      <a:lnTo>
                        <a:pt x="5397" y="15011"/>
                      </a:lnTo>
                      <a:lnTo>
                        <a:pt x="5761" y="15115"/>
                      </a:lnTo>
                      <a:lnTo>
                        <a:pt x="6132" y="15200"/>
                      </a:lnTo>
                      <a:lnTo>
                        <a:pt x="6511" y="15268"/>
                      </a:lnTo>
                      <a:lnTo>
                        <a:pt x="6895" y="15317"/>
                      </a:lnTo>
                      <a:lnTo>
                        <a:pt x="7286" y="15345"/>
                      </a:lnTo>
                      <a:lnTo>
                        <a:pt x="7680" y="153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719760" y="1991160"/>
                  <a:ext cx="89280" cy="141120"/>
                </a:xfrm>
                <a:custGeom>
                  <a:avLst/>
                  <a:gdLst/>
                  <a:ahLst/>
                  <a:rect l="l" t="t" r="r" b="b"/>
                  <a:pathLst>
                    <a:path w="1384" h="2192">
                      <a:moveTo>
                        <a:pt x="1255" y="318"/>
                      </a:moveTo>
                      <a:lnTo>
                        <a:pt x="1272" y="340"/>
                      </a:lnTo>
                      <a:lnTo>
                        <a:pt x="1289" y="365"/>
                      </a:lnTo>
                      <a:lnTo>
                        <a:pt x="1302" y="390"/>
                      </a:lnTo>
                      <a:lnTo>
                        <a:pt x="1313" y="416"/>
                      </a:lnTo>
                      <a:lnTo>
                        <a:pt x="1325" y="444"/>
                      </a:lnTo>
                      <a:lnTo>
                        <a:pt x="1332" y="472"/>
                      </a:lnTo>
                      <a:lnTo>
                        <a:pt x="1339" y="499"/>
                      </a:lnTo>
                      <a:lnTo>
                        <a:pt x="1345" y="528"/>
                      </a:lnTo>
                      <a:lnTo>
                        <a:pt x="1349" y="557"/>
                      </a:lnTo>
                      <a:lnTo>
                        <a:pt x="1350" y="585"/>
                      </a:lnTo>
                      <a:lnTo>
                        <a:pt x="1352" y="617"/>
                      </a:lnTo>
                      <a:lnTo>
                        <a:pt x="1352" y="646"/>
                      </a:lnTo>
                      <a:lnTo>
                        <a:pt x="1349" y="676"/>
                      </a:lnTo>
                      <a:lnTo>
                        <a:pt x="1345" y="705"/>
                      </a:lnTo>
                      <a:lnTo>
                        <a:pt x="1340" y="735"/>
                      </a:lnTo>
                      <a:lnTo>
                        <a:pt x="1334" y="764"/>
                      </a:lnTo>
                      <a:lnTo>
                        <a:pt x="1311" y="815"/>
                      </a:lnTo>
                      <a:lnTo>
                        <a:pt x="1284" y="862"/>
                      </a:lnTo>
                      <a:lnTo>
                        <a:pt x="1254" y="906"/>
                      </a:lnTo>
                      <a:lnTo>
                        <a:pt x="1219" y="945"/>
                      </a:lnTo>
                      <a:lnTo>
                        <a:pt x="1183" y="981"/>
                      </a:lnTo>
                      <a:lnTo>
                        <a:pt x="1143" y="1015"/>
                      </a:lnTo>
                      <a:lnTo>
                        <a:pt x="1104" y="1047"/>
                      </a:lnTo>
                      <a:lnTo>
                        <a:pt x="1060" y="1077"/>
                      </a:lnTo>
                      <a:lnTo>
                        <a:pt x="1016" y="1104"/>
                      </a:lnTo>
                      <a:lnTo>
                        <a:pt x="969" y="1128"/>
                      </a:lnTo>
                      <a:lnTo>
                        <a:pt x="923" y="1152"/>
                      </a:lnTo>
                      <a:lnTo>
                        <a:pt x="874" y="1175"/>
                      </a:lnTo>
                      <a:lnTo>
                        <a:pt x="777" y="1219"/>
                      </a:lnTo>
                      <a:lnTo>
                        <a:pt x="681" y="1261"/>
                      </a:lnTo>
                      <a:lnTo>
                        <a:pt x="634" y="1284"/>
                      </a:lnTo>
                      <a:lnTo>
                        <a:pt x="587" y="1305"/>
                      </a:lnTo>
                      <a:lnTo>
                        <a:pt x="540" y="1329"/>
                      </a:lnTo>
                      <a:lnTo>
                        <a:pt x="497" y="1354"/>
                      </a:lnTo>
                      <a:lnTo>
                        <a:pt x="454" y="1379"/>
                      </a:lnTo>
                      <a:lnTo>
                        <a:pt x="413" y="1407"/>
                      </a:lnTo>
                      <a:lnTo>
                        <a:pt x="375" y="1437"/>
                      </a:lnTo>
                      <a:lnTo>
                        <a:pt x="339" y="1470"/>
                      </a:lnTo>
                      <a:lnTo>
                        <a:pt x="305" y="1503"/>
                      </a:lnTo>
                      <a:lnTo>
                        <a:pt x="277" y="1542"/>
                      </a:lnTo>
                      <a:lnTo>
                        <a:pt x="248" y="1582"/>
                      </a:lnTo>
                      <a:lnTo>
                        <a:pt x="226" y="1627"/>
                      </a:lnTo>
                      <a:lnTo>
                        <a:pt x="207" y="1674"/>
                      </a:lnTo>
                      <a:lnTo>
                        <a:pt x="191" y="1727"/>
                      </a:lnTo>
                      <a:lnTo>
                        <a:pt x="180" y="1784"/>
                      </a:lnTo>
                      <a:lnTo>
                        <a:pt x="174" y="1845"/>
                      </a:lnTo>
                      <a:lnTo>
                        <a:pt x="218" y="1803"/>
                      </a:lnTo>
                      <a:lnTo>
                        <a:pt x="265" y="1763"/>
                      </a:lnTo>
                      <a:lnTo>
                        <a:pt x="289" y="1744"/>
                      </a:lnTo>
                      <a:lnTo>
                        <a:pt x="315" y="1726"/>
                      </a:lnTo>
                      <a:lnTo>
                        <a:pt x="340" y="1709"/>
                      </a:lnTo>
                      <a:lnTo>
                        <a:pt x="366" y="1692"/>
                      </a:lnTo>
                      <a:lnTo>
                        <a:pt x="393" y="1676"/>
                      </a:lnTo>
                      <a:lnTo>
                        <a:pt x="421" y="1663"/>
                      </a:lnTo>
                      <a:lnTo>
                        <a:pt x="451" y="1650"/>
                      </a:lnTo>
                      <a:lnTo>
                        <a:pt x="479" y="1641"/>
                      </a:lnTo>
                      <a:lnTo>
                        <a:pt x="508" y="1631"/>
                      </a:lnTo>
                      <a:lnTo>
                        <a:pt x="539" y="1626"/>
                      </a:lnTo>
                      <a:lnTo>
                        <a:pt x="570" y="1621"/>
                      </a:lnTo>
                      <a:lnTo>
                        <a:pt x="602" y="1620"/>
                      </a:lnTo>
                      <a:lnTo>
                        <a:pt x="628" y="1617"/>
                      </a:lnTo>
                      <a:lnTo>
                        <a:pt x="653" y="1617"/>
                      </a:lnTo>
                      <a:lnTo>
                        <a:pt x="679" y="1618"/>
                      </a:lnTo>
                      <a:lnTo>
                        <a:pt x="705" y="1623"/>
                      </a:lnTo>
                      <a:lnTo>
                        <a:pt x="731" y="1631"/>
                      </a:lnTo>
                      <a:lnTo>
                        <a:pt x="756" y="1639"/>
                      </a:lnTo>
                      <a:lnTo>
                        <a:pt x="782" y="1650"/>
                      </a:lnTo>
                      <a:lnTo>
                        <a:pt x="806" y="1663"/>
                      </a:lnTo>
                      <a:lnTo>
                        <a:pt x="906" y="1721"/>
                      </a:lnTo>
                      <a:lnTo>
                        <a:pt x="1003" y="1781"/>
                      </a:lnTo>
                      <a:lnTo>
                        <a:pt x="1027" y="1792"/>
                      </a:lnTo>
                      <a:lnTo>
                        <a:pt x="1050" y="1803"/>
                      </a:lnTo>
                      <a:lnTo>
                        <a:pt x="1074" y="1813"/>
                      </a:lnTo>
                      <a:lnTo>
                        <a:pt x="1097" y="1821"/>
                      </a:lnTo>
                      <a:lnTo>
                        <a:pt x="1119" y="1826"/>
                      </a:lnTo>
                      <a:lnTo>
                        <a:pt x="1142" y="1830"/>
                      </a:lnTo>
                      <a:lnTo>
                        <a:pt x="1165" y="1830"/>
                      </a:lnTo>
                      <a:lnTo>
                        <a:pt x="1187" y="1826"/>
                      </a:lnTo>
                      <a:lnTo>
                        <a:pt x="1208" y="1819"/>
                      </a:lnTo>
                      <a:lnTo>
                        <a:pt x="1231" y="1810"/>
                      </a:lnTo>
                      <a:lnTo>
                        <a:pt x="1252" y="1795"/>
                      </a:lnTo>
                      <a:lnTo>
                        <a:pt x="1272" y="1777"/>
                      </a:lnTo>
                      <a:lnTo>
                        <a:pt x="1292" y="1755"/>
                      </a:lnTo>
                      <a:lnTo>
                        <a:pt x="1313" y="1726"/>
                      </a:lnTo>
                      <a:lnTo>
                        <a:pt x="1332" y="1694"/>
                      </a:lnTo>
                      <a:lnTo>
                        <a:pt x="1352" y="1655"/>
                      </a:lnTo>
                      <a:lnTo>
                        <a:pt x="1384" y="1655"/>
                      </a:lnTo>
                      <a:lnTo>
                        <a:pt x="1384" y="1695"/>
                      </a:lnTo>
                      <a:lnTo>
                        <a:pt x="1381" y="1736"/>
                      </a:lnTo>
                      <a:lnTo>
                        <a:pt x="1375" y="1774"/>
                      </a:lnTo>
                      <a:lnTo>
                        <a:pt x="1364" y="1813"/>
                      </a:lnTo>
                      <a:lnTo>
                        <a:pt x="1354" y="1850"/>
                      </a:lnTo>
                      <a:lnTo>
                        <a:pt x="1337" y="1887"/>
                      </a:lnTo>
                      <a:lnTo>
                        <a:pt x="1322" y="1921"/>
                      </a:lnTo>
                      <a:lnTo>
                        <a:pt x="1300" y="1955"/>
                      </a:lnTo>
                      <a:lnTo>
                        <a:pt x="1278" y="1989"/>
                      </a:lnTo>
                      <a:lnTo>
                        <a:pt x="1254" y="2019"/>
                      </a:lnTo>
                      <a:lnTo>
                        <a:pt x="1228" y="2049"/>
                      </a:lnTo>
                      <a:lnTo>
                        <a:pt x="1198" y="2076"/>
                      </a:lnTo>
                      <a:lnTo>
                        <a:pt x="1168" y="2101"/>
                      </a:lnTo>
                      <a:lnTo>
                        <a:pt x="1136" y="2125"/>
                      </a:lnTo>
                      <a:lnTo>
                        <a:pt x="1101" y="2145"/>
                      </a:lnTo>
                      <a:lnTo>
                        <a:pt x="1066" y="2163"/>
                      </a:lnTo>
                      <a:lnTo>
                        <a:pt x="1033" y="2176"/>
                      </a:lnTo>
                      <a:lnTo>
                        <a:pt x="1000" y="2186"/>
                      </a:lnTo>
                      <a:lnTo>
                        <a:pt x="968" y="2190"/>
                      </a:lnTo>
                      <a:lnTo>
                        <a:pt x="936" y="2192"/>
                      </a:lnTo>
                      <a:lnTo>
                        <a:pt x="903" y="2190"/>
                      </a:lnTo>
                      <a:lnTo>
                        <a:pt x="871" y="2187"/>
                      </a:lnTo>
                      <a:lnTo>
                        <a:pt x="839" y="2181"/>
                      </a:lnTo>
                      <a:lnTo>
                        <a:pt x="808" y="2173"/>
                      </a:lnTo>
                      <a:lnTo>
                        <a:pt x="777" y="2161"/>
                      </a:lnTo>
                      <a:lnTo>
                        <a:pt x="747" y="2150"/>
                      </a:lnTo>
                      <a:lnTo>
                        <a:pt x="717" y="2137"/>
                      </a:lnTo>
                      <a:lnTo>
                        <a:pt x="685" y="2125"/>
                      </a:lnTo>
                      <a:lnTo>
                        <a:pt x="626" y="2096"/>
                      </a:lnTo>
                      <a:lnTo>
                        <a:pt x="568" y="2069"/>
                      </a:lnTo>
                      <a:lnTo>
                        <a:pt x="539" y="2057"/>
                      </a:lnTo>
                      <a:lnTo>
                        <a:pt x="510" y="2045"/>
                      </a:lnTo>
                      <a:lnTo>
                        <a:pt x="482" y="2034"/>
                      </a:lnTo>
                      <a:lnTo>
                        <a:pt x="454" y="2026"/>
                      </a:lnTo>
                      <a:lnTo>
                        <a:pt x="426" y="2019"/>
                      </a:lnTo>
                      <a:lnTo>
                        <a:pt x="399" y="2016"/>
                      </a:lnTo>
                      <a:lnTo>
                        <a:pt x="372" y="2015"/>
                      </a:lnTo>
                      <a:lnTo>
                        <a:pt x="345" y="2016"/>
                      </a:lnTo>
                      <a:lnTo>
                        <a:pt x="319" y="2021"/>
                      </a:lnTo>
                      <a:lnTo>
                        <a:pt x="292" y="2030"/>
                      </a:lnTo>
                      <a:lnTo>
                        <a:pt x="266" y="2042"/>
                      </a:lnTo>
                      <a:lnTo>
                        <a:pt x="242" y="2060"/>
                      </a:lnTo>
                      <a:lnTo>
                        <a:pt x="216" y="2081"/>
                      </a:lnTo>
                      <a:lnTo>
                        <a:pt x="192" y="2108"/>
                      </a:lnTo>
                      <a:lnTo>
                        <a:pt x="166" y="2139"/>
                      </a:lnTo>
                      <a:lnTo>
                        <a:pt x="142" y="2176"/>
                      </a:lnTo>
                      <a:lnTo>
                        <a:pt x="136" y="2179"/>
                      </a:lnTo>
                      <a:lnTo>
                        <a:pt x="127" y="2181"/>
                      </a:lnTo>
                      <a:lnTo>
                        <a:pt x="123" y="2182"/>
                      </a:lnTo>
                      <a:lnTo>
                        <a:pt x="116" y="2181"/>
                      </a:lnTo>
                      <a:lnTo>
                        <a:pt x="113" y="2179"/>
                      </a:lnTo>
                      <a:lnTo>
                        <a:pt x="109" y="2176"/>
                      </a:lnTo>
                      <a:lnTo>
                        <a:pt x="106" y="2173"/>
                      </a:lnTo>
                      <a:lnTo>
                        <a:pt x="101" y="2167"/>
                      </a:lnTo>
                      <a:lnTo>
                        <a:pt x="92" y="2149"/>
                      </a:lnTo>
                      <a:lnTo>
                        <a:pt x="80" y="2132"/>
                      </a:lnTo>
                      <a:lnTo>
                        <a:pt x="77" y="2099"/>
                      </a:lnTo>
                      <a:lnTo>
                        <a:pt x="76" y="2065"/>
                      </a:lnTo>
                      <a:lnTo>
                        <a:pt x="76" y="2033"/>
                      </a:lnTo>
                      <a:lnTo>
                        <a:pt x="76" y="1998"/>
                      </a:lnTo>
                      <a:lnTo>
                        <a:pt x="77" y="1966"/>
                      </a:lnTo>
                      <a:lnTo>
                        <a:pt x="80" y="1934"/>
                      </a:lnTo>
                      <a:lnTo>
                        <a:pt x="84" y="1900"/>
                      </a:lnTo>
                      <a:lnTo>
                        <a:pt x="89" y="1868"/>
                      </a:lnTo>
                      <a:lnTo>
                        <a:pt x="95" y="1837"/>
                      </a:lnTo>
                      <a:lnTo>
                        <a:pt x="101" y="1806"/>
                      </a:lnTo>
                      <a:lnTo>
                        <a:pt x="110" y="1773"/>
                      </a:lnTo>
                      <a:lnTo>
                        <a:pt x="120" y="1742"/>
                      </a:lnTo>
                      <a:lnTo>
                        <a:pt x="129" y="1712"/>
                      </a:lnTo>
                      <a:lnTo>
                        <a:pt x="141" y="1680"/>
                      </a:lnTo>
                      <a:lnTo>
                        <a:pt x="153" y="1650"/>
                      </a:lnTo>
                      <a:lnTo>
                        <a:pt x="166" y="1621"/>
                      </a:lnTo>
                      <a:lnTo>
                        <a:pt x="181" y="1592"/>
                      </a:lnTo>
                      <a:lnTo>
                        <a:pt x="195" y="1564"/>
                      </a:lnTo>
                      <a:lnTo>
                        <a:pt x="212" y="1535"/>
                      </a:lnTo>
                      <a:lnTo>
                        <a:pt x="230" y="1508"/>
                      </a:lnTo>
                      <a:lnTo>
                        <a:pt x="247" y="1481"/>
                      </a:lnTo>
                      <a:lnTo>
                        <a:pt x="266" y="1453"/>
                      </a:lnTo>
                      <a:lnTo>
                        <a:pt x="286" y="1428"/>
                      </a:lnTo>
                      <a:lnTo>
                        <a:pt x="307" y="1402"/>
                      </a:lnTo>
                      <a:lnTo>
                        <a:pt x="330" y="1378"/>
                      </a:lnTo>
                      <a:lnTo>
                        <a:pt x="352" y="1354"/>
                      </a:lnTo>
                      <a:lnTo>
                        <a:pt x="376" y="1329"/>
                      </a:lnTo>
                      <a:lnTo>
                        <a:pt x="401" y="1307"/>
                      </a:lnTo>
                      <a:lnTo>
                        <a:pt x="426" y="1284"/>
                      </a:lnTo>
                      <a:lnTo>
                        <a:pt x="454" y="1263"/>
                      </a:lnTo>
                      <a:lnTo>
                        <a:pt x="481" y="1242"/>
                      </a:lnTo>
                      <a:lnTo>
                        <a:pt x="510" y="1223"/>
                      </a:lnTo>
                      <a:lnTo>
                        <a:pt x="549" y="1204"/>
                      </a:lnTo>
                      <a:lnTo>
                        <a:pt x="587" y="1181"/>
                      </a:lnTo>
                      <a:lnTo>
                        <a:pt x="625" y="1157"/>
                      </a:lnTo>
                      <a:lnTo>
                        <a:pt x="660" y="1130"/>
                      </a:lnTo>
                      <a:lnTo>
                        <a:pt x="692" y="1101"/>
                      </a:lnTo>
                      <a:lnTo>
                        <a:pt x="724" y="1071"/>
                      </a:lnTo>
                      <a:lnTo>
                        <a:pt x="753" y="1039"/>
                      </a:lnTo>
                      <a:lnTo>
                        <a:pt x="781" y="1006"/>
                      </a:lnTo>
                      <a:lnTo>
                        <a:pt x="805" y="970"/>
                      </a:lnTo>
                      <a:lnTo>
                        <a:pt x="827" y="933"/>
                      </a:lnTo>
                      <a:lnTo>
                        <a:pt x="848" y="894"/>
                      </a:lnTo>
                      <a:lnTo>
                        <a:pt x="867" y="856"/>
                      </a:lnTo>
                      <a:lnTo>
                        <a:pt x="880" y="814"/>
                      </a:lnTo>
                      <a:lnTo>
                        <a:pt x="892" y="771"/>
                      </a:lnTo>
                      <a:lnTo>
                        <a:pt x="900" y="729"/>
                      </a:lnTo>
                      <a:lnTo>
                        <a:pt x="906" y="684"/>
                      </a:lnTo>
                      <a:lnTo>
                        <a:pt x="905" y="596"/>
                      </a:lnTo>
                      <a:lnTo>
                        <a:pt x="905" y="505"/>
                      </a:lnTo>
                      <a:lnTo>
                        <a:pt x="905" y="460"/>
                      </a:lnTo>
                      <a:lnTo>
                        <a:pt x="905" y="415"/>
                      </a:lnTo>
                      <a:lnTo>
                        <a:pt x="902" y="370"/>
                      </a:lnTo>
                      <a:lnTo>
                        <a:pt x="898" y="328"/>
                      </a:lnTo>
                      <a:lnTo>
                        <a:pt x="894" y="307"/>
                      </a:lnTo>
                      <a:lnTo>
                        <a:pt x="891" y="286"/>
                      </a:lnTo>
                      <a:lnTo>
                        <a:pt x="886" y="265"/>
                      </a:lnTo>
                      <a:lnTo>
                        <a:pt x="880" y="245"/>
                      </a:lnTo>
                      <a:lnTo>
                        <a:pt x="873" y="227"/>
                      </a:lnTo>
                      <a:lnTo>
                        <a:pt x="867" y="209"/>
                      </a:lnTo>
                      <a:lnTo>
                        <a:pt x="856" y="191"/>
                      </a:lnTo>
                      <a:lnTo>
                        <a:pt x="847" y="173"/>
                      </a:lnTo>
                      <a:lnTo>
                        <a:pt x="836" y="157"/>
                      </a:lnTo>
                      <a:lnTo>
                        <a:pt x="823" y="141"/>
                      </a:lnTo>
                      <a:lnTo>
                        <a:pt x="809" y="127"/>
                      </a:lnTo>
                      <a:lnTo>
                        <a:pt x="794" y="113"/>
                      </a:lnTo>
                      <a:lnTo>
                        <a:pt x="777" y="100"/>
                      </a:lnTo>
                      <a:lnTo>
                        <a:pt x="758" y="88"/>
                      </a:lnTo>
                      <a:lnTo>
                        <a:pt x="739" y="76"/>
                      </a:lnTo>
                      <a:lnTo>
                        <a:pt x="717" y="67"/>
                      </a:lnTo>
                      <a:lnTo>
                        <a:pt x="663" y="68"/>
                      </a:lnTo>
                      <a:lnTo>
                        <a:pt x="610" y="71"/>
                      </a:lnTo>
                      <a:lnTo>
                        <a:pt x="584" y="76"/>
                      </a:lnTo>
                      <a:lnTo>
                        <a:pt x="558" y="81"/>
                      </a:lnTo>
                      <a:lnTo>
                        <a:pt x="532" y="88"/>
                      </a:lnTo>
                      <a:lnTo>
                        <a:pt x="508" y="94"/>
                      </a:lnTo>
                      <a:lnTo>
                        <a:pt x="486" y="104"/>
                      </a:lnTo>
                      <a:lnTo>
                        <a:pt x="463" y="115"/>
                      </a:lnTo>
                      <a:lnTo>
                        <a:pt x="442" y="128"/>
                      </a:lnTo>
                      <a:lnTo>
                        <a:pt x="423" y="142"/>
                      </a:lnTo>
                      <a:lnTo>
                        <a:pt x="405" y="160"/>
                      </a:lnTo>
                      <a:lnTo>
                        <a:pt x="389" y="180"/>
                      </a:lnTo>
                      <a:lnTo>
                        <a:pt x="376" y="201"/>
                      </a:lnTo>
                      <a:lnTo>
                        <a:pt x="363" y="225"/>
                      </a:lnTo>
                      <a:lnTo>
                        <a:pt x="354" y="249"/>
                      </a:lnTo>
                      <a:lnTo>
                        <a:pt x="345" y="272"/>
                      </a:lnTo>
                      <a:lnTo>
                        <a:pt x="340" y="298"/>
                      </a:lnTo>
                      <a:lnTo>
                        <a:pt x="336" y="322"/>
                      </a:lnTo>
                      <a:lnTo>
                        <a:pt x="334" y="348"/>
                      </a:lnTo>
                      <a:lnTo>
                        <a:pt x="333" y="373"/>
                      </a:lnTo>
                      <a:lnTo>
                        <a:pt x="334" y="399"/>
                      </a:lnTo>
                      <a:lnTo>
                        <a:pt x="337" y="426"/>
                      </a:lnTo>
                      <a:lnTo>
                        <a:pt x="340" y="452"/>
                      </a:lnTo>
                      <a:lnTo>
                        <a:pt x="345" y="478"/>
                      </a:lnTo>
                      <a:lnTo>
                        <a:pt x="352" y="504"/>
                      </a:lnTo>
                      <a:lnTo>
                        <a:pt x="360" y="529"/>
                      </a:lnTo>
                      <a:lnTo>
                        <a:pt x="368" y="554"/>
                      </a:lnTo>
                      <a:lnTo>
                        <a:pt x="378" y="578"/>
                      </a:lnTo>
                      <a:lnTo>
                        <a:pt x="387" y="600"/>
                      </a:lnTo>
                      <a:lnTo>
                        <a:pt x="399" y="623"/>
                      </a:lnTo>
                      <a:lnTo>
                        <a:pt x="572" y="715"/>
                      </a:lnTo>
                      <a:lnTo>
                        <a:pt x="558" y="735"/>
                      </a:lnTo>
                      <a:lnTo>
                        <a:pt x="544" y="752"/>
                      </a:lnTo>
                      <a:lnTo>
                        <a:pt x="529" y="767"/>
                      </a:lnTo>
                      <a:lnTo>
                        <a:pt x="511" y="781"/>
                      </a:lnTo>
                      <a:lnTo>
                        <a:pt x="493" y="792"/>
                      </a:lnTo>
                      <a:lnTo>
                        <a:pt x="475" y="803"/>
                      </a:lnTo>
                      <a:lnTo>
                        <a:pt x="454" y="812"/>
                      </a:lnTo>
                      <a:lnTo>
                        <a:pt x="433" y="818"/>
                      </a:lnTo>
                      <a:lnTo>
                        <a:pt x="410" y="823"/>
                      </a:lnTo>
                      <a:lnTo>
                        <a:pt x="387" y="827"/>
                      </a:lnTo>
                      <a:lnTo>
                        <a:pt x="365" y="829"/>
                      </a:lnTo>
                      <a:lnTo>
                        <a:pt x="342" y="829"/>
                      </a:lnTo>
                      <a:lnTo>
                        <a:pt x="319" y="827"/>
                      </a:lnTo>
                      <a:lnTo>
                        <a:pt x="297" y="824"/>
                      </a:lnTo>
                      <a:lnTo>
                        <a:pt x="274" y="820"/>
                      </a:lnTo>
                      <a:lnTo>
                        <a:pt x="254" y="812"/>
                      </a:lnTo>
                      <a:lnTo>
                        <a:pt x="218" y="796"/>
                      </a:lnTo>
                      <a:lnTo>
                        <a:pt x="183" y="778"/>
                      </a:lnTo>
                      <a:lnTo>
                        <a:pt x="147" y="756"/>
                      </a:lnTo>
                      <a:lnTo>
                        <a:pt x="115" y="732"/>
                      </a:lnTo>
                      <a:lnTo>
                        <a:pt x="98" y="718"/>
                      </a:lnTo>
                      <a:lnTo>
                        <a:pt x="83" y="705"/>
                      </a:lnTo>
                      <a:lnTo>
                        <a:pt x="70" y="691"/>
                      </a:lnTo>
                      <a:lnTo>
                        <a:pt x="55" y="675"/>
                      </a:lnTo>
                      <a:lnTo>
                        <a:pt x="44" y="658"/>
                      </a:lnTo>
                      <a:lnTo>
                        <a:pt x="33" y="641"/>
                      </a:lnTo>
                      <a:lnTo>
                        <a:pt x="23" y="623"/>
                      </a:lnTo>
                      <a:lnTo>
                        <a:pt x="15" y="605"/>
                      </a:lnTo>
                      <a:lnTo>
                        <a:pt x="10" y="575"/>
                      </a:lnTo>
                      <a:lnTo>
                        <a:pt x="6" y="544"/>
                      </a:lnTo>
                      <a:lnTo>
                        <a:pt x="3" y="513"/>
                      </a:lnTo>
                      <a:lnTo>
                        <a:pt x="0" y="481"/>
                      </a:lnTo>
                      <a:lnTo>
                        <a:pt x="0" y="451"/>
                      </a:lnTo>
                      <a:lnTo>
                        <a:pt x="0" y="420"/>
                      </a:lnTo>
                      <a:lnTo>
                        <a:pt x="2" y="387"/>
                      </a:lnTo>
                      <a:lnTo>
                        <a:pt x="5" y="357"/>
                      </a:lnTo>
                      <a:lnTo>
                        <a:pt x="10" y="328"/>
                      </a:lnTo>
                      <a:lnTo>
                        <a:pt x="18" y="298"/>
                      </a:lnTo>
                      <a:lnTo>
                        <a:pt x="27" y="269"/>
                      </a:lnTo>
                      <a:lnTo>
                        <a:pt x="39" y="242"/>
                      </a:lnTo>
                      <a:lnTo>
                        <a:pt x="53" y="215"/>
                      </a:lnTo>
                      <a:lnTo>
                        <a:pt x="70" y="191"/>
                      </a:lnTo>
                      <a:lnTo>
                        <a:pt x="79" y="180"/>
                      </a:lnTo>
                      <a:lnTo>
                        <a:pt x="89" y="168"/>
                      </a:lnTo>
                      <a:lnTo>
                        <a:pt x="100" y="157"/>
                      </a:lnTo>
                      <a:lnTo>
                        <a:pt x="112" y="145"/>
                      </a:lnTo>
                      <a:lnTo>
                        <a:pt x="131" y="131"/>
                      </a:lnTo>
                      <a:lnTo>
                        <a:pt x="150" y="118"/>
                      </a:lnTo>
                      <a:lnTo>
                        <a:pt x="169" y="106"/>
                      </a:lnTo>
                      <a:lnTo>
                        <a:pt x="189" y="92"/>
                      </a:lnTo>
                      <a:lnTo>
                        <a:pt x="210" y="81"/>
                      </a:lnTo>
                      <a:lnTo>
                        <a:pt x="231" y="71"/>
                      </a:lnTo>
                      <a:lnTo>
                        <a:pt x="252" y="62"/>
                      </a:lnTo>
                      <a:lnTo>
                        <a:pt x="272" y="53"/>
                      </a:lnTo>
                      <a:lnTo>
                        <a:pt x="318" y="38"/>
                      </a:lnTo>
                      <a:lnTo>
                        <a:pt x="363" y="24"/>
                      </a:lnTo>
                      <a:lnTo>
                        <a:pt x="410" y="15"/>
                      </a:lnTo>
                      <a:lnTo>
                        <a:pt x="458" y="7"/>
                      </a:lnTo>
                      <a:lnTo>
                        <a:pt x="507" y="2"/>
                      </a:lnTo>
                      <a:lnTo>
                        <a:pt x="555" y="0"/>
                      </a:lnTo>
                      <a:lnTo>
                        <a:pt x="603" y="0"/>
                      </a:lnTo>
                      <a:lnTo>
                        <a:pt x="652" y="2"/>
                      </a:lnTo>
                      <a:lnTo>
                        <a:pt x="700" y="7"/>
                      </a:lnTo>
                      <a:lnTo>
                        <a:pt x="747" y="14"/>
                      </a:lnTo>
                      <a:lnTo>
                        <a:pt x="794" y="21"/>
                      </a:lnTo>
                      <a:lnTo>
                        <a:pt x="841" y="32"/>
                      </a:lnTo>
                      <a:lnTo>
                        <a:pt x="870" y="41"/>
                      </a:lnTo>
                      <a:lnTo>
                        <a:pt x="900" y="50"/>
                      </a:lnTo>
                      <a:lnTo>
                        <a:pt x="929" y="62"/>
                      </a:lnTo>
                      <a:lnTo>
                        <a:pt x="960" y="74"/>
                      </a:lnTo>
                      <a:lnTo>
                        <a:pt x="989" y="89"/>
                      </a:lnTo>
                      <a:lnTo>
                        <a:pt x="1016" y="104"/>
                      </a:lnTo>
                      <a:lnTo>
                        <a:pt x="1045" y="120"/>
                      </a:lnTo>
                      <a:lnTo>
                        <a:pt x="1072" y="138"/>
                      </a:lnTo>
                      <a:lnTo>
                        <a:pt x="1100" y="157"/>
                      </a:lnTo>
                      <a:lnTo>
                        <a:pt x="1125" y="177"/>
                      </a:lnTo>
                      <a:lnTo>
                        <a:pt x="1150" y="197"/>
                      </a:lnTo>
                      <a:lnTo>
                        <a:pt x="1174" y="219"/>
                      </a:lnTo>
                      <a:lnTo>
                        <a:pt x="1197" y="242"/>
                      </a:lnTo>
                      <a:lnTo>
                        <a:pt x="1218" y="266"/>
                      </a:lnTo>
                      <a:lnTo>
                        <a:pt x="1237" y="292"/>
                      </a:lnTo>
                      <a:lnTo>
                        <a:pt x="1255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673320" y="1996560"/>
                  <a:ext cx="42840" cy="135000"/>
                </a:xfrm>
                <a:custGeom>
                  <a:avLst/>
                  <a:gdLst/>
                  <a:ahLst/>
                  <a:rect l="l" t="t" r="r" b="b"/>
                  <a:pathLst>
                    <a:path w="667" h="2099">
                      <a:moveTo>
                        <a:pt x="490" y="48"/>
                      </a:moveTo>
                      <a:lnTo>
                        <a:pt x="508" y="1875"/>
                      </a:lnTo>
                      <a:lnTo>
                        <a:pt x="517" y="1888"/>
                      </a:lnTo>
                      <a:lnTo>
                        <a:pt x="525" y="1901"/>
                      </a:lnTo>
                      <a:lnTo>
                        <a:pt x="534" y="1915"/>
                      </a:lnTo>
                      <a:lnTo>
                        <a:pt x="542" y="1930"/>
                      </a:lnTo>
                      <a:lnTo>
                        <a:pt x="555" y="1959"/>
                      </a:lnTo>
                      <a:lnTo>
                        <a:pt x="569" y="1989"/>
                      </a:lnTo>
                      <a:lnTo>
                        <a:pt x="578" y="2003"/>
                      </a:lnTo>
                      <a:lnTo>
                        <a:pt x="587" y="2015"/>
                      </a:lnTo>
                      <a:lnTo>
                        <a:pt x="596" y="2028"/>
                      </a:lnTo>
                      <a:lnTo>
                        <a:pt x="606" y="2039"/>
                      </a:lnTo>
                      <a:lnTo>
                        <a:pt x="619" y="2049"/>
                      </a:lnTo>
                      <a:lnTo>
                        <a:pt x="634" y="2056"/>
                      </a:lnTo>
                      <a:lnTo>
                        <a:pt x="650" y="2062"/>
                      </a:lnTo>
                      <a:lnTo>
                        <a:pt x="667" y="2065"/>
                      </a:lnTo>
                      <a:lnTo>
                        <a:pt x="631" y="2075"/>
                      </a:lnTo>
                      <a:lnTo>
                        <a:pt x="593" y="2083"/>
                      </a:lnTo>
                      <a:lnTo>
                        <a:pt x="555" y="2089"/>
                      </a:lnTo>
                      <a:lnTo>
                        <a:pt x="516" y="2093"/>
                      </a:lnTo>
                      <a:lnTo>
                        <a:pt x="475" y="2096"/>
                      </a:lnTo>
                      <a:lnTo>
                        <a:pt x="437" y="2098"/>
                      </a:lnTo>
                      <a:lnTo>
                        <a:pt x="396" y="2099"/>
                      </a:lnTo>
                      <a:lnTo>
                        <a:pt x="356" y="2099"/>
                      </a:lnTo>
                      <a:lnTo>
                        <a:pt x="274" y="2098"/>
                      </a:lnTo>
                      <a:lnTo>
                        <a:pt x="194" y="2096"/>
                      </a:lnTo>
                      <a:lnTo>
                        <a:pt x="111" y="2095"/>
                      </a:lnTo>
                      <a:lnTo>
                        <a:pt x="32" y="2096"/>
                      </a:lnTo>
                      <a:lnTo>
                        <a:pt x="30" y="2084"/>
                      </a:lnTo>
                      <a:lnTo>
                        <a:pt x="32" y="2075"/>
                      </a:lnTo>
                      <a:lnTo>
                        <a:pt x="35" y="2065"/>
                      </a:lnTo>
                      <a:lnTo>
                        <a:pt x="42" y="2056"/>
                      </a:lnTo>
                      <a:lnTo>
                        <a:pt x="48" y="2049"/>
                      </a:lnTo>
                      <a:lnTo>
                        <a:pt x="56" y="2042"/>
                      </a:lnTo>
                      <a:lnTo>
                        <a:pt x="65" y="2034"/>
                      </a:lnTo>
                      <a:lnTo>
                        <a:pt x="77" y="2028"/>
                      </a:lnTo>
                      <a:lnTo>
                        <a:pt x="98" y="2013"/>
                      </a:lnTo>
                      <a:lnTo>
                        <a:pt x="118" y="1998"/>
                      </a:lnTo>
                      <a:lnTo>
                        <a:pt x="126" y="1989"/>
                      </a:lnTo>
                      <a:lnTo>
                        <a:pt x="132" y="1978"/>
                      </a:lnTo>
                      <a:lnTo>
                        <a:pt x="138" y="1967"/>
                      </a:lnTo>
                      <a:lnTo>
                        <a:pt x="142" y="1956"/>
                      </a:lnTo>
                      <a:lnTo>
                        <a:pt x="124" y="189"/>
                      </a:lnTo>
                      <a:lnTo>
                        <a:pt x="119" y="177"/>
                      </a:lnTo>
                      <a:lnTo>
                        <a:pt x="115" y="164"/>
                      </a:lnTo>
                      <a:lnTo>
                        <a:pt x="106" y="154"/>
                      </a:lnTo>
                      <a:lnTo>
                        <a:pt x="97" y="145"/>
                      </a:lnTo>
                      <a:lnTo>
                        <a:pt x="77" y="129"/>
                      </a:lnTo>
                      <a:lnTo>
                        <a:pt x="56" y="114"/>
                      </a:lnTo>
                      <a:lnTo>
                        <a:pt x="45" y="106"/>
                      </a:lnTo>
                      <a:lnTo>
                        <a:pt x="35" y="98"/>
                      </a:lnTo>
                      <a:lnTo>
                        <a:pt x="26" y="90"/>
                      </a:lnTo>
                      <a:lnTo>
                        <a:pt x="18" y="80"/>
                      </a:lnTo>
                      <a:lnTo>
                        <a:pt x="11" y="71"/>
                      </a:lnTo>
                      <a:lnTo>
                        <a:pt x="5" y="59"/>
                      </a:lnTo>
                      <a:lnTo>
                        <a:pt x="2" y="44"/>
                      </a:lnTo>
                      <a:lnTo>
                        <a:pt x="0" y="30"/>
                      </a:lnTo>
                      <a:lnTo>
                        <a:pt x="27" y="26"/>
                      </a:lnTo>
                      <a:lnTo>
                        <a:pt x="55" y="20"/>
                      </a:lnTo>
                      <a:lnTo>
                        <a:pt x="82" y="17"/>
                      </a:lnTo>
                      <a:lnTo>
                        <a:pt x="111" y="15"/>
                      </a:lnTo>
                      <a:lnTo>
                        <a:pt x="169" y="14"/>
                      </a:lnTo>
                      <a:lnTo>
                        <a:pt x="229" y="15"/>
                      </a:lnTo>
                      <a:lnTo>
                        <a:pt x="287" y="15"/>
                      </a:lnTo>
                      <a:lnTo>
                        <a:pt x="346" y="14"/>
                      </a:lnTo>
                      <a:lnTo>
                        <a:pt x="375" y="12"/>
                      </a:lnTo>
                      <a:lnTo>
                        <a:pt x="403" y="9"/>
                      </a:lnTo>
                      <a:lnTo>
                        <a:pt x="432" y="6"/>
                      </a:lnTo>
                      <a:lnTo>
                        <a:pt x="460" y="0"/>
                      </a:lnTo>
                      <a:lnTo>
                        <a:pt x="49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921720" y="2051640"/>
                  <a:ext cx="45000" cy="131040"/>
                </a:xfrm>
                <a:custGeom>
                  <a:avLst/>
                  <a:gdLst/>
                  <a:ahLst/>
                  <a:rect l="l" t="t" r="r" b="b"/>
                  <a:pathLst>
                    <a:path w="697" h="2032">
                      <a:moveTo>
                        <a:pt x="564" y="9"/>
                      </a:moveTo>
                      <a:lnTo>
                        <a:pt x="554" y="1842"/>
                      </a:lnTo>
                      <a:lnTo>
                        <a:pt x="560" y="1858"/>
                      </a:lnTo>
                      <a:lnTo>
                        <a:pt x="568" y="1871"/>
                      </a:lnTo>
                      <a:lnTo>
                        <a:pt x="576" y="1883"/>
                      </a:lnTo>
                      <a:lnTo>
                        <a:pt x="587" y="1897"/>
                      </a:lnTo>
                      <a:lnTo>
                        <a:pt x="610" y="1918"/>
                      </a:lnTo>
                      <a:lnTo>
                        <a:pt x="636" y="1939"/>
                      </a:lnTo>
                      <a:lnTo>
                        <a:pt x="647" y="1948"/>
                      </a:lnTo>
                      <a:lnTo>
                        <a:pt x="658" y="1959"/>
                      </a:lnTo>
                      <a:lnTo>
                        <a:pt x="669" y="1969"/>
                      </a:lnTo>
                      <a:lnTo>
                        <a:pt x="678" y="1980"/>
                      </a:lnTo>
                      <a:lnTo>
                        <a:pt x="685" y="1992"/>
                      </a:lnTo>
                      <a:lnTo>
                        <a:pt x="692" y="2004"/>
                      </a:lnTo>
                      <a:lnTo>
                        <a:pt x="696" y="2018"/>
                      </a:lnTo>
                      <a:lnTo>
                        <a:pt x="697" y="2032"/>
                      </a:lnTo>
                      <a:lnTo>
                        <a:pt x="0" y="2032"/>
                      </a:lnTo>
                      <a:lnTo>
                        <a:pt x="171" y="1859"/>
                      </a:lnTo>
                      <a:lnTo>
                        <a:pt x="158" y="192"/>
                      </a:lnTo>
                      <a:lnTo>
                        <a:pt x="31" y="15"/>
                      </a:lnTo>
                      <a:lnTo>
                        <a:pt x="106" y="13"/>
                      </a:lnTo>
                      <a:lnTo>
                        <a:pt x="180" y="9"/>
                      </a:lnTo>
                      <a:lnTo>
                        <a:pt x="253" y="5"/>
                      </a:lnTo>
                      <a:lnTo>
                        <a:pt x="324" y="3"/>
                      </a:lnTo>
                      <a:lnTo>
                        <a:pt x="390" y="0"/>
                      </a:lnTo>
                      <a:lnTo>
                        <a:pt x="454" y="2"/>
                      </a:lnTo>
                      <a:lnTo>
                        <a:pt x="484" y="2"/>
                      </a:lnTo>
                      <a:lnTo>
                        <a:pt x="511" y="3"/>
                      </a:lnTo>
                      <a:lnTo>
                        <a:pt x="539" y="6"/>
                      </a:lnTo>
                      <a:lnTo>
                        <a:pt x="564" y="9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504480" y="2055600"/>
                  <a:ext cx="40680" cy="131040"/>
                </a:xfrm>
                <a:custGeom>
                  <a:avLst/>
                  <a:gdLst/>
                  <a:ahLst/>
                  <a:rect l="l" t="t" r="r" b="b"/>
                  <a:pathLst>
                    <a:path w="633" h="2036">
                      <a:moveTo>
                        <a:pt x="487" y="1878"/>
                      </a:moveTo>
                      <a:lnTo>
                        <a:pt x="633" y="2018"/>
                      </a:lnTo>
                      <a:lnTo>
                        <a:pt x="11" y="2036"/>
                      </a:lnTo>
                      <a:lnTo>
                        <a:pt x="139" y="1829"/>
                      </a:lnTo>
                      <a:lnTo>
                        <a:pt x="137" y="1723"/>
                      </a:lnTo>
                      <a:lnTo>
                        <a:pt x="135" y="1617"/>
                      </a:lnTo>
                      <a:lnTo>
                        <a:pt x="137" y="1511"/>
                      </a:lnTo>
                      <a:lnTo>
                        <a:pt x="137" y="1402"/>
                      </a:lnTo>
                      <a:lnTo>
                        <a:pt x="139" y="1293"/>
                      </a:lnTo>
                      <a:lnTo>
                        <a:pt x="140" y="1185"/>
                      </a:lnTo>
                      <a:lnTo>
                        <a:pt x="140" y="1075"/>
                      </a:lnTo>
                      <a:lnTo>
                        <a:pt x="140" y="965"/>
                      </a:lnTo>
                      <a:lnTo>
                        <a:pt x="140" y="856"/>
                      </a:lnTo>
                      <a:lnTo>
                        <a:pt x="139" y="747"/>
                      </a:lnTo>
                      <a:lnTo>
                        <a:pt x="135" y="638"/>
                      </a:lnTo>
                      <a:lnTo>
                        <a:pt x="130" y="531"/>
                      </a:lnTo>
                      <a:lnTo>
                        <a:pt x="124" y="424"/>
                      </a:lnTo>
                      <a:lnTo>
                        <a:pt x="116" y="319"/>
                      </a:lnTo>
                      <a:lnTo>
                        <a:pt x="104" y="214"/>
                      </a:lnTo>
                      <a:lnTo>
                        <a:pt x="90" y="112"/>
                      </a:lnTo>
                      <a:lnTo>
                        <a:pt x="86" y="103"/>
                      </a:lnTo>
                      <a:lnTo>
                        <a:pt x="80" y="94"/>
                      </a:lnTo>
                      <a:lnTo>
                        <a:pt x="72" y="86"/>
                      </a:lnTo>
                      <a:lnTo>
                        <a:pt x="64" y="80"/>
                      </a:lnTo>
                      <a:lnTo>
                        <a:pt x="45" y="70"/>
                      </a:lnTo>
                      <a:lnTo>
                        <a:pt x="27" y="59"/>
                      </a:lnTo>
                      <a:lnTo>
                        <a:pt x="19" y="54"/>
                      </a:lnTo>
                      <a:lnTo>
                        <a:pt x="11" y="50"/>
                      </a:lnTo>
                      <a:lnTo>
                        <a:pt x="6" y="43"/>
                      </a:lnTo>
                      <a:lnTo>
                        <a:pt x="1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4" y="12"/>
                      </a:lnTo>
                      <a:lnTo>
                        <a:pt x="11" y="0"/>
                      </a:lnTo>
                      <a:lnTo>
                        <a:pt x="474" y="18"/>
                      </a:lnTo>
                      <a:lnTo>
                        <a:pt x="487" y="1878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57400" y="2055600"/>
                  <a:ext cx="36360" cy="130320"/>
                </a:xfrm>
                <a:custGeom>
                  <a:avLst/>
                  <a:gdLst/>
                  <a:ahLst/>
                  <a:rect l="l" t="t" r="r" b="b"/>
                  <a:pathLst>
                    <a:path w="569" h="2020">
                      <a:moveTo>
                        <a:pt x="447" y="1846"/>
                      </a:moveTo>
                      <a:lnTo>
                        <a:pt x="451" y="1857"/>
                      </a:lnTo>
                      <a:lnTo>
                        <a:pt x="457" y="1867"/>
                      </a:lnTo>
                      <a:lnTo>
                        <a:pt x="465" y="1877"/>
                      </a:lnTo>
                      <a:lnTo>
                        <a:pt x="471" y="1886"/>
                      </a:lnTo>
                      <a:lnTo>
                        <a:pt x="489" y="1906"/>
                      </a:lnTo>
                      <a:lnTo>
                        <a:pt x="507" y="1925"/>
                      </a:lnTo>
                      <a:lnTo>
                        <a:pt x="526" y="1942"/>
                      </a:lnTo>
                      <a:lnTo>
                        <a:pt x="542" y="1962"/>
                      </a:lnTo>
                      <a:lnTo>
                        <a:pt x="551" y="1974"/>
                      </a:lnTo>
                      <a:lnTo>
                        <a:pt x="558" y="1983"/>
                      </a:lnTo>
                      <a:lnTo>
                        <a:pt x="565" y="1994"/>
                      </a:lnTo>
                      <a:lnTo>
                        <a:pt x="569" y="2006"/>
                      </a:lnTo>
                      <a:lnTo>
                        <a:pt x="536" y="2010"/>
                      </a:lnTo>
                      <a:lnTo>
                        <a:pt x="500" y="2013"/>
                      </a:lnTo>
                      <a:lnTo>
                        <a:pt x="465" y="2016"/>
                      </a:lnTo>
                      <a:lnTo>
                        <a:pt x="430" y="2018"/>
                      </a:lnTo>
                      <a:lnTo>
                        <a:pt x="354" y="2020"/>
                      </a:lnTo>
                      <a:lnTo>
                        <a:pt x="280" y="2020"/>
                      </a:lnTo>
                      <a:lnTo>
                        <a:pt x="206" y="2020"/>
                      </a:lnTo>
                      <a:lnTo>
                        <a:pt x="135" y="2018"/>
                      </a:lnTo>
                      <a:lnTo>
                        <a:pt x="67" y="2018"/>
                      </a:lnTo>
                      <a:lnTo>
                        <a:pt x="0" y="2018"/>
                      </a:lnTo>
                      <a:lnTo>
                        <a:pt x="111" y="1829"/>
                      </a:lnTo>
                      <a:lnTo>
                        <a:pt x="111" y="209"/>
                      </a:lnTo>
                      <a:lnTo>
                        <a:pt x="108" y="191"/>
                      </a:lnTo>
                      <a:lnTo>
                        <a:pt x="105" y="177"/>
                      </a:lnTo>
                      <a:lnTo>
                        <a:pt x="99" y="161"/>
                      </a:lnTo>
                      <a:lnTo>
                        <a:pt x="91" y="146"/>
                      </a:lnTo>
                      <a:lnTo>
                        <a:pt x="71" y="120"/>
                      </a:lnTo>
                      <a:lnTo>
                        <a:pt x="50" y="94"/>
                      </a:lnTo>
                      <a:lnTo>
                        <a:pt x="31" y="72"/>
                      </a:lnTo>
                      <a:lnTo>
                        <a:pt x="13" y="50"/>
                      </a:lnTo>
                      <a:lnTo>
                        <a:pt x="6" y="36"/>
                      </a:lnTo>
                      <a:lnTo>
                        <a:pt x="3" y="2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447" y="18"/>
                      </a:lnTo>
                      <a:lnTo>
                        <a:pt x="447" y="1846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020000" y="2182680"/>
                  <a:ext cx="97200" cy="139320"/>
                </a:xfrm>
                <a:custGeom>
                  <a:avLst/>
                  <a:gdLst/>
                  <a:ahLst/>
                  <a:rect l="l" t="t" r="r" b="b"/>
                  <a:pathLst>
                    <a:path w="1502" h="2160">
                      <a:moveTo>
                        <a:pt x="1375" y="434"/>
                      </a:moveTo>
                      <a:lnTo>
                        <a:pt x="1381" y="499"/>
                      </a:lnTo>
                      <a:lnTo>
                        <a:pt x="1387" y="567"/>
                      </a:lnTo>
                      <a:lnTo>
                        <a:pt x="1391" y="600"/>
                      </a:lnTo>
                      <a:lnTo>
                        <a:pt x="1391" y="634"/>
                      </a:lnTo>
                      <a:lnTo>
                        <a:pt x="1391" y="668"/>
                      </a:lnTo>
                      <a:lnTo>
                        <a:pt x="1389" y="702"/>
                      </a:lnTo>
                      <a:lnTo>
                        <a:pt x="1386" y="736"/>
                      </a:lnTo>
                      <a:lnTo>
                        <a:pt x="1380" y="768"/>
                      </a:lnTo>
                      <a:lnTo>
                        <a:pt x="1372" y="800"/>
                      </a:lnTo>
                      <a:lnTo>
                        <a:pt x="1362" y="830"/>
                      </a:lnTo>
                      <a:lnTo>
                        <a:pt x="1349" y="860"/>
                      </a:lnTo>
                      <a:lnTo>
                        <a:pt x="1334" y="889"/>
                      </a:lnTo>
                      <a:lnTo>
                        <a:pt x="1327" y="903"/>
                      </a:lnTo>
                      <a:lnTo>
                        <a:pt x="1316" y="916"/>
                      </a:lnTo>
                      <a:lnTo>
                        <a:pt x="1305" y="930"/>
                      </a:lnTo>
                      <a:lnTo>
                        <a:pt x="1295" y="942"/>
                      </a:lnTo>
                      <a:lnTo>
                        <a:pt x="1263" y="974"/>
                      </a:lnTo>
                      <a:lnTo>
                        <a:pt x="1231" y="1004"/>
                      </a:lnTo>
                      <a:lnTo>
                        <a:pt x="1198" y="1031"/>
                      </a:lnTo>
                      <a:lnTo>
                        <a:pt x="1162" y="1057"/>
                      </a:lnTo>
                      <a:lnTo>
                        <a:pt x="1125" y="1080"/>
                      </a:lnTo>
                      <a:lnTo>
                        <a:pt x="1088" y="1102"/>
                      </a:lnTo>
                      <a:lnTo>
                        <a:pt x="1051" y="1122"/>
                      </a:lnTo>
                      <a:lnTo>
                        <a:pt x="1010" y="1142"/>
                      </a:lnTo>
                      <a:lnTo>
                        <a:pt x="932" y="1178"/>
                      </a:lnTo>
                      <a:lnTo>
                        <a:pt x="850" y="1210"/>
                      </a:lnTo>
                      <a:lnTo>
                        <a:pt x="770" y="1240"/>
                      </a:lnTo>
                      <a:lnTo>
                        <a:pt x="690" y="1273"/>
                      </a:lnTo>
                      <a:lnTo>
                        <a:pt x="649" y="1289"/>
                      </a:lnTo>
                      <a:lnTo>
                        <a:pt x="610" y="1305"/>
                      </a:lnTo>
                      <a:lnTo>
                        <a:pt x="572" y="1323"/>
                      </a:lnTo>
                      <a:lnTo>
                        <a:pt x="534" y="1340"/>
                      </a:lnTo>
                      <a:lnTo>
                        <a:pt x="498" y="1360"/>
                      </a:lnTo>
                      <a:lnTo>
                        <a:pt x="462" y="1381"/>
                      </a:lnTo>
                      <a:lnTo>
                        <a:pt x="428" y="1403"/>
                      </a:lnTo>
                      <a:lnTo>
                        <a:pt x="395" y="1428"/>
                      </a:lnTo>
                      <a:lnTo>
                        <a:pt x="363" y="1453"/>
                      </a:lnTo>
                      <a:lnTo>
                        <a:pt x="333" y="1481"/>
                      </a:lnTo>
                      <a:lnTo>
                        <a:pt x="306" y="1511"/>
                      </a:lnTo>
                      <a:lnTo>
                        <a:pt x="278" y="1544"/>
                      </a:lnTo>
                      <a:lnTo>
                        <a:pt x="254" y="1579"/>
                      </a:lnTo>
                      <a:lnTo>
                        <a:pt x="233" y="1617"/>
                      </a:lnTo>
                      <a:lnTo>
                        <a:pt x="212" y="1658"/>
                      </a:lnTo>
                      <a:lnTo>
                        <a:pt x="196" y="1701"/>
                      </a:lnTo>
                      <a:lnTo>
                        <a:pt x="206" y="1701"/>
                      </a:lnTo>
                      <a:lnTo>
                        <a:pt x="215" y="1701"/>
                      </a:lnTo>
                      <a:lnTo>
                        <a:pt x="225" y="1701"/>
                      </a:lnTo>
                      <a:lnTo>
                        <a:pt x="233" y="1700"/>
                      </a:lnTo>
                      <a:lnTo>
                        <a:pt x="253" y="1694"/>
                      </a:lnTo>
                      <a:lnTo>
                        <a:pt x="270" y="1686"/>
                      </a:lnTo>
                      <a:lnTo>
                        <a:pt x="288" y="1676"/>
                      </a:lnTo>
                      <a:lnTo>
                        <a:pt x="306" y="1663"/>
                      </a:lnTo>
                      <a:lnTo>
                        <a:pt x="322" y="1650"/>
                      </a:lnTo>
                      <a:lnTo>
                        <a:pt x="339" y="1636"/>
                      </a:lnTo>
                      <a:lnTo>
                        <a:pt x="374" y="1606"/>
                      </a:lnTo>
                      <a:lnTo>
                        <a:pt x="407" y="1580"/>
                      </a:lnTo>
                      <a:lnTo>
                        <a:pt x="425" y="1570"/>
                      </a:lnTo>
                      <a:lnTo>
                        <a:pt x="445" y="1559"/>
                      </a:lnTo>
                      <a:lnTo>
                        <a:pt x="462" y="1552"/>
                      </a:lnTo>
                      <a:lnTo>
                        <a:pt x="483" y="1547"/>
                      </a:lnTo>
                      <a:lnTo>
                        <a:pt x="507" y="1541"/>
                      </a:lnTo>
                      <a:lnTo>
                        <a:pt x="533" y="1535"/>
                      </a:lnTo>
                      <a:lnTo>
                        <a:pt x="557" y="1532"/>
                      </a:lnTo>
                      <a:lnTo>
                        <a:pt x="581" y="1531"/>
                      </a:lnTo>
                      <a:lnTo>
                        <a:pt x="605" y="1529"/>
                      </a:lnTo>
                      <a:lnTo>
                        <a:pt x="628" y="1529"/>
                      </a:lnTo>
                      <a:lnTo>
                        <a:pt x="652" y="1531"/>
                      </a:lnTo>
                      <a:lnTo>
                        <a:pt x="675" y="1534"/>
                      </a:lnTo>
                      <a:lnTo>
                        <a:pt x="697" y="1537"/>
                      </a:lnTo>
                      <a:lnTo>
                        <a:pt x="720" y="1541"/>
                      </a:lnTo>
                      <a:lnTo>
                        <a:pt x="743" y="1545"/>
                      </a:lnTo>
                      <a:lnTo>
                        <a:pt x="765" y="1552"/>
                      </a:lnTo>
                      <a:lnTo>
                        <a:pt x="809" y="1567"/>
                      </a:lnTo>
                      <a:lnTo>
                        <a:pt x="850" y="1582"/>
                      </a:lnTo>
                      <a:lnTo>
                        <a:pt x="893" y="1602"/>
                      </a:lnTo>
                      <a:lnTo>
                        <a:pt x="935" y="1624"/>
                      </a:lnTo>
                      <a:lnTo>
                        <a:pt x="974" y="1648"/>
                      </a:lnTo>
                      <a:lnTo>
                        <a:pt x="1014" y="1673"/>
                      </a:lnTo>
                      <a:lnTo>
                        <a:pt x="1091" y="1726"/>
                      </a:lnTo>
                      <a:lnTo>
                        <a:pt x="1167" y="1780"/>
                      </a:lnTo>
                      <a:lnTo>
                        <a:pt x="1185" y="1787"/>
                      </a:lnTo>
                      <a:lnTo>
                        <a:pt x="1201" y="1792"/>
                      </a:lnTo>
                      <a:lnTo>
                        <a:pt x="1215" y="1794"/>
                      </a:lnTo>
                      <a:lnTo>
                        <a:pt x="1230" y="1795"/>
                      </a:lnTo>
                      <a:lnTo>
                        <a:pt x="1242" y="1795"/>
                      </a:lnTo>
                      <a:lnTo>
                        <a:pt x="1256" y="1794"/>
                      </a:lnTo>
                      <a:lnTo>
                        <a:pt x="1266" y="1792"/>
                      </a:lnTo>
                      <a:lnTo>
                        <a:pt x="1278" y="1787"/>
                      </a:lnTo>
                      <a:lnTo>
                        <a:pt x="1287" y="1783"/>
                      </a:lnTo>
                      <a:lnTo>
                        <a:pt x="1299" y="1777"/>
                      </a:lnTo>
                      <a:lnTo>
                        <a:pt x="1307" y="1771"/>
                      </a:lnTo>
                      <a:lnTo>
                        <a:pt x="1316" y="1763"/>
                      </a:lnTo>
                      <a:lnTo>
                        <a:pt x="1333" y="1747"/>
                      </a:lnTo>
                      <a:lnTo>
                        <a:pt x="1349" y="1727"/>
                      </a:lnTo>
                      <a:lnTo>
                        <a:pt x="1380" y="1689"/>
                      </a:lnTo>
                      <a:lnTo>
                        <a:pt x="1413" y="1652"/>
                      </a:lnTo>
                      <a:lnTo>
                        <a:pt x="1422" y="1644"/>
                      </a:lnTo>
                      <a:lnTo>
                        <a:pt x="1431" y="1636"/>
                      </a:lnTo>
                      <a:lnTo>
                        <a:pt x="1441" y="1629"/>
                      </a:lnTo>
                      <a:lnTo>
                        <a:pt x="1452" y="1623"/>
                      </a:lnTo>
                      <a:lnTo>
                        <a:pt x="1464" y="1618"/>
                      </a:lnTo>
                      <a:lnTo>
                        <a:pt x="1476" y="1613"/>
                      </a:lnTo>
                      <a:lnTo>
                        <a:pt x="1488" y="1612"/>
                      </a:lnTo>
                      <a:lnTo>
                        <a:pt x="1502" y="1608"/>
                      </a:lnTo>
                      <a:lnTo>
                        <a:pt x="1496" y="1650"/>
                      </a:lnTo>
                      <a:lnTo>
                        <a:pt x="1488" y="1691"/>
                      </a:lnTo>
                      <a:lnTo>
                        <a:pt x="1476" y="1733"/>
                      </a:lnTo>
                      <a:lnTo>
                        <a:pt x="1464" y="1773"/>
                      </a:lnTo>
                      <a:lnTo>
                        <a:pt x="1448" y="1815"/>
                      </a:lnTo>
                      <a:lnTo>
                        <a:pt x="1430" y="1853"/>
                      </a:lnTo>
                      <a:lnTo>
                        <a:pt x="1408" y="1892"/>
                      </a:lnTo>
                      <a:lnTo>
                        <a:pt x="1386" y="1930"/>
                      </a:lnTo>
                      <a:lnTo>
                        <a:pt x="1360" y="1965"/>
                      </a:lnTo>
                      <a:lnTo>
                        <a:pt x="1333" y="1998"/>
                      </a:lnTo>
                      <a:lnTo>
                        <a:pt x="1319" y="2013"/>
                      </a:lnTo>
                      <a:lnTo>
                        <a:pt x="1304" y="2029"/>
                      </a:lnTo>
                      <a:lnTo>
                        <a:pt x="1287" y="2043"/>
                      </a:lnTo>
                      <a:lnTo>
                        <a:pt x="1272" y="2057"/>
                      </a:lnTo>
                      <a:lnTo>
                        <a:pt x="1254" y="2069"/>
                      </a:lnTo>
                      <a:lnTo>
                        <a:pt x="1236" y="2081"/>
                      </a:lnTo>
                      <a:lnTo>
                        <a:pt x="1218" y="2092"/>
                      </a:lnTo>
                      <a:lnTo>
                        <a:pt x="1199" y="2104"/>
                      </a:lnTo>
                      <a:lnTo>
                        <a:pt x="1180" y="2111"/>
                      </a:lnTo>
                      <a:lnTo>
                        <a:pt x="1160" y="2121"/>
                      </a:lnTo>
                      <a:lnTo>
                        <a:pt x="1139" y="2128"/>
                      </a:lnTo>
                      <a:lnTo>
                        <a:pt x="1118" y="2134"/>
                      </a:lnTo>
                      <a:lnTo>
                        <a:pt x="1083" y="2147"/>
                      </a:lnTo>
                      <a:lnTo>
                        <a:pt x="1047" y="2155"/>
                      </a:lnTo>
                      <a:lnTo>
                        <a:pt x="1012" y="2160"/>
                      </a:lnTo>
                      <a:lnTo>
                        <a:pt x="976" y="2160"/>
                      </a:lnTo>
                      <a:lnTo>
                        <a:pt x="941" y="2157"/>
                      </a:lnTo>
                      <a:lnTo>
                        <a:pt x="906" y="2150"/>
                      </a:lnTo>
                      <a:lnTo>
                        <a:pt x="870" y="2140"/>
                      </a:lnTo>
                      <a:lnTo>
                        <a:pt x="836" y="2129"/>
                      </a:lnTo>
                      <a:lnTo>
                        <a:pt x="800" y="2116"/>
                      </a:lnTo>
                      <a:lnTo>
                        <a:pt x="767" y="2102"/>
                      </a:lnTo>
                      <a:lnTo>
                        <a:pt x="731" y="2086"/>
                      </a:lnTo>
                      <a:lnTo>
                        <a:pt x="697" y="2067"/>
                      </a:lnTo>
                      <a:lnTo>
                        <a:pt x="631" y="2034"/>
                      </a:lnTo>
                      <a:lnTo>
                        <a:pt x="566" y="2001"/>
                      </a:lnTo>
                      <a:lnTo>
                        <a:pt x="533" y="1986"/>
                      </a:lnTo>
                      <a:lnTo>
                        <a:pt x="502" y="1971"/>
                      </a:lnTo>
                      <a:lnTo>
                        <a:pt x="470" y="1960"/>
                      </a:lnTo>
                      <a:lnTo>
                        <a:pt x="439" y="1950"/>
                      </a:lnTo>
                      <a:lnTo>
                        <a:pt x="409" y="1942"/>
                      </a:lnTo>
                      <a:lnTo>
                        <a:pt x="380" y="1939"/>
                      </a:lnTo>
                      <a:lnTo>
                        <a:pt x="351" y="1937"/>
                      </a:lnTo>
                      <a:lnTo>
                        <a:pt x="322" y="1940"/>
                      </a:lnTo>
                      <a:lnTo>
                        <a:pt x="292" y="1948"/>
                      </a:lnTo>
                      <a:lnTo>
                        <a:pt x="265" y="1960"/>
                      </a:lnTo>
                      <a:lnTo>
                        <a:pt x="239" y="1978"/>
                      </a:lnTo>
                      <a:lnTo>
                        <a:pt x="214" y="1998"/>
                      </a:lnTo>
                      <a:lnTo>
                        <a:pt x="188" y="2026"/>
                      </a:lnTo>
                      <a:lnTo>
                        <a:pt x="164" y="2060"/>
                      </a:lnTo>
                      <a:lnTo>
                        <a:pt x="139" y="2100"/>
                      </a:lnTo>
                      <a:lnTo>
                        <a:pt x="115" y="2147"/>
                      </a:lnTo>
                      <a:lnTo>
                        <a:pt x="71" y="2147"/>
                      </a:lnTo>
                      <a:lnTo>
                        <a:pt x="68" y="2096"/>
                      </a:lnTo>
                      <a:lnTo>
                        <a:pt x="65" y="2045"/>
                      </a:lnTo>
                      <a:lnTo>
                        <a:pt x="65" y="1992"/>
                      </a:lnTo>
                      <a:lnTo>
                        <a:pt x="67" y="1939"/>
                      </a:lnTo>
                      <a:lnTo>
                        <a:pt x="68" y="1887"/>
                      </a:lnTo>
                      <a:lnTo>
                        <a:pt x="75" y="1836"/>
                      </a:lnTo>
                      <a:lnTo>
                        <a:pt x="83" y="1784"/>
                      </a:lnTo>
                      <a:lnTo>
                        <a:pt x="93" y="1733"/>
                      </a:lnTo>
                      <a:lnTo>
                        <a:pt x="99" y="1709"/>
                      </a:lnTo>
                      <a:lnTo>
                        <a:pt x="107" y="1683"/>
                      </a:lnTo>
                      <a:lnTo>
                        <a:pt x="115" y="1660"/>
                      </a:lnTo>
                      <a:lnTo>
                        <a:pt x="123" y="1636"/>
                      </a:lnTo>
                      <a:lnTo>
                        <a:pt x="135" y="1613"/>
                      </a:lnTo>
                      <a:lnTo>
                        <a:pt x="144" y="1591"/>
                      </a:lnTo>
                      <a:lnTo>
                        <a:pt x="157" y="1568"/>
                      </a:lnTo>
                      <a:lnTo>
                        <a:pt x="168" y="1547"/>
                      </a:lnTo>
                      <a:lnTo>
                        <a:pt x="183" y="1526"/>
                      </a:lnTo>
                      <a:lnTo>
                        <a:pt x="197" y="1506"/>
                      </a:lnTo>
                      <a:lnTo>
                        <a:pt x="214" y="1487"/>
                      </a:lnTo>
                      <a:lnTo>
                        <a:pt x="230" y="1468"/>
                      </a:lnTo>
                      <a:lnTo>
                        <a:pt x="250" y="1450"/>
                      </a:lnTo>
                      <a:lnTo>
                        <a:pt x="268" y="1432"/>
                      </a:lnTo>
                      <a:lnTo>
                        <a:pt x="288" y="1417"/>
                      </a:lnTo>
                      <a:lnTo>
                        <a:pt x="310" y="1402"/>
                      </a:lnTo>
                      <a:lnTo>
                        <a:pt x="371" y="1363"/>
                      </a:lnTo>
                      <a:lnTo>
                        <a:pt x="428" y="1325"/>
                      </a:lnTo>
                      <a:lnTo>
                        <a:pt x="487" y="1284"/>
                      </a:lnTo>
                      <a:lnTo>
                        <a:pt x="546" y="1242"/>
                      </a:lnTo>
                      <a:lnTo>
                        <a:pt x="604" y="1199"/>
                      </a:lnTo>
                      <a:lnTo>
                        <a:pt x="658" y="1154"/>
                      </a:lnTo>
                      <a:lnTo>
                        <a:pt x="684" y="1131"/>
                      </a:lnTo>
                      <a:lnTo>
                        <a:pt x="711" y="1107"/>
                      </a:lnTo>
                      <a:lnTo>
                        <a:pt x="735" y="1083"/>
                      </a:lnTo>
                      <a:lnTo>
                        <a:pt x="759" y="1058"/>
                      </a:lnTo>
                      <a:lnTo>
                        <a:pt x="781" y="1033"/>
                      </a:lnTo>
                      <a:lnTo>
                        <a:pt x="804" y="1005"/>
                      </a:lnTo>
                      <a:lnTo>
                        <a:pt x="823" y="980"/>
                      </a:lnTo>
                      <a:lnTo>
                        <a:pt x="843" y="950"/>
                      </a:lnTo>
                      <a:lnTo>
                        <a:pt x="861" y="921"/>
                      </a:lnTo>
                      <a:lnTo>
                        <a:pt x="876" y="892"/>
                      </a:lnTo>
                      <a:lnTo>
                        <a:pt x="893" y="862"/>
                      </a:lnTo>
                      <a:lnTo>
                        <a:pt x="906" y="830"/>
                      </a:lnTo>
                      <a:lnTo>
                        <a:pt x="917" y="798"/>
                      </a:lnTo>
                      <a:lnTo>
                        <a:pt x="926" y="767"/>
                      </a:lnTo>
                      <a:lnTo>
                        <a:pt x="935" y="731"/>
                      </a:lnTo>
                      <a:lnTo>
                        <a:pt x="941" y="697"/>
                      </a:lnTo>
                      <a:lnTo>
                        <a:pt x="946" y="660"/>
                      </a:lnTo>
                      <a:lnTo>
                        <a:pt x="947" y="623"/>
                      </a:lnTo>
                      <a:lnTo>
                        <a:pt x="947" y="584"/>
                      </a:lnTo>
                      <a:lnTo>
                        <a:pt x="946" y="546"/>
                      </a:lnTo>
                      <a:lnTo>
                        <a:pt x="935" y="475"/>
                      </a:lnTo>
                      <a:lnTo>
                        <a:pt x="923" y="402"/>
                      </a:lnTo>
                      <a:lnTo>
                        <a:pt x="917" y="366"/>
                      </a:lnTo>
                      <a:lnTo>
                        <a:pt x="909" y="330"/>
                      </a:lnTo>
                      <a:lnTo>
                        <a:pt x="899" y="293"/>
                      </a:lnTo>
                      <a:lnTo>
                        <a:pt x="890" y="260"/>
                      </a:lnTo>
                      <a:lnTo>
                        <a:pt x="876" y="228"/>
                      </a:lnTo>
                      <a:lnTo>
                        <a:pt x="861" y="197"/>
                      </a:lnTo>
                      <a:lnTo>
                        <a:pt x="852" y="183"/>
                      </a:lnTo>
                      <a:lnTo>
                        <a:pt x="843" y="168"/>
                      </a:lnTo>
                      <a:lnTo>
                        <a:pt x="832" y="154"/>
                      </a:lnTo>
                      <a:lnTo>
                        <a:pt x="820" y="142"/>
                      </a:lnTo>
                      <a:lnTo>
                        <a:pt x="808" y="130"/>
                      </a:lnTo>
                      <a:lnTo>
                        <a:pt x="794" y="118"/>
                      </a:lnTo>
                      <a:lnTo>
                        <a:pt x="779" y="107"/>
                      </a:lnTo>
                      <a:lnTo>
                        <a:pt x="764" y="97"/>
                      </a:lnTo>
                      <a:lnTo>
                        <a:pt x="747" y="89"/>
                      </a:lnTo>
                      <a:lnTo>
                        <a:pt x="729" y="81"/>
                      </a:lnTo>
                      <a:lnTo>
                        <a:pt x="711" y="74"/>
                      </a:lnTo>
                      <a:lnTo>
                        <a:pt x="690" y="68"/>
                      </a:lnTo>
                      <a:lnTo>
                        <a:pt x="666" y="70"/>
                      </a:lnTo>
                      <a:lnTo>
                        <a:pt x="643" y="73"/>
                      </a:lnTo>
                      <a:lnTo>
                        <a:pt x="619" y="78"/>
                      </a:lnTo>
                      <a:lnTo>
                        <a:pt x="596" y="84"/>
                      </a:lnTo>
                      <a:lnTo>
                        <a:pt x="573" y="92"/>
                      </a:lnTo>
                      <a:lnTo>
                        <a:pt x="552" y="101"/>
                      </a:lnTo>
                      <a:lnTo>
                        <a:pt x="531" y="115"/>
                      </a:lnTo>
                      <a:lnTo>
                        <a:pt x="512" y="128"/>
                      </a:lnTo>
                      <a:lnTo>
                        <a:pt x="493" y="142"/>
                      </a:lnTo>
                      <a:lnTo>
                        <a:pt x="475" y="159"/>
                      </a:lnTo>
                      <a:lnTo>
                        <a:pt x="457" y="174"/>
                      </a:lnTo>
                      <a:lnTo>
                        <a:pt x="441" y="192"/>
                      </a:lnTo>
                      <a:lnTo>
                        <a:pt x="427" y="212"/>
                      </a:lnTo>
                      <a:lnTo>
                        <a:pt x="412" y="233"/>
                      </a:lnTo>
                      <a:lnTo>
                        <a:pt x="401" y="254"/>
                      </a:lnTo>
                      <a:lnTo>
                        <a:pt x="389" y="276"/>
                      </a:lnTo>
                      <a:lnTo>
                        <a:pt x="380" y="295"/>
                      </a:lnTo>
                      <a:lnTo>
                        <a:pt x="374" y="318"/>
                      </a:lnTo>
                      <a:lnTo>
                        <a:pt x="366" y="340"/>
                      </a:lnTo>
                      <a:lnTo>
                        <a:pt x="362" y="363"/>
                      </a:lnTo>
                      <a:lnTo>
                        <a:pt x="359" y="387"/>
                      </a:lnTo>
                      <a:lnTo>
                        <a:pt x="356" y="411"/>
                      </a:lnTo>
                      <a:lnTo>
                        <a:pt x="354" y="436"/>
                      </a:lnTo>
                      <a:lnTo>
                        <a:pt x="354" y="460"/>
                      </a:lnTo>
                      <a:lnTo>
                        <a:pt x="356" y="511"/>
                      </a:lnTo>
                      <a:lnTo>
                        <a:pt x="360" y="560"/>
                      </a:lnTo>
                      <a:lnTo>
                        <a:pt x="365" y="610"/>
                      </a:lnTo>
                      <a:lnTo>
                        <a:pt x="372" y="655"/>
                      </a:lnTo>
                      <a:lnTo>
                        <a:pt x="419" y="702"/>
                      </a:lnTo>
                      <a:lnTo>
                        <a:pt x="469" y="749"/>
                      </a:lnTo>
                      <a:lnTo>
                        <a:pt x="493" y="774"/>
                      </a:lnTo>
                      <a:lnTo>
                        <a:pt x="513" y="800"/>
                      </a:lnTo>
                      <a:lnTo>
                        <a:pt x="523" y="815"/>
                      </a:lnTo>
                      <a:lnTo>
                        <a:pt x="533" y="829"/>
                      </a:lnTo>
                      <a:lnTo>
                        <a:pt x="541" y="845"/>
                      </a:lnTo>
                      <a:lnTo>
                        <a:pt x="549" y="863"/>
                      </a:lnTo>
                      <a:lnTo>
                        <a:pt x="486" y="871"/>
                      </a:lnTo>
                      <a:lnTo>
                        <a:pt x="422" y="876"/>
                      </a:lnTo>
                      <a:lnTo>
                        <a:pt x="389" y="877"/>
                      </a:lnTo>
                      <a:lnTo>
                        <a:pt x="356" y="877"/>
                      </a:lnTo>
                      <a:lnTo>
                        <a:pt x="324" y="876"/>
                      </a:lnTo>
                      <a:lnTo>
                        <a:pt x="292" y="874"/>
                      </a:lnTo>
                      <a:lnTo>
                        <a:pt x="260" y="870"/>
                      </a:lnTo>
                      <a:lnTo>
                        <a:pt x="230" y="863"/>
                      </a:lnTo>
                      <a:lnTo>
                        <a:pt x="201" y="853"/>
                      </a:lnTo>
                      <a:lnTo>
                        <a:pt x="171" y="842"/>
                      </a:lnTo>
                      <a:lnTo>
                        <a:pt x="157" y="835"/>
                      </a:lnTo>
                      <a:lnTo>
                        <a:pt x="144" y="827"/>
                      </a:lnTo>
                      <a:lnTo>
                        <a:pt x="132" y="820"/>
                      </a:lnTo>
                      <a:lnTo>
                        <a:pt x="118" y="810"/>
                      </a:lnTo>
                      <a:lnTo>
                        <a:pt x="106" y="800"/>
                      </a:lnTo>
                      <a:lnTo>
                        <a:pt x="94" y="789"/>
                      </a:lnTo>
                      <a:lnTo>
                        <a:pt x="83" y="777"/>
                      </a:lnTo>
                      <a:lnTo>
                        <a:pt x="71" y="767"/>
                      </a:lnTo>
                      <a:lnTo>
                        <a:pt x="62" y="755"/>
                      </a:lnTo>
                      <a:lnTo>
                        <a:pt x="52" y="744"/>
                      </a:lnTo>
                      <a:lnTo>
                        <a:pt x="44" y="732"/>
                      </a:lnTo>
                      <a:lnTo>
                        <a:pt x="38" y="721"/>
                      </a:lnTo>
                      <a:lnTo>
                        <a:pt x="25" y="697"/>
                      </a:lnTo>
                      <a:lnTo>
                        <a:pt x="15" y="673"/>
                      </a:lnTo>
                      <a:lnTo>
                        <a:pt x="9" y="649"/>
                      </a:lnTo>
                      <a:lnTo>
                        <a:pt x="5" y="623"/>
                      </a:lnTo>
                      <a:lnTo>
                        <a:pt x="2" y="597"/>
                      </a:lnTo>
                      <a:lnTo>
                        <a:pt x="0" y="570"/>
                      </a:lnTo>
                      <a:lnTo>
                        <a:pt x="2" y="544"/>
                      </a:lnTo>
                      <a:lnTo>
                        <a:pt x="5" y="517"/>
                      </a:lnTo>
                      <a:lnTo>
                        <a:pt x="6" y="490"/>
                      </a:lnTo>
                      <a:lnTo>
                        <a:pt x="11" y="463"/>
                      </a:lnTo>
                      <a:lnTo>
                        <a:pt x="17" y="408"/>
                      </a:lnTo>
                      <a:lnTo>
                        <a:pt x="23" y="355"/>
                      </a:lnTo>
                      <a:lnTo>
                        <a:pt x="40" y="328"/>
                      </a:lnTo>
                      <a:lnTo>
                        <a:pt x="58" y="302"/>
                      </a:lnTo>
                      <a:lnTo>
                        <a:pt x="75" y="278"/>
                      </a:lnTo>
                      <a:lnTo>
                        <a:pt x="94" y="254"/>
                      </a:lnTo>
                      <a:lnTo>
                        <a:pt x="114" y="231"/>
                      </a:lnTo>
                      <a:lnTo>
                        <a:pt x="133" y="209"/>
                      </a:lnTo>
                      <a:lnTo>
                        <a:pt x="154" y="187"/>
                      </a:lnTo>
                      <a:lnTo>
                        <a:pt x="175" y="168"/>
                      </a:lnTo>
                      <a:lnTo>
                        <a:pt x="197" y="148"/>
                      </a:lnTo>
                      <a:lnTo>
                        <a:pt x="218" y="131"/>
                      </a:lnTo>
                      <a:lnTo>
                        <a:pt x="242" y="115"/>
                      </a:lnTo>
                      <a:lnTo>
                        <a:pt x="265" y="98"/>
                      </a:lnTo>
                      <a:lnTo>
                        <a:pt x="289" y="84"/>
                      </a:lnTo>
                      <a:lnTo>
                        <a:pt x="315" y="70"/>
                      </a:lnTo>
                      <a:lnTo>
                        <a:pt x="339" y="59"/>
                      </a:lnTo>
                      <a:lnTo>
                        <a:pt x="365" y="47"/>
                      </a:lnTo>
                      <a:lnTo>
                        <a:pt x="392" y="36"/>
                      </a:lnTo>
                      <a:lnTo>
                        <a:pt x="419" y="27"/>
                      </a:lnTo>
                      <a:lnTo>
                        <a:pt x="446" y="20"/>
                      </a:lnTo>
                      <a:lnTo>
                        <a:pt x="474" y="13"/>
                      </a:lnTo>
                      <a:lnTo>
                        <a:pt x="501" y="9"/>
                      </a:lnTo>
                      <a:lnTo>
                        <a:pt x="530" y="3"/>
                      </a:lnTo>
                      <a:lnTo>
                        <a:pt x="558" y="2"/>
                      </a:lnTo>
                      <a:lnTo>
                        <a:pt x="587" y="0"/>
                      </a:lnTo>
                      <a:lnTo>
                        <a:pt x="617" y="0"/>
                      </a:lnTo>
                      <a:lnTo>
                        <a:pt x="646" y="0"/>
                      </a:lnTo>
                      <a:lnTo>
                        <a:pt x="676" y="3"/>
                      </a:lnTo>
                      <a:lnTo>
                        <a:pt x="707" y="7"/>
                      </a:lnTo>
                      <a:lnTo>
                        <a:pt x="738" y="13"/>
                      </a:lnTo>
                      <a:lnTo>
                        <a:pt x="769" y="20"/>
                      </a:lnTo>
                      <a:lnTo>
                        <a:pt x="799" y="27"/>
                      </a:lnTo>
                      <a:lnTo>
                        <a:pt x="832" y="38"/>
                      </a:lnTo>
                      <a:lnTo>
                        <a:pt x="870" y="48"/>
                      </a:lnTo>
                      <a:lnTo>
                        <a:pt x="911" y="62"/>
                      </a:lnTo>
                      <a:lnTo>
                        <a:pt x="950" y="76"/>
                      </a:lnTo>
                      <a:lnTo>
                        <a:pt x="991" y="92"/>
                      </a:lnTo>
                      <a:lnTo>
                        <a:pt x="1032" y="109"/>
                      </a:lnTo>
                      <a:lnTo>
                        <a:pt x="1071" y="128"/>
                      </a:lnTo>
                      <a:lnTo>
                        <a:pt x="1110" y="147"/>
                      </a:lnTo>
                      <a:lnTo>
                        <a:pt x="1149" y="169"/>
                      </a:lnTo>
                      <a:lnTo>
                        <a:pt x="1186" y="194"/>
                      </a:lnTo>
                      <a:lnTo>
                        <a:pt x="1221" y="219"/>
                      </a:lnTo>
                      <a:lnTo>
                        <a:pt x="1236" y="234"/>
                      </a:lnTo>
                      <a:lnTo>
                        <a:pt x="1252" y="249"/>
                      </a:lnTo>
                      <a:lnTo>
                        <a:pt x="1269" y="265"/>
                      </a:lnTo>
                      <a:lnTo>
                        <a:pt x="1283" y="281"/>
                      </a:lnTo>
                      <a:lnTo>
                        <a:pt x="1298" y="298"/>
                      </a:lnTo>
                      <a:lnTo>
                        <a:pt x="1310" y="315"/>
                      </a:lnTo>
                      <a:lnTo>
                        <a:pt x="1324" y="333"/>
                      </a:lnTo>
                      <a:lnTo>
                        <a:pt x="1334" y="352"/>
                      </a:lnTo>
                      <a:lnTo>
                        <a:pt x="1346" y="372"/>
                      </a:lnTo>
                      <a:lnTo>
                        <a:pt x="1357" y="392"/>
                      </a:lnTo>
                      <a:lnTo>
                        <a:pt x="1365" y="413"/>
                      </a:lnTo>
                      <a:lnTo>
                        <a:pt x="1375" y="434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0840" y="219168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91" h="2042">
                      <a:moveTo>
                        <a:pt x="449" y="25"/>
                      </a:moveTo>
                      <a:lnTo>
                        <a:pt x="461" y="138"/>
                      </a:lnTo>
                      <a:lnTo>
                        <a:pt x="467" y="250"/>
                      </a:lnTo>
                      <a:lnTo>
                        <a:pt x="473" y="365"/>
                      </a:lnTo>
                      <a:lnTo>
                        <a:pt x="479" y="481"/>
                      </a:lnTo>
                      <a:lnTo>
                        <a:pt x="482" y="598"/>
                      </a:lnTo>
                      <a:lnTo>
                        <a:pt x="484" y="713"/>
                      </a:lnTo>
                      <a:lnTo>
                        <a:pt x="484" y="829"/>
                      </a:lnTo>
                      <a:lnTo>
                        <a:pt x="484" y="947"/>
                      </a:lnTo>
                      <a:lnTo>
                        <a:pt x="484" y="1064"/>
                      </a:lnTo>
                      <a:lnTo>
                        <a:pt x="484" y="1180"/>
                      </a:lnTo>
                      <a:lnTo>
                        <a:pt x="482" y="1298"/>
                      </a:lnTo>
                      <a:lnTo>
                        <a:pt x="481" y="1416"/>
                      </a:lnTo>
                      <a:lnTo>
                        <a:pt x="481" y="1533"/>
                      </a:lnTo>
                      <a:lnTo>
                        <a:pt x="481" y="1650"/>
                      </a:lnTo>
                      <a:lnTo>
                        <a:pt x="481" y="1767"/>
                      </a:lnTo>
                      <a:lnTo>
                        <a:pt x="482" y="1882"/>
                      </a:lnTo>
                      <a:lnTo>
                        <a:pt x="487" y="1894"/>
                      </a:lnTo>
                      <a:lnTo>
                        <a:pt x="493" y="1905"/>
                      </a:lnTo>
                      <a:lnTo>
                        <a:pt x="499" y="1915"/>
                      </a:lnTo>
                      <a:lnTo>
                        <a:pt x="508" y="1924"/>
                      </a:lnTo>
                      <a:lnTo>
                        <a:pt x="525" y="1942"/>
                      </a:lnTo>
                      <a:lnTo>
                        <a:pt x="544" y="1959"/>
                      </a:lnTo>
                      <a:lnTo>
                        <a:pt x="562" y="1977"/>
                      </a:lnTo>
                      <a:lnTo>
                        <a:pt x="577" y="1997"/>
                      </a:lnTo>
                      <a:lnTo>
                        <a:pt x="584" y="2006"/>
                      </a:lnTo>
                      <a:lnTo>
                        <a:pt x="588" y="2018"/>
                      </a:lnTo>
                      <a:lnTo>
                        <a:pt x="590" y="2029"/>
                      </a:lnTo>
                      <a:lnTo>
                        <a:pt x="591" y="2042"/>
                      </a:lnTo>
                      <a:lnTo>
                        <a:pt x="22" y="2042"/>
                      </a:lnTo>
                      <a:lnTo>
                        <a:pt x="150" y="1852"/>
                      </a:lnTo>
                      <a:lnTo>
                        <a:pt x="101" y="200"/>
                      </a:lnTo>
                      <a:lnTo>
                        <a:pt x="74" y="173"/>
                      </a:lnTo>
                      <a:lnTo>
                        <a:pt x="50" y="147"/>
                      </a:lnTo>
                      <a:lnTo>
                        <a:pt x="32" y="125"/>
                      </a:lnTo>
                      <a:lnTo>
                        <a:pt x="18" y="103"/>
                      </a:lnTo>
                      <a:lnTo>
                        <a:pt x="7" y="85"/>
                      </a:lnTo>
                      <a:lnTo>
                        <a:pt x="1" y="70"/>
                      </a:lnTo>
                      <a:lnTo>
                        <a:pt x="0" y="55"/>
                      </a:lnTo>
                      <a:lnTo>
                        <a:pt x="1" y="43"/>
                      </a:lnTo>
                      <a:lnTo>
                        <a:pt x="6" y="32"/>
                      </a:lnTo>
                      <a:lnTo>
                        <a:pt x="14" y="23"/>
                      </a:lnTo>
                      <a:lnTo>
                        <a:pt x="25" y="17"/>
                      </a:lnTo>
                      <a:lnTo>
                        <a:pt x="38" y="11"/>
                      </a:lnTo>
                      <a:lnTo>
                        <a:pt x="53" y="7"/>
                      </a:lnTo>
                      <a:lnTo>
                        <a:pt x="71" y="4"/>
                      </a:lnTo>
                      <a:lnTo>
                        <a:pt x="90" y="2"/>
                      </a:lnTo>
                      <a:lnTo>
                        <a:pt x="110" y="0"/>
                      </a:lnTo>
                      <a:lnTo>
                        <a:pt x="156" y="0"/>
                      </a:lnTo>
                      <a:lnTo>
                        <a:pt x="204" y="4"/>
                      </a:lnTo>
                      <a:lnTo>
                        <a:pt x="254" y="8"/>
                      </a:lnTo>
                      <a:lnTo>
                        <a:pt x="304" y="14"/>
                      </a:lnTo>
                      <a:lnTo>
                        <a:pt x="349" y="20"/>
                      </a:lnTo>
                      <a:lnTo>
                        <a:pt x="391" y="23"/>
                      </a:lnTo>
                      <a:lnTo>
                        <a:pt x="425" y="25"/>
                      </a:lnTo>
                      <a:lnTo>
                        <a:pt x="449" y="25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402600" y="2192760"/>
                  <a:ext cx="87840" cy="132120"/>
                </a:xfrm>
                <a:custGeom>
                  <a:avLst/>
                  <a:gdLst/>
                  <a:ahLst/>
                  <a:rect l="l" t="t" r="r" b="b"/>
                  <a:pathLst>
                    <a:path w="1366" h="2053">
                      <a:moveTo>
                        <a:pt x="1096" y="198"/>
                      </a:moveTo>
                      <a:lnTo>
                        <a:pt x="1122" y="232"/>
                      </a:lnTo>
                      <a:lnTo>
                        <a:pt x="1146" y="268"/>
                      </a:lnTo>
                      <a:lnTo>
                        <a:pt x="1169" y="303"/>
                      </a:lnTo>
                      <a:lnTo>
                        <a:pt x="1190" y="340"/>
                      </a:lnTo>
                      <a:lnTo>
                        <a:pt x="1211" y="378"/>
                      </a:lnTo>
                      <a:lnTo>
                        <a:pt x="1231" y="418"/>
                      </a:lnTo>
                      <a:lnTo>
                        <a:pt x="1249" y="458"/>
                      </a:lnTo>
                      <a:lnTo>
                        <a:pt x="1264" y="498"/>
                      </a:lnTo>
                      <a:lnTo>
                        <a:pt x="1281" y="539"/>
                      </a:lnTo>
                      <a:lnTo>
                        <a:pt x="1293" y="581"/>
                      </a:lnTo>
                      <a:lnTo>
                        <a:pt x="1306" y="623"/>
                      </a:lnTo>
                      <a:lnTo>
                        <a:pt x="1317" y="666"/>
                      </a:lnTo>
                      <a:lnTo>
                        <a:pt x="1329" y="709"/>
                      </a:lnTo>
                      <a:lnTo>
                        <a:pt x="1337" y="753"/>
                      </a:lnTo>
                      <a:lnTo>
                        <a:pt x="1345" y="796"/>
                      </a:lnTo>
                      <a:lnTo>
                        <a:pt x="1352" y="841"/>
                      </a:lnTo>
                      <a:lnTo>
                        <a:pt x="1356" y="887"/>
                      </a:lnTo>
                      <a:lnTo>
                        <a:pt x="1361" y="930"/>
                      </a:lnTo>
                      <a:lnTo>
                        <a:pt x="1364" y="976"/>
                      </a:lnTo>
                      <a:lnTo>
                        <a:pt x="1366" y="1021"/>
                      </a:lnTo>
                      <a:lnTo>
                        <a:pt x="1366" y="1066"/>
                      </a:lnTo>
                      <a:lnTo>
                        <a:pt x="1364" y="1110"/>
                      </a:lnTo>
                      <a:lnTo>
                        <a:pt x="1362" y="1156"/>
                      </a:lnTo>
                      <a:lnTo>
                        <a:pt x="1359" y="1200"/>
                      </a:lnTo>
                      <a:lnTo>
                        <a:pt x="1355" y="1245"/>
                      </a:lnTo>
                      <a:lnTo>
                        <a:pt x="1349" y="1289"/>
                      </a:lnTo>
                      <a:lnTo>
                        <a:pt x="1340" y="1331"/>
                      </a:lnTo>
                      <a:lnTo>
                        <a:pt x="1332" y="1375"/>
                      </a:lnTo>
                      <a:lnTo>
                        <a:pt x="1323" y="1419"/>
                      </a:lnTo>
                      <a:lnTo>
                        <a:pt x="1311" y="1461"/>
                      </a:lnTo>
                      <a:lnTo>
                        <a:pt x="1300" y="1503"/>
                      </a:lnTo>
                      <a:lnTo>
                        <a:pt x="1287" y="1544"/>
                      </a:lnTo>
                      <a:lnTo>
                        <a:pt x="1249" y="1616"/>
                      </a:lnTo>
                      <a:lnTo>
                        <a:pt x="1205" y="1688"/>
                      </a:lnTo>
                      <a:lnTo>
                        <a:pt x="1182" y="1724"/>
                      </a:lnTo>
                      <a:lnTo>
                        <a:pt x="1157" y="1761"/>
                      </a:lnTo>
                      <a:lnTo>
                        <a:pt x="1132" y="1797"/>
                      </a:lnTo>
                      <a:lnTo>
                        <a:pt x="1105" y="1830"/>
                      </a:lnTo>
                      <a:lnTo>
                        <a:pt x="1076" y="1862"/>
                      </a:lnTo>
                      <a:lnTo>
                        <a:pt x="1046" y="1895"/>
                      </a:lnTo>
                      <a:lnTo>
                        <a:pt x="1016" y="1924"/>
                      </a:lnTo>
                      <a:lnTo>
                        <a:pt x="984" y="1953"/>
                      </a:lnTo>
                      <a:lnTo>
                        <a:pt x="950" y="1978"/>
                      </a:lnTo>
                      <a:lnTo>
                        <a:pt x="915" y="2001"/>
                      </a:lnTo>
                      <a:lnTo>
                        <a:pt x="897" y="2012"/>
                      </a:lnTo>
                      <a:lnTo>
                        <a:pt x="879" y="2022"/>
                      </a:lnTo>
                      <a:lnTo>
                        <a:pt x="860" y="2030"/>
                      </a:lnTo>
                      <a:lnTo>
                        <a:pt x="840" y="2039"/>
                      </a:lnTo>
                      <a:lnTo>
                        <a:pt x="801" y="2045"/>
                      </a:lnTo>
                      <a:lnTo>
                        <a:pt x="763" y="2048"/>
                      </a:lnTo>
                      <a:lnTo>
                        <a:pt x="727" y="2051"/>
                      </a:lnTo>
                      <a:lnTo>
                        <a:pt x="692" y="2053"/>
                      </a:lnTo>
                      <a:lnTo>
                        <a:pt x="659" y="2053"/>
                      </a:lnTo>
                      <a:lnTo>
                        <a:pt x="627" y="2051"/>
                      </a:lnTo>
                      <a:lnTo>
                        <a:pt x="595" y="2049"/>
                      </a:lnTo>
                      <a:lnTo>
                        <a:pt x="567" y="2045"/>
                      </a:lnTo>
                      <a:lnTo>
                        <a:pt x="537" y="2040"/>
                      </a:lnTo>
                      <a:lnTo>
                        <a:pt x="508" y="2031"/>
                      </a:lnTo>
                      <a:lnTo>
                        <a:pt x="481" y="2024"/>
                      </a:lnTo>
                      <a:lnTo>
                        <a:pt x="453" y="2013"/>
                      </a:lnTo>
                      <a:lnTo>
                        <a:pt x="426" y="2003"/>
                      </a:lnTo>
                      <a:lnTo>
                        <a:pt x="399" y="1990"/>
                      </a:lnTo>
                      <a:lnTo>
                        <a:pt x="373" y="1975"/>
                      </a:lnTo>
                      <a:lnTo>
                        <a:pt x="346" y="1959"/>
                      </a:lnTo>
                      <a:lnTo>
                        <a:pt x="305" y="1930"/>
                      </a:lnTo>
                      <a:lnTo>
                        <a:pt x="267" y="1898"/>
                      </a:lnTo>
                      <a:lnTo>
                        <a:pt x="232" y="1865"/>
                      </a:lnTo>
                      <a:lnTo>
                        <a:pt x="202" y="1830"/>
                      </a:lnTo>
                      <a:lnTo>
                        <a:pt x="172" y="1794"/>
                      </a:lnTo>
                      <a:lnTo>
                        <a:pt x="146" y="1759"/>
                      </a:lnTo>
                      <a:lnTo>
                        <a:pt x="122" y="1720"/>
                      </a:lnTo>
                      <a:lnTo>
                        <a:pt x="101" y="1682"/>
                      </a:lnTo>
                      <a:lnTo>
                        <a:pt x="84" y="1641"/>
                      </a:lnTo>
                      <a:lnTo>
                        <a:pt x="68" y="1602"/>
                      </a:lnTo>
                      <a:lnTo>
                        <a:pt x="53" y="1559"/>
                      </a:lnTo>
                      <a:lnTo>
                        <a:pt x="42" y="1517"/>
                      </a:lnTo>
                      <a:lnTo>
                        <a:pt x="31" y="1473"/>
                      </a:lnTo>
                      <a:lnTo>
                        <a:pt x="22" y="1431"/>
                      </a:lnTo>
                      <a:lnTo>
                        <a:pt x="16" y="1385"/>
                      </a:lnTo>
                      <a:lnTo>
                        <a:pt x="10" y="1340"/>
                      </a:lnTo>
                      <a:lnTo>
                        <a:pt x="4" y="1295"/>
                      </a:lnTo>
                      <a:lnTo>
                        <a:pt x="3" y="1249"/>
                      </a:lnTo>
                      <a:lnTo>
                        <a:pt x="0" y="1203"/>
                      </a:lnTo>
                      <a:lnTo>
                        <a:pt x="0" y="1156"/>
                      </a:lnTo>
                      <a:lnTo>
                        <a:pt x="0" y="1062"/>
                      </a:lnTo>
                      <a:lnTo>
                        <a:pt x="3" y="968"/>
                      </a:lnTo>
                      <a:lnTo>
                        <a:pt x="7" y="874"/>
                      </a:lnTo>
                      <a:lnTo>
                        <a:pt x="10" y="779"/>
                      </a:lnTo>
                      <a:lnTo>
                        <a:pt x="13" y="687"/>
                      </a:lnTo>
                      <a:lnTo>
                        <a:pt x="15" y="595"/>
                      </a:lnTo>
                      <a:lnTo>
                        <a:pt x="25" y="546"/>
                      </a:lnTo>
                      <a:lnTo>
                        <a:pt x="39" y="499"/>
                      </a:lnTo>
                      <a:lnTo>
                        <a:pt x="55" y="451"/>
                      </a:lnTo>
                      <a:lnTo>
                        <a:pt x="74" y="403"/>
                      </a:lnTo>
                      <a:lnTo>
                        <a:pt x="97" y="356"/>
                      </a:lnTo>
                      <a:lnTo>
                        <a:pt x="121" y="311"/>
                      </a:lnTo>
                      <a:lnTo>
                        <a:pt x="146" y="268"/>
                      </a:lnTo>
                      <a:lnTo>
                        <a:pt x="178" y="226"/>
                      </a:lnTo>
                      <a:lnTo>
                        <a:pt x="192" y="206"/>
                      </a:lnTo>
                      <a:lnTo>
                        <a:pt x="208" y="186"/>
                      </a:lnTo>
                      <a:lnTo>
                        <a:pt x="226" y="168"/>
                      </a:lnTo>
                      <a:lnTo>
                        <a:pt x="243" y="150"/>
                      </a:lnTo>
                      <a:lnTo>
                        <a:pt x="261" y="132"/>
                      </a:lnTo>
                      <a:lnTo>
                        <a:pt x="279" y="116"/>
                      </a:lnTo>
                      <a:lnTo>
                        <a:pt x="299" y="100"/>
                      </a:lnTo>
                      <a:lnTo>
                        <a:pt x="317" y="85"/>
                      </a:lnTo>
                      <a:lnTo>
                        <a:pt x="337" y="73"/>
                      </a:lnTo>
                      <a:lnTo>
                        <a:pt x="358" y="59"/>
                      </a:lnTo>
                      <a:lnTo>
                        <a:pt x="379" y="47"/>
                      </a:lnTo>
                      <a:lnTo>
                        <a:pt x="402" y="35"/>
                      </a:lnTo>
                      <a:lnTo>
                        <a:pt x="423" y="26"/>
                      </a:lnTo>
                      <a:lnTo>
                        <a:pt x="446" y="17"/>
                      </a:lnTo>
                      <a:lnTo>
                        <a:pt x="468" y="9"/>
                      </a:lnTo>
                      <a:lnTo>
                        <a:pt x="492" y="5"/>
                      </a:lnTo>
                      <a:lnTo>
                        <a:pt x="535" y="2"/>
                      </a:lnTo>
                      <a:lnTo>
                        <a:pt x="579" y="0"/>
                      </a:lnTo>
                      <a:lnTo>
                        <a:pt x="623" y="0"/>
                      </a:lnTo>
                      <a:lnTo>
                        <a:pt x="665" y="2"/>
                      </a:lnTo>
                      <a:lnTo>
                        <a:pt x="706" y="5"/>
                      </a:lnTo>
                      <a:lnTo>
                        <a:pt x="748" y="9"/>
                      </a:lnTo>
                      <a:lnTo>
                        <a:pt x="789" y="17"/>
                      </a:lnTo>
                      <a:lnTo>
                        <a:pt x="829" y="27"/>
                      </a:lnTo>
                      <a:lnTo>
                        <a:pt x="868" y="38"/>
                      </a:lnTo>
                      <a:lnTo>
                        <a:pt x="904" y="53"/>
                      </a:lnTo>
                      <a:lnTo>
                        <a:pt x="940" y="70"/>
                      </a:lnTo>
                      <a:lnTo>
                        <a:pt x="975" y="88"/>
                      </a:lnTo>
                      <a:lnTo>
                        <a:pt x="992" y="100"/>
                      </a:lnTo>
                      <a:lnTo>
                        <a:pt x="1008" y="111"/>
                      </a:lnTo>
                      <a:lnTo>
                        <a:pt x="1024" y="124"/>
                      </a:lnTo>
                      <a:lnTo>
                        <a:pt x="1039" y="136"/>
                      </a:lnTo>
                      <a:lnTo>
                        <a:pt x="1055" y="151"/>
                      </a:lnTo>
                      <a:lnTo>
                        <a:pt x="1069" y="166"/>
                      </a:lnTo>
                      <a:lnTo>
                        <a:pt x="1082" y="182"/>
                      </a:lnTo>
                      <a:lnTo>
                        <a:pt x="1096" y="198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428520" y="2196000"/>
                  <a:ext cx="30240" cy="124920"/>
                </a:xfrm>
                <a:custGeom>
                  <a:avLst/>
                  <a:gdLst/>
                  <a:ahLst/>
                  <a:rect l="l" t="t" r="r" b="b"/>
                  <a:pathLst>
                    <a:path w="471" h="1939">
                      <a:moveTo>
                        <a:pt x="471" y="158"/>
                      </a:moveTo>
                      <a:lnTo>
                        <a:pt x="458" y="1827"/>
                      </a:lnTo>
                      <a:lnTo>
                        <a:pt x="445" y="1847"/>
                      </a:lnTo>
                      <a:lnTo>
                        <a:pt x="430" y="1862"/>
                      </a:lnTo>
                      <a:lnTo>
                        <a:pt x="416" y="1879"/>
                      </a:lnTo>
                      <a:lnTo>
                        <a:pt x="400" y="1892"/>
                      </a:lnTo>
                      <a:lnTo>
                        <a:pt x="384" y="1903"/>
                      </a:lnTo>
                      <a:lnTo>
                        <a:pt x="366" y="1915"/>
                      </a:lnTo>
                      <a:lnTo>
                        <a:pt x="348" y="1922"/>
                      </a:lnTo>
                      <a:lnTo>
                        <a:pt x="329" y="1929"/>
                      </a:lnTo>
                      <a:lnTo>
                        <a:pt x="309" y="1933"/>
                      </a:lnTo>
                      <a:lnTo>
                        <a:pt x="291" y="1937"/>
                      </a:lnTo>
                      <a:lnTo>
                        <a:pt x="271" y="1939"/>
                      </a:lnTo>
                      <a:lnTo>
                        <a:pt x="251" y="1939"/>
                      </a:lnTo>
                      <a:lnTo>
                        <a:pt x="230" y="1937"/>
                      </a:lnTo>
                      <a:lnTo>
                        <a:pt x="211" y="1935"/>
                      </a:lnTo>
                      <a:lnTo>
                        <a:pt x="191" y="1930"/>
                      </a:lnTo>
                      <a:lnTo>
                        <a:pt x="171" y="1924"/>
                      </a:lnTo>
                      <a:lnTo>
                        <a:pt x="149" y="1898"/>
                      </a:lnTo>
                      <a:lnTo>
                        <a:pt x="129" y="1872"/>
                      </a:lnTo>
                      <a:lnTo>
                        <a:pt x="111" y="1845"/>
                      </a:lnTo>
                      <a:lnTo>
                        <a:pt x="95" y="1816"/>
                      </a:lnTo>
                      <a:lnTo>
                        <a:pt x="81" y="1786"/>
                      </a:lnTo>
                      <a:lnTo>
                        <a:pt x="68" y="1758"/>
                      </a:lnTo>
                      <a:lnTo>
                        <a:pt x="56" y="1727"/>
                      </a:lnTo>
                      <a:lnTo>
                        <a:pt x="47" y="1695"/>
                      </a:lnTo>
                      <a:lnTo>
                        <a:pt x="38" y="1662"/>
                      </a:lnTo>
                      <a:lnTo>
                        <a:pt x="32" y="1630"/>
                      </a:lnTo>
                      <a:lnTo>
                        <a:pt x="26" y="1597"/>
                      </a:lnTo>
                      <a:lnTo>
                        <a:pt x="21" y="1563"/>
                      </a:lnTo>
                      <a:lnTo>
                        <a:pt x="17" y="1527"/>
                      </a:lnTo>
                      <a:lnTo>
                        <a:pt x="14" y="1493"/>
                      </a:lnTo>
                      <a:lnTo>
                        <a:pt x="13" y="1458"/>
                      </a:lnTo>
                      <a:lnTo>
                        <a:pt x="13" y="1420"/>
                      </a:lnTo>
                      <a:lnTo>
                        <a:pt x="11" y="1349"/>
                      </a:lnTo>
                      <a:lnTo>
                        <a:pt x="13" y="1275"/>
                      </a:lnTo>
                      <a:lnTo>
                        <a:pt x="14" y="1203"/>
                      </a:lnTo>
                      <a:lnTo>
                        <a:pt x="17" y="1129"/>
                      </a:lnTo>
                      <a:lnTo>
                        <a:pt x="20" y="1056"/>
                      </a:lnTo>
                      <a:lnTo>
                        <a:pt x="20" y="983"/>
                      </a:lnTo>
                      <a:lnTo>
                        <a:pt x="17" y="912"/>
                      </a:lnTo>
                      <a:lnTo>
                        <a:pt x="13" y="842"/>
                      </a:lnTo>
                      <a:lnTo>
                        <a:pt x="14" y="814"/>
                      </a:lnTo>
                      <a:lnTo>
                        <a:pt x="14" y="785"/>
                      </a:lnTo>
                      <a:lnTo>
                        <a:pt x="16" y="755"/>
                      </a:lnTo>
                      <a:lnTo>
                        <a:pt x="14" y="724"/>
                      </a:lnTo>
                      <a:lnTo>
                        <a:pt x="13" y="663"/>
                      </a:lnTo>
                      <a:lnTo>
                        <a:pt x="8" y="600"/>
                      </a:lnTo>
                      <a:lnTo>
                        <a:pt x="5" y="539"/>
                      </a:lnTo>
                      <a:lnTo>
                        <a:pt x="2" y="475"/>
                      </a:lnTo>
                      <a:lnTo>
                        <a:pt x="0" y="414"/>
                      </a:lnTo>
                      <a:lnTo>
                        <a:pt x="2" y="355"/>
                      </a:lnTo>
                      <a:lnTo>
                        <a:pt x="3" y="324"/>
                      </a:lnTo>
                      <a:lnTo>
                        <a:pt x="6" y="297"/>
                      </a:lnTo>
                      <a:lnTo>
                        <a:pt x="11" y="268"/>
                      </a:lnTo>
                      <a:lnTo>
                        <a:pt x="16" y="240"/>
                      </a:lnTo>
                      <a:lnTo>
                        <a:pt x="24" y="215"/>
                      </a:lnTo>
                      <a:lnTo>
                        <a:pt x="32" y="189"/>
                      </a:lnTo>
                      <a:lnTo>
                        <a:pt x="44" y="165"/>
                      </a:lnTo>
                      <a:lnTo>
                        <a:pt x="55" y="141"/>
                      </a:lnTo>
                      <a:lnTo>
                        <a:pt x="70" y="118"/>
                      </a:lnTo>
                      <a:lnTo>
                        <a:pt x="85" y="97"/>
                      </a:lnTo>
                      <a:lnTo>
                        <a:pt x="103" y="77"/>
                      </a:lnTo>
                      <a:lnTo>
                        <a:pt x="124" y="58"/>
                      </a:lnTo>
                      <a:lnTo>
                        <a:pt x="147" y="42"/>
                      </a:lnTo>
                      <a:lnTo>
                        <a:pt x="173" y="26"/>
                      </a:lnTo>
                      <a:lnTo>
                        <a:pt x="202" y="11"/>
                      </a:lnTo>
                      <a:lnTo>
                        <a:pt x="232" y="0"/>
                      </a:lnTo>
                      <a:lnTo>
                        <a:pt x="253" y="0"/>
                      </a:lnTo>
                      <a:lnTo>
                        <a:pt x="273" y="2"/>
                      </a:lnTo>
                      <a:lnTo>
                        <a:pt x="292" y="5"/>
                      </a:lnTo>
                      <a:lnTo>
                        <a:pt x="312" y="8"/>
                      </a:lnTo>
                      <a:lnTo>
                        <a:pt x="330" y="15"/>
                      </a:lnTo>
                      <a:lnTo>
                        <a:pt x="348" y="21"/>
                      </a:lnTo>
                      <a:lnTo>
                        <a:pt x="366" y="29"/>
                      </a:lnTo>
                      <a:lnTo>
                        <a:pt x="384" y="37"/>
                      </a:lnTo>
                      <a:lnTo>
                        <a:pt x="400" y="48"/>
                      </a:lnTo>
                      <a:lnTo>
                        <a:pt x="415" y="59"/>
                      </a:lnTo>
                      <a:lnTo>
                        <a:pt x="427" y="73"/>
                      </a:lnTo>
                      <a:lnTo>
                        <a:pt x="440" y="88"/>
                      </a:lnTo>
                      <a:lnTo>
                        <a:pt x="450" y="103"/>
                      </a:lnTo>
                      <a:lnTo>
                        <a:pt x="460" y="120"/>
                      </a:lnTo>
                      <a:lnTo>
                        <a:pt x="466" y="139"/>
                      </a:lnTo>
                      <a:lnTo>
                        <a:pt x="47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061400" y="2352240"/>
                  <a:ext cx="102600" cy="148320"/>
                </a:xfrm>
                <a:custGeom>
                  <a:avLst/>
                  <a:gdLst/>
                  <a:ahLst/>
                  <a:rect l="l" t="t" r="r" b="b"/>
                  <a:pathLst>
                    <a:path w="1588" h="2303">
                      <a:moveTo>
                        <a:pt x="1494" y="345"/>
                      </a:moveTo>
                      <a:lnTo>
                        <a:pt x="1503" y="366"/>
                      </a:lnTo>
                      <a:lnTo>
                        <a:pt x="1509" y="387"/>
                      </a:lnTo>
                      <a:lnTo>
                        <a:pt x="1514" y="407"/>
                      </a:lnTo>
                      <a:lnTo>
                        <a:pt x="1517" y="426"/>
                      </a:lnTo>
                      <a:lnTo>
                        <a:pt x="1520" y="446"/>
                      </a:lnTo>
                      <a:lnTo>
                        <a:pt x="1520" y="463"/>
                      </a:lnTo>
                      <a:lnTo>
                        <a:pt x="1520" y="481"/>
                      </a:lnTo>
                      <a:lnTo>
                        <a:pt x="1519" y="499"/>
                      </a:lnTo>
                      <a:lnTo>
                        <a:pt x="1516" y="516"/>
                      </a:lnTo>
                      <a:lnTo>
                        <a:pt x="1512" y="532"/>
                      </a:lnTo>
                      <a:lnTo>
                        <a:pt x="1508" y="549"/>
                      </a:lnTo>
                      <a:lnTo>
                        <a:pt x="1502" y="564"/>
                      </a:lnTo>
                      <a:lnTo>
                        <a:pt x="1494" y="581"/>
                      </a:lnTo>
                      <a:lnTo>
                        <a:pt x="1487" y="596"/>
                      </a:lnTo>
                      <a:lnTo>
                        <a:pt x="1479" y="611"/>
                      </a:lnTo>
                      <a:lnTo>
                        <a:pt x="1470" y="626"/>
                      </a:lnTo>
                      <a:lnTo>
                        <a:pt x="1449" y="653"/>
                      </a:lnTo>
                      <a:lnTo>
                        <a:pt x="1427" y="681"/>
                      </a:lnTo>
                      <a:lnTo>
                        <a:pt x="1402" y="706"/>
                      </a:lnTo>
                      <a:lnTo>
                        <a:pt x="1377" y="731"/>
                      </a:lnTo>
                      <a:lnTo>
                        <a:pt x="1324" y="777"/>
                      </a:lnTo>
                      <a:lnTo>
                        <a:pt x="1269" y="823"/>
                      </a:lnTo>
                      <a:lnTo>
                        <a:pt x="1193" y="852"/>
                      </a:lnTo>
                      <a:lnTo>
                        <a:pt x="1133" y="874"/>
                      </a:lnTo>
                      <a:lnTo>
                        <a:pt x="1107" y="888"/>
                      </a:lnTo>
                      <a:lnTo>
                        <a:pt x="1082" y="900"/>
                      </a:lnTo>
                      <a:lnTo>
                        <a:pt x="1057" y="916"/>
                      </a:lnTo>
                      <a:lnTo>
                        <a:pt x="1032" y="938"/>
                      </a:lnTo>
                      <a:lnTo>
                        <a:pt x="1035" y="947"/>
                      </a:lnTo>
                      <a:lnTo>
                        <a:pt x="1040" y="956"/>
                      </a:lnTo>
                      <a:lnTo>
                        <a:pt x="1045" y="963"/>
                      </a:lnTo>
                      <a:lnTo>
                        <a:pt x="1051" y="969"/>
                      </a:lnTo>
                      <a:lnTo>
                        <a:pt x="1062" y="981"/>
                      </a:lnTo>
                      <a:lnTo>
                        <a:pt x="1077" y="991"/>
                      </a:lnTo>
                      <a:lnTo>
                        <a:pt x="1093" y="997"/>
                      </a:lnTo>
                      <a:lnTo>
                        <a:pt x="1109" y="1001"/>
                      </a:lnTo>
                      <a:lnTo>
                        <a:pt x="1127" y="1007"/>
                      </a:lnTo>
                      <a:lnTo>
                        <a:pt x="1146" y="1009"/>
                      </a:lnTo>
                      <a:lnTo>
                        <a:pt x="1183" y="1013"/>
                      </a:lnTo>
                      <a:lnTo>
                        <a:pt x="1221" y="1019"/>
                      </a:lnTo>
                      <a:lnTo>
                        <a:pt x="1240" y="1024"/>
                      </a:lnTo>
                      <a:lnTo>
                        <a:pt x="1256" y="1030"/>
                      </a:lnTo>
                      <a:lnTo>
                        <a:pt x="1272" y="1037"/>
                      </a:lnTo>
                      <a:lnTo>
                        <a:pt x="1287" y="1047"/>
                      </a:lnTo>
                      <a:lnTo>
                        <a:pt x="1307" y="1059"/>
                      </a:lnTo>
                      <a:lnTo>
                        <a:pt x="1325" y="1069"/>
                      </a:lnTo>
                      <a:lnTo>
                        <a:pt x="1343" y="1081"/>
                      </a:lnTo>
                      <a:lnTo>
                        <a:pt x="1360" y="1092"/>
                      </a:lnTo>
                      <a:lnTo>
                        <a:pt x="1391" y="1118"/>
                      </a:lnTo>
                      <a:lnTo>
                        <a:pt x="1422" y="1145"/>
                      </a:lnTo>
                      <a:lnTo>
                        <a:pt x="1449" y="1175"/>
                      </a:lnTo>
                      <a:lnTo>
                        <a:pt x="1473" y="1207"/>
                      </a:lnTo>
                      <a:lnTo>
                        <a:pt x="1496" y="1239"/>
                      </a:lnTo>
                      <a:lnTo>
                        <a:pt x="1516" y="1275"/>
                      </a:lnTo>
                      <a:lnTo>
                        <a:pt x="1532" y="1310"/>
                      </a:lnTo>
                      <a:lnTo>
                        <a:pt x="1547" y="1347"/>
                      </a:lnTo>
                      <a:lnTo>
                        <a:pt x="1559" y="1385"/>
                      </a:lnTo>
                      <a:lnTo>
                        <a:pt x="1570" y="1425"/>
                      </a:lnTo>
                      <a:lnTo>
                        <a:pt x="1577" y="1463"/>
                      </a:lnTo>
                      <a:lnTo>
                        <a:pt x="1584" y="1503"/>
                      </a:lnTo>
                      <a:lnTo>
                        <a:pt x="1587" y="1546"/>
                      </a:lnTo>
                      <a:lnTo>
                        <a:pt x="1588" y="1585"/>
                      </a:lnTo>
                      <a:lnTo>
                        <a:pt x="1588" y="1608"/>
                      </a:lnTo>
                      <a:lnTo>
                        <a:pt x="1587" y="1630"/>
                      </a:lnTo>
                      <a:lnTo>
                        <a:pt x="1585" y="1653"/>
                      </a:lnTo>
                      <a:lnTo>
                        <a:pt x="1582" y="1674"/>
                      </a:lnTo>
                      <a:lnTo>
                        <a:pt x="1579" y="1697"/>
                      </a:lnTo>
                      <a:lnTo>
                        <a:pt x="1573" y="1718"/>
                      </a:lnTo>
                      <a:lnTo>
                        <a:pt x="1569" y="1739"/>
                      </a:lnTo>
                      <a:lnTo>
                        <a:pt x="1561" y="1760"/>
                      </a:lnTo>
                      <a:lnTo>
                        <a:pt x="1555" y="1779"/>
                      </a:lnTo>
                      <a:lnTo>
                        <a:pt x="1546" y="1800"/>
                      </a:lnTo>
                      <a:lnTo>
                        <a:pt x="1537" y="1819"/>
                      </a:lnTo>
                      <a:lnTo>
                        <a:pt x="1527" y="1839"/>
                      </a:lnTo>
                      <a:lnTo>
                        <a:pt x="1506" y="1876"/>
                      </a:lnTo>
                      <a:lnTo>
                        <a:pt x="1484" y="1913"/>
                      </a:lnTo>
                      <a:lnTo>
                        <a:pt x="1458" y="1948"/>
                      </a:lnTo>
                      <a:lnTo>
                        <a:pt x="1429" y="1983"/>
                      </a:lnTo>
                      <a:lnTo>
                        <a:pt x="1399" y="2015"/>
                      </a:lnTo>
                      <a:lnTo>
                        <a:pt x="1369" y="2046"/>
                      </a:lnTo>
                      <a:lnTo>
                        <a:pt x="1337" y="2078"/>
                      </a:lnTo>
                      <a:lnTo>
                        <a:pt x="1304" y="2107"/>
                      </a:lnTo>
                      <a:lnTo>
                        <a:pt x="1272" y="2134"/>
                      </a:lnTo>
                      <a:lnTo>
                        <a:pt x="1239" y="2160"/>
                      </a:lnTo>
                      <a:lnTo>
                        <a:pt x="1217" y="2175"/>
                      </a:lnTo>
                      <a:lnTo>
                        <a:pt x="1195" y="2185"/>
                      </a:lnTo>
                      <a:lnTo>
                        <a:pt x="1171" y="2199"/>
                      </a:lnTo>
                      <a:lnTo>
                        <a:pt x="1148" y="2210"/>
                      </a:lnTo>
                      <a:lnTo>
                        <a:pt x="1098" y="2231"/>
                      </a:lnTo>
                      <a:lnTo>
                        <a:pt x="1047" y="2250"/>
                      </a:lnTo>
                      <a:lnTo>
                        <a:pt x="995" y="2266"/>
                      </a:lnTo>
                      <a:lnTo>
                        <a:pt x="939" y="2279"/>
                      </a:lnTo>
                      <a:lnTo>
                        <a:pt x="885" y="2290"/>
                      </a:lnTo>
                      <a:lnTo>
                        <a:pt x="829" y="2297"/>
                      </a:lnTo>
                      <a:lnTo>
                        <a:pt x="773" y="2302"/>
                      </a:lnTo>
                      <a:lnTo>
                        <a:pt x="716" y="2303"/>
                      </a:lnTo>
                      <a:lnTo>
                        <a:pt x="688" y="2303"/>
                      </a:lnTo>
                      <a:lnTo>
                        <a:pt x="661" y="2302"/>
                      </a:lnTo>
                      <a:lnTo>
                        <a:pt x="632" y="2299"/>
                      </a:lnTo>
                      <a:lnTo>
                        <a:pt x="605" y="2297"/>
                      </a:lnTo>
                      <a:lnTo>
                        <a:pt x="578" y="2291"/>
                      </a:lnTo>
                      <a:lnTo>
                        <a:pt x="551" y="2287"/>
                      </a:lnTo>
                      <a:lnTo>
                        <a:pt x="524" y="2282"/>
                      </a:lnTo>
                      <a:lnTo>
                        <a:pt x="496" y="2276"/>
                      </a:lnTo>
                      <a:lnTo>
                        <a:pt x="470" y="2267"/>
                      </a:lnTo>
                      <a:lnTo>
                        <a:pt x="445" y="2260"/>
                      </a:lnTo>
                      <a:lnTo>
                        <a:pt x="421" y="2250"/>
                      </a:lnTo>
                      <a:lnTo>
                        <a:pt x="396" y="2238"/>
                      </a:lnTo>
                      <a:lnTo>
                        <a:pt x="339" y="2210"/>
                      </a:lnTo>
                      <a:lnTo>
                        <a:pt x="282" y="2181"/>
                      </a:lnTo>
                      <a:lnTo>
                        <a:pt x="254" y="2164"/>
                      </a:lnTo>
                      <a:lnTo>
                        <a:pt x="227" y="2150"/>
                      </a:lnTo>
                      <a:lnTo>
                        <a:pt x="200" y="2134"/>
                      </a:lnTo>
                      <a:lnTo>
                        <a:pt x="174" y="2117"/>
                      </a:lnTo>
                      <a:lnTo>
                        <a:pt x="150" y="2098"/>
                      </a:lnTo>
                      <a:lnTo>
                        <a:pt x="126" y="2079"/>
                      </a:lnTo>
                      <a:lnTo>
                        <a:pt x="103" y="2058"/>
                      </a:lnTo>
                      <a:lnTo>
                        <a:pt x="82" y="2036"/>
                      </a:lnTo>
                      <a:lnTo>
                        <a:pt x="62" y="2011"/>
                      </a:lnTo>
                      <a:lnTo>
                        <a:pt x="45" y="1984"/>
                      </a:lnTo>
                      <a:lnTo>
                        <a:pt x="29" y="1955"/>
                      </a:lnTo>
                      <a:lnTo>
                        <a:pt x="15" y="1921"/>
                      </a:lnTo>
                      <a:lnTo>
                        <a:pt x="9" y="1894"/>
                      </a:lnTo>
                      <a:lnTo>
                        <a:pt x="5" y="1865"/>
                      </a:lnTo>
                      <a:lnTo>
                        <a:pt x="1" y="1837"/>
                      </a:lnTo>
                      <a:lnTo>
                        <a:pt x="0" y="1809"/>
                      </a:lnTo>
                      <a:lnTo>
                        <a:pt x="0" y="1780"/>
                      </a:lnTo>
                      <a:lnTo>
                        <a:pt x="1" y="1753"/>
                      </a:lnTo>
                      <a:lnTo>
                        <a:pt x="5" y="1726"/>
                      </a:lnTo>
                      <a:lnTo>
                        <a:pt x="9" y="1698"/>
                      </a:lnTo>
                      <a:lnTo>
                        <a:pt x="14" y="1671"/>
                      </a:lnTo>
                      <a:lnTo>
                        <a:pt x="21" y="1644"/>
                      </a:lnTo>
                      <a:lnTo>
                        <a:pt x="29" y="1618"/>
                      </a:lnTo>
                      <a:lnTo>
                        <a:pt x="36" y="1592"/>
                      </a:lnTo>
                      <a:lnTo>
                        <a:pt x="47" y="1567"/>
                      </a:lnTo>
                      <a:lnTo>
                        <a:pt x="56" y="1542"/>
                      </a:lnTo>
                      <a:lnTo>
                        <a:pt x="65" y="1517"/>
                      </a:lnTo>
                      <a:lnTo>
                        <a:pt x="77" y="1494"/>
                      </a:lnTo>
                      <a:lnTo>
                        <a:pt x="101" y="1471"/>
                      </a:lnTo>
                      <a:lnTo>
                        <a:pt x="126" y="1452"/>
                      </a:lnTo>
                      <a:lnTo>
                        <a:pt x="153" y="1434"/>
                      </a:lnTo>
                      <a:lnTo>
                        <a:pt x="180" y="1417"/>
                      </a:lnTo>
                      <a:lnTo>
                        <a:pt x="209" y="1403"/>
                      </a:lnTo>
                      <a:lnTo>
                        <a:pt x="239" y="1392"/>
                      </a:lnTo>
                      <a:lnTo>
                        <a:pt x="269" y="1382"/>
                      </a:lnTo>
                      <a:lnTo>
                        <a:pt x="300" y="1375"/>
                      </a:lnTo>
                      <a:lnTo>
                        <a:pt x="330" y="1370"/>
                      </a:lnTo>
                      <a:lnTo>
                        <a:pt x="363" y="1364"/>
                      </a:lnTo>
                      <a:lnTo>
                        <a:pt x="393" y="1363"/>
                      </a:lnTo>
                      <a:lnTo>
                        <a:pt x="424" y="1363"/>
                      </a:lnTo>
                      <a:lnTo>
                        <a:pt x="454" y="1364"/>
                      </a:lnTo>
                      <a:lnTo>
                        <a:pt x="485" y="1367"/>
                      </a:lnTo>
                      <a:lnTo>
                        <a:pt x="514" y="1373"/>
                      </a:lnTo>
                      <a:lnTo>
                        <a:pt x="542" y="1379"/>
                      </a:lnTo>
                      <a:lnTo>
                        <a:pt x="525" y="1396"/>
                      </a:lnTo>
                      <a:lnTo>
                        <a:pt x="511" y="1411"/>
                      </a:lnTo>
                      <a:lnTo>
                        <a:pt x="496" y="1428"/>
                      </a:lnTo>
                      <a:lnTo>
                        <a:pt x="484" y="1446"/>
                      </a:lnTo>
                      <a:lnTo>
                        <a:pt x="470" y="1463"/>
                      </a:lnTo>
                      <a:lnTo>
                        <a:pt x="458" y="1482"/>
                      </a:lnTo>
                      <a:lnTo>
                        <a:pt x="446" y="1500"/>
                      </a:lnTo>
                      <a:lnTo>
                        <a:pt x="437" y="1520"/>
                      </a:lnTo>
                      <a:lnTo>
                        <a:pt x="417" y="1559"/>
                      </a:lnTo>
                      <a:lnTo>
                        <a:pt x="403" y="1600"/>
                      </a:lnTo>
                      <a:lnTo>
                        <a:pt x="389" y="1642"/>
                      </a:lnTo>
                      <a:lnTo>
                        <a:pt x="378" y="1684"/>
                      </a:lnTo>
                      <a:lnTo>
                        <a:pt x="372" y="1727"/>
                      </a:lnTo>
                      <a:lnTo>
                        <a:pt x="367" y="1771"/>
                      </a:lnTo>
                      <a:lnTo>
                        <a:pt x="366" y="1815"/>
                      </a:lnTo>
                      <a:lnTo>
                        <a:pt x="366" y="1859"/>
                      </a:lnTo>
                      <a:lnTo>
                        <a:pt x="369" y="1903"/>
                      </a:lnTo>
                      <a:lnTo>
                        <a:pt x="375" y="1947"/>
                      </a:lnTo>
                      <a:lnTo>
                        <a:pt x="386" y="1989"/>
                      </a:lnTo>
                      <a:lnTo>
                        <a:pt x="396" y="2033"/>
                      </a:lnTo>
                      <a:lnTo>
                        <a:pt x="399" y="2046"/>
                      </a:lnTo>
                      <a:lnTo>
                        <a:pt x="404" y="2060"/>
                      </a:lnTo>
                      <a:lnTo>
                        <a:pt x="410" y="2072"/>
                      </a:lnTo>
                      <a:lnTo>
                        <a:pt x="416" y="2084"/>
                      </a:lnTo>
                      <a:lnTo>
                        <a:pt x="422" y="2093"/>
                      </a:lnTo>
                      <a:lnTo>
                        <a:pt x="430" y="2104"/>
                      </a:lnTo>
                      <a:lnTo>
                        <a:pt x="439" y="2113"/>
                      </a:lnTo>
                      <a:lnTo>
                        <a:pt x="446" y="2121"/>
                      </a:lnTo>
                      <a:lnTo>
                        <a:pt x="464" y="2134"/>
                      </a:lnTo>
                      <a:lnTo>
                        <a:pt x="485" y="2146"/>
                      </a:lnTo>
                      <a:lnTo>
                        <a:pt x="506" y="2155"/>
                      </a:lnTo>
                      <a:lnTo>
                        <a:pt x="529" y="2163"/>
                      </a:lnTo>
                      <a:lnTo>
                        <a:pt x="575" y="2176"/>
                      </a:lnTo>
                      <a:lnTo>
                        <a:pt x="622" y="2185"/>
                      </a:lnTo>
                      <a:lnTo>
                        <a:pt x="646" y="2190"/>
                      </a:lnTo>
                      <a:lnTo>
                        <a:pt x="669" y="2195"/>
                      </a:lnTo>
                      <a:lnTo>
                        <a:pt x="691" y="2202"/>
                      </a:lnTo>
                      <a:lnTo>
                        <a:pt x="714" y="2208"/>
                      </a:lnTo>
                      <a:lnTo>
                        <a:pt x="738" y="2208"/>
                      </a:lnTo>
                      <a:lnTo>
                        <a:pt x="764" y="2207"/>
                      </a:lnTo>
                      <a:lnTo>
                        <a:pt x="790" y="2203"/>
                      </a:lnTo>
                      <a:lnTo>
                        <a:pt x="814" y="2199"/>
                      </a:lnTo>
                      <a:lnTo>
                        <a:pt x="838" y="2193"/>
                      </a:lnTo>
                      <a:lnTo>
                        <a:pt x="861" y="2187"/>
                      </a:lnTo>
                      <a:lnTo>
                        <a:pt x="883" y="2178"/>
                      </a:lnTo>
                      <a:lnTo>
                        <a:pt x="906" y="2167"/>
                      </a:lnTo>
                      <a:lnTo>
                        <a:pt x="927" y="2157"/>
                      </a:lnTo>
                      <a:lnTo>
                        <a:pt x="948" y="2143"/>
                      </a:lnTo>
                      <a:lnTo>
                        <a:pt x="968" y="2129"/>
                      </a:lnTo>
                      <a:lnTo>
                        <a:pt x="986" y="2113"/>
                      </a:lnTo>
                      <a:lnTo>
                        <a:pt x="1003" y="2095"/>
                      </a:lnTo>
                      <a:lnTo>
                        <a:pt x="1021" y="2076"/>
                      </a:lnTo>
                      <a:lnTo>
                        <a:pt x="1035" y="2055"/>
                      </a:lnTo>
                      <a:lnTo>
                        <a:pt x="1050" y="2033"/>
                      </a:lnTo>
                      <a:lnTo>
                        <a:pt x="1066" y="1908"/>
                      </a:lnTo>
                      <a:lnTo>
                        <a:pt x="1085" y="1773"/>
                      </a:lnTo>
                      <a:lnTo>
                        <a:pt x="1095" y="1703"/>
                      </a:lnTo>
                      <a:lnTo>
                        <a:pt x="1101" y="1632"/>
                      </a:lnTo>
                      <a:lnTo>
                        <a:pt x="1104" y="1595"/>
                      </a:lnTo>
                      <a:lnTo>
                        <a:pt x="1106" y="1559"/>
                      </a:lnTo>
                      <a:lnTo>
                        <a:pt x="1106" y="1524"/>
                      </a:lnTo>
                      <a:lnTo>
                        <a:pt x="1107" y="1490"/>
                      </a:lnTo>
                      <a:lnTo>
                        <a:pt x="1106" y="1455"/>
                      </a:lnTo>
                      <a:lnTo>
                        <a:pt x="1104" y="1421"/>
                      </a:lnTo>
                      <a:lnTo>
                        <a:pt x="1101" y="1385"/>
                      </a:lnTo>
                      <a:lnTo>
                        <a:pt x="1096" y="1353"/>
                      </a:lnTo>
                      <a:lnTo>
                        <a:pt x="1090" y="1319"/>
                      </a:lnTo>
                      <a:lnTo>
                        <a:pt x="1083" y="1289"/>
                      </a:lnTo>
                      <a:lnTo>
                        <a:pt x="1074" y="1257"/>
                      </a:lnTo>
                      <a:lnTo>
                        <a:pt x="1062" y="1228"/>
                      </a:lnTo>
                      <a:lnTo>
                        <a:pt x="1051" y="1198"/>
                      </a:lnTo>
                      <a:lnTo>
                        <a:pt x="1036" y="1169"/>
                      </a:lnTo>
                      <a:lnTo>
                        <a:pt x="1019" y="1143"/>
                      </a:lnTo>
                      <a:lnTo>
                        <a:pt x="1001" y="1118"/>
                      </a:lnTo>
                      <a:lnTo>
                        <a:pt x="980" y="1094"/>
                      </a:lnTo>
                      <a:lnTo>
                        <a:pt x="957" y="1071"/>
                      </a:lnTo>
                      <a:lnTo>
                        <a:pt x="932" y="1050"/>
                      </a:lnTo>
                      <a:lnTo>
                        <a:pt x="903" y="1030"/>
                      </a:lnTo>
                      <a:lnTo>
                        <a:pt x="867" y="1027"/>
                      </a:lnTo>
                      <a:lnTo>
                        <a:pt x="832" y="1026"/>
                      </a:lnTo>
                      <a:lnTo>
                        <a:pt x="798" y="1024"/>
                      </a:lnTo>
                      <a:lnTo>
                        <a:pt x="762" y="1024"/>
                      </a:lnTo>
                      <a:lnTo>
                        <a:pt x="727" y="1024"/>
                      </a:lnTo>
                      <a:lnTo>
                        <a:pt x="690" y="1024"/>
                      </a:lnTo>
                      <a:lnTo>
                        <a:pt x="653" y="1026"/>
                      </a:lnTo>
                      <a:lnTo>
                        <a:pt x="613" y="1026"/>
                      </a:lnTo>
                      <a:lnTo>
                        <a:pt x="620" y="1010"/>
                      </a:lnTo>
                      <a:lnTo>
                        <a:pt x="631" y="997"/>
                      </a:lnTo>
                      <a:lnTo>
                        <a:pt x="641" y="983"/>
                      </a:lnTo>
                      <a:lnTo>
                        <a:pt x="655" y="969"/>
                      </a:lnTo>
                      <a:lnTo>
                        <a:pt x="667" y="957"/>
                      </a:lnTo>
                      <a:lnTo>
                        <a:pt x="681" y="945"/>
                      </a:lnTo>
                      <a:lnTo>
                        <a:pt x="694" y="934"/>
                      </a:lnTo>
                      <a:lnTo>
                        <a:pt x="709" y="923"/>
                      </a:lnTo>
                      <a:lnTo>
                        <a:pt x="774" y="884"/>
                      </a:lnTo>
                      <a:lnTo>
                        <a:pt x="841" y="845"/>
                      </a:lnTo>
                      <a:lnTo>
                        <a:pt x="874" y="826"/>
                      </a:lnTo>
                      <a:lnTo>
                        <a:pt x="906" y="805"/>
                      </a:lnTo>
                      <a:lnTo>
                        <a:pt x="936" y="782"/>
                      </a:lnTo>
                      <a:lnTo>
                        <a:pt x="962" y="758"/>
                      </a:lnTo>
                      <a:lnTo>
                        <a:pt x="976" y="746"/>
                      </a:lnTo>
                      <a:lnTo>
                        <a:pt x="986" y="732"/>
                      </a:lnTo>
                      <a:lnTo>
                        <a:pt x="998" y="718"/>
                      </a:lnTo>
                      <a:lnTo>
                        <a:pt x="1006" y="702"/>
                      </a:lnTo>
                      <a:lnTo>
                        <a:pt x="1014" y="685"/>
                      </a:lnTo>
                      <a:lnTo>
                        <a:pt x="1022" y="670"/>
                      </a:lnTo>
                      <a:lnTo>
                        <a:pt x="1027" y="652"/>
                      </a:lnTo>
                      <a:lnTo>
                        <a:pt x="1032" y="632"/>
                      </a:lnTo>
                      <a:lnTo>
                        <a:pt x="1040" y="561"/>
                      </a:lnTo>
                      <a:lnTo>
                        <a:pt x="1050" y="487"/>
                      </a:lnTo>
                      <a:lnTo>
                        <a:pt x="1053" y="451"/>
                      </a:lnTo>
                      <a:lnTo>
                        <a:pt x="1054" y="415"/>
                      </a:lnTo>
                      <a:lnTo>
                        <a:pt x="1054" y="378"/>
                      </a:lnTo>
                      <a:lnTo>
                        <a:pt x="1051" y="342"/>
                      </a:lnTo>
                      <a:lnTo>
                        <a:pt x="1047" y="307"/>
                      </a:lnTo>
                      <a:lnTo>
                        <a:pt x="1038" y="272"/>
                      </a:lnTo>
                      <a:lnTo>
                        <a:pt x="1033" y="257"/>
                      </a:lnTo>
                      <a:lnTo>
                        <a:pt x="1027" y="240"/>
                      </a:lnTo>
                      <a:lnTo>
                        <a:pt x="1021" y="224"/>
                      </a:lnTo>
                      <a:lnTo>
                        <a:pt x="1012" y="210"/>
                      </a:lnTo>
                      <a:lnTo>
                        <a:pt x="1003" y="195"/>
                      </a:lnTo>
                      <a:lnTo>
                        <a:pt x="994" y="181"/>
                      </a:lnTo>
                      <a:lnTo>
                        <a:pt x="980" y="168"/>
                      </a:lnTo>
                      <a:lnTo>
                        <a:pt x="968" y="154"/>
                      </a:lnTo>
                      <a:lnTo>
                        <a:pt x="954" y="142"/>
                      </a:lnTo>
                      <a:lnTo>
                        <a:pt x="938" y="130"/>
                      </a:lnTo>
                      <a:lnTo>
                        <a:pt x="922" y="118"/>
                      </a:lnTo>
                      <a:lnTo>
                        <a:pt x="903" y="107"/>
                      </a:lnTo>
                      <a:lnTo>
                        <a:pt x="880" y="102"/>
                      </a:lnTo>
                      <a:lnTo>
                        <a:pt x="858" y="98"/>
                      </a:lnTo>
                      <a:lnTo>
                        <a:pt x="835" y="95"/>
                      </a:lnTo>
                      <a:lnTo>
                        <a:pt x="811" y="94"/>
                      </a:lnTo>
                      <a:lnTo>
                        <a:pt x="787" y="94"/>
                      </a:lnTo>
                      <a:lnTo>
                        <a:pt x="764" y="94"/>
                      </a:lnTo>
                      <a:lnTo>
                        <a:pt x="740" y="97"/>
                      </a:lnTo>
                      <a:lnTo>
                        <a:pt x="717" y="100"/>
                      </a:lnTo>
                      <a:lnTo>
                        <a:pt x="694" y="107"/>
                      </a:lnTo>
                      <a:lnTo>
                        <a:pt x="672" y="113"/>
                      </a:lnTo>
                      <a:lnTo>
                        <a:pt x="652" y="121"/>
                      </a:lnTo>
                      <a:lnTo>
                        <a:pt x="631" y="131"/>
                      </a:lnTo>
                      <a:lnTo>
                        <a:pt x="609" y="142"/>
                      </a:lnTo>
                      <a:lnTo>
                        <a:pt x="590" y="156"/>
                      </a:lnTo>
                      <a:lnTo>
                        <a:pt x="572" y="169"/>
                      </a:lnTo>
                      <a:lnTo>
                        <a:pt x="555" y="187"/>
                      </a:lnTo>
                      <a:lnTo>
                        <a:pt x="543" y="205"/>
                      </a:lnTo>
                      <a:lnTo>
                        <a:pt x="534" y="224"/>
                      </a:lnTo>
                      <a:lnTo>
                        <a:pt x="524" y="245"/>
                      </a:lnTo>
                      <a:lnTo>
                        <a:pt x="517" y="266"/>
                      </a:lnTo>
                      <a:lnTo>
                        <a:pt x="513" y="289"/>
                      </a:lnTo>
                      <a:lnTo>
                        <a:pt x="508" y="313"/>
                      </a:lnTo>
                      <a:lnTo>
                        <a:pt x="506" y="336"/>
                      </a:lnTo>
                      <a:lnTo>
                        <a:pt x="505" y="360"/>
                      </a:lnTo>
                      <a:lnTo>
                        <a:pt x="505" y="384"/>
                      </a:lnTo>
                      <a:lnTo>
                        <a:pt x="506" y="408"/>
                      </a:lnTo>
                      <a:lnTo>
                        <a:pt x="510" y="433"/>
                      </a:lnTo>
                      <a:lnTo>
                        <a:pt x="514" y="455"/>
                      </a:lnTo>
                      <a:lnTo>
                        <a:pt x="519" y="478"/>
                      </a:lnTo>
                      <a:lnTo>
                        <a:pt x="525" y="500"/>
                      </a:lnTo>
                      <a:lnTo>
                        <a:pt x="532" y="520"/>
                      </a:lnTo>
                      <a:lnTo>
                        <a:pt x="542" y="540"/>
                      </a:lnTo>
                      <a:lnTo>
                        <a:pt x="548" y="550"/>
                      </a:lnTo>
                      <a:lnTo>
                        <a:pt x="556" y="560"/>
                      </a:lnTo>
                      <a:lnTo>
                        <a:pt x="566" y="570"/>
                      </a:lnTo>
                      <a:lnTo>
                        <a:pt x="575" y="578"/>
                      </a:lnTo>
                      <a:lnTo>
                        <a:pt x="596" y="591"/>
                      </a:lnTo>
                      <a:lnTo>
                        <a:pt x="616" y="603"/>
                      </a:lnTo>
                      <a:lnTo>
                        <a:pt x="626" y="611"/>
                      </a:lnTo>
                      <a:lnTo>
                        <a:pt x="635" y="618"/>
                      </a:lnTo>
                      <a:lnTo>
                        <a:pt x="643" y="626"/>
                      </a:lnTo>
                      <a:lnTo>
                        <a:pt x="652" y="634"/>
                      </a:lnTo>
                      <a:lnTo>
                        <a:pt x="656" y="644"/>
                      </a:lnTo>
                      <a:lnTo>
                        <a:pt x="661" y="655"/>
                      </a:lnTo>
                      <a:lnTo>
                        <a:pt x="664" y="668"/>
                      </a:lnTo>
                      <a:lnTo>
                        <a:pt x="664" y="681"/>
                      </a:lnTo>
                      <a:lnTo>
                        <a:pt x="648" y="691"/>
                      </a:lnTo>
                      <a:lnTo>
                        <a:pt x="631" y="699"/>
                      </a:lnTo>
                      <a:lnTo>
                        <a:pt x="611" y="705"/>
                      </a:lnTo>
                      <a:lnTo>
                        <a:pt x="591" y="714"/>
                      </a:lnTo>
                      <a:lnTo>
                        <a:pt x="570" y="718"/>
                      </a:lnTo>
                      <a:lnTo>
                        <a:pt x="549" y="723"/>
                      </a:lnTo>
                      <a:lnTo>
                        <a:pt x="529" y="728"/>
                      </a:lnTo>
                      <a:lnTo>
                        <a:pt x="508" y="729"/>
                      </a:lnTo>
                      <a:lnTo>
                        <a:pt x="487" y="731"/>
                      </a:lnTo>
                      <a:lnTo>
                        <a:pt x="466" y="731"/>
                      </a:lnTo>
                      <a:lnTo>
                        <a:pt x="445" y="731"/>
                      </a:lnTo>
                      <a:lnTo>
                        <a:pt x="424" y="728"/>
                      </a:lnTo>
                      <a:lnTo>
                        <a:pt x="403" y="723"/>
                      </a:lnTo>
                      <a:lnTo>
                        <a:pt x="384" y="717"/>
                      </a:lnTo>
                      <a:lnTo>
                        <a:pt x="364" y="708"/>
                      </a:lnTo>
                      <a:lnTo>
                        <a:pt x="346" y="699"/>
                      </a:lnTo>
                      <a:lnTo>
                        <a:pt x="333" y="694"/>
                      </a:lnTo>
                      <a:lnTo>
                        <a:pt x="319" y="687"/>
                      </a:lnTo>
                      <a:lnTo>
                        <a:pt x="306" y="679"/>
                      </a:lnTo>
                      <a:lnTo>
                        <a:pt x="293" y="673"/>
                      </a:lnTo>
                      <a:lnTo>
                        <a:pt x="271" y="655"/>
                      </a:lnTo>
                      <a:lnTo>
                        <a:pt x="250" y="635"/>
                      </a:lnTo>
                      <a:lnTo>
                        <a:pt x="232" y="614"/>
                      </a:lnTo>
                      <a:lnTo>
                        <a:pt x="216" y="593"/>
                      </a:lnTo>
                      <a:lnTo>
                        <a:pt x="203" y="568"/>
                      </a:lnTo>
                      <a:lnTo>
                        <a:pt x="192" y="543"/>
                      </a:lnTo>
                      <a:lnTo>
                        <a:pt x="182" y="514"/>
                      </a:lnTo>
                      <a:lnTo>
                        <a:pt x="177" y="487"/>
                      </a:lnTo>
                      <a:lnTo>
                        <a:pt x="172" y="458"/>
                      </a:lnTo>
                      <a:lnTo>
                        <a:pt x="171" y="431"/>
                      </a:lnTo>
                      <a:lnTo>
                        <a:pt x="172" y="402"/>
                      </a:lnTo>
                      <a:lnTo>
                        <a:pt x="175" y="373"/>
                      </a:lnTo>
                      <a:lnTo>
                        <a:pt x="180" y="343"/>
                      </a:lnTo>
                      <a:lnTo>
                        <a:pt x="189" y="315"/>
                      </a:lnTo>
                      <a:lnTo>
                        <a:pt x="193" y="299"/>
                      </a:lnTo>
                      <a:lnTo>
                        <a:pt x="198" y="283"/>
                      </a:lnTo>
                      <a:lnTo>
                        <a:pt x="204" y="268"/>
                      </a:lnTo>
                      <a:lnTo>
                        <a:pt x="210" y="252"/>
                      </a:lnTo>
                      <a:lnTo>
                        <a:pt x="219" y="237"/>
                      </a:lnTo>
                      <a:lnTo>
                        <a:pt x="227" y="224"/>
                      </a:lnTo>
                      <a:lnTo>
                        <a:pt x="237" y="212"/>
                      </a:lnTo>
                      <a:lnTo>
                        <a:pt x="247" y="197"/>
                      </a:lnTo>
                      <a:lnTo>
                        <a:pt x="268" y="173"/>
                      </a:lnTo>
                      <a:lnTo>
                        <a:pt x="292" y="150"/>
                      </a:lnTo>
                      <a:lnTo>
                        <a:pt x="318" y="130"/>
                      </a:lnTo>
                      <a:lnTo>
                        <a:pt x="343" y="110"/>
                      </a:lnTo>
                      <a:lnTo>
                        <a:pt x="372" y="92"/>
                      </a:lnTo>
                      <a:lnTo>
                        <a:pt x="401" y="76"/>
                      </a:lnTo>
                      <a:lnTo>
                        <a:pt x="432" y="63"/>
                      </a:lnTo>
                      <a:lnTo>
                        <a:pt x="463" y="50"/>
                      </a:lnTo>
                      <a:lnTo>
                        <a:pt x="493" y="39"/>
                      </a:lnTo>
                      <a:lnTo>
                        <a:pt x="524" y="29"/>
                      </a:lnTo>
                      <a:lnTo>
                        <a:pt x="555" y="21"/>
                      </a:lnTo>
                      <a:lnTo>
                        <a:pt x="585" y="15"/>
                      </a:lnTo>
                      <a:lnTo>
                        <a:pt x="620" y="10"/>
                      </a:lnTo>
                      <a:lnTo>
                        <a:pt x="655" y="7"/>
                      </a:lnTo>
                      <a:lnTo>
                        <a:pt x="688" y="3"/>
                      </a:lnTo>
                      <a:lnTo>
                        <a:pt x="722" y="2"/>
                      </a:lnTo>
                      <a:lnTo>
                        <a:pt x="756" y="0"/>
                      </a:lnTo>
                      <a:lnTo>
                        <a:pt x="790" y="0"/>
                      </a:lnTo>
                      <a:lnTo>
                        <a:pt x="823" y="2"/>
                      </a:lnTo>
                      <a:lnTo>
                        <a:pt x="856" y="3"/>
                      </a:lnTo>
                      <a:lnTo>
                        <a:pt x="888" y="7"/>
                      </a:lnTo>
                      <a:lnTo>
                        <a:pt x="921" y="10"/>
                      </a:lnTo>
                      <a:lnTo>
                        <a:pt x="951" y="15"/>
                      </a:lnTo>
                      <a:lnTo>
                        <a:pt x="982" y="21"/>
                      </a:lnTo>
                      <a:lnTo>
                        <a:pt x="1014" y="27"/>
                      </a:lnTo>
                      <a:lnTo>
                        <a:pt x="1043" y="35"/>
                      </a:lnTo>
                      <a:lnTo>
                        <a:pt x="1074" y="44"/>
                      </a:lnTo>
                      <a:lnTo>
                        <a:pt x="1103" y="53"/>
                      </a:lnTo>
                      <a:lnTo>
                        <a:pt x="1132" y="63"/>
                      </a:lnTo>
                      <a:lnTo>
                        <a:pt x="1161" y="74"/>
                      </a:lnTo>
                      <a:lnTo>
                        <a:pt x="1189" y="88"/>
                      </a:lnTo>
                      <a:lnTo>
                        <a:pt x="1216" y="100"/>
                      </a:lnTo>
                      <a:lnTo>
                        <a:pt x="1243" y="115"/>
                      </a:lnTo>
                      <a:lnTo>
                        <a:pt x="1269" y="131"/>
                      </a:lnTo>
                      <a:lnTo>
                        <a:pt x="1295" y="147"/>
                      </a:lnTo>
                      <a:lnTo>
                        <a:pt x="1319" y="165"/>
                      </a:lnTo>
                      <a:lnTo>
                        <a:pt x="1343" y="184"/>
                      </a:lnTo>
                      <a:lnTo>
                        <a:pt x="1367" y="204"/>
                      </a:lnTo>
                      <a:lnTo>
                        <a:pt x="1390" y="224"/>
                      </a:lnTo>
                      <a:lnTo>
                        <a:pt x="1413" y="247"/>
                      </a:lnTo>
                      <a:lnTo>
                        <a:pt x="1435" y="269"/>
                      </a:lnTo>
                      <a:lnTo>
                        <a:pt x="1456" y="294"/>
                      </a:lnTo>
                      <a:lnTo>
                        <a:pt x="1475" y="319"/>
                      </a:lnTo>
                      <a:lnTo>
                        <a:pt x="1494" y="34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99640" y="2360880"/>
                  <a:ext cx="96480" cy="144720"/>
                </a:xfrm>
                <a:custGeom>
                  <a:avLst/>
                  <a:gdLst/>
                  <a:ahLst/>
                  <a:rect l="l" t="t" r="r" b="b"/>
                  <a:pathLst>
                    <a:path w="1498" h="2244">
                      <a:moveTo>
                        <a:pt x="1213" y="225"/>
                      </a:moveTo>
                      <a:lnTo>
                        <a:pt x="1239" y="257"/>
                      </a:lnTo>
                      <a:lnTo>
                        <a:pt x="1263" y="291"/>
                      </a:lnTo>
                      <a:lnTo>
                        <a:pt x="1287" y="326"/>
                      </a:lnTo>
                      <a:lnTo>
                        <a:pt x="1310" y="361"/>
                      </a:lnTo>
                      <a:lnTo>
                        <a:pt x="1330" y="397"/>
                      </a:lnTo>
                      <a:lnTo>
                        <a:pt x="1350" y="435"/>
                      </a:lnTo>
                      <a:lnTo>
                        <a:pt x="1368" y="472"/>
                      </a:lnTo>
                      <a:lnTo>
                        <a:pt x="1386" y="509"/>
                      </a:lnTo>
                      <a:lnTo>
                        <a:pt x="1401" y="547"/>
                      </a:lnTo>
                      <a:lnTo>
                        <a:pt x="1416" y="586"/>
                      </a:lnTo>
                      <a:lnTo>
                        <a:pt x="1428" y="627"/>
                      </a:lnTo>
                      <a:lnTo>
                        <a:pt x="1440" y="667"/>
                      </a:lnTo>
                      <a:lnTo>
                        <a:pt x="1451" y="707"/>
                      </a:lnTo>
                      <a:lnTo>
                        <a:pt x="1461" y="750"/>
                      </a:lnTo>
                      <a:lnTo>
                        <a:pt x="1469" y="789"/>
                      </a:lnTo>
                      <a:lnTo>
                        <a:pt x="1477" y="831"/>
                      </a:lnTo>
                      <a:lnTo>
                        <a:pt x="1484" y="874"/>
                      </a:lnTo>
                      <a:lnTo>
                        <a:pt x="1489" y="917"/>
                      </a:lnTo>
                      <a:lnTo>
                        <a:pt x="1493" y="959"/>
                      </a:lnTo>
                      <a:lnTo>
                        <a:pt x="1495" y="1001"/>
                      </a:lnTo>
                      <a:lnTo>
                        <a:pt x="1498" y="1045"/>
                      </a:lnTo>
                      <a:lnTo>
                        <a:pt x="1498" y="1088"/>
                      </a:lnTo>
                      <a:lnTo>
                        <a:pt x="1498" y="1130"/>
                      </a:lnTo>
                      <a:lnTo>
                        <a:pt x="1496" y="1173"/>
                      </a:lnTo>
                      <a:lnTo>
                        <a:pt x="1495" y="1217"/>
                      </a:lnTo>
                      <a:lnTo>
                        <a:pt x="1492" y="1259"/>
                      </a:lnTo>
                      <a:lnTo>
                        <a:pt x="1487" y="1302"/>
                      </a:lnTo>
                      <a:lnTo>
                        <a:pt x="1482" y="1344"/>
                      </a:lnTo>
                      <a:lnTo>
                        <a:pt x="1475" y="1388"/>
                      </a:lnTo>
                      <a:lnTo>
                        <a:pt x="1468" y="1430"/>
                      </a:lnTo>
                      <a:lnTo>
                        <a:pt x="1460" y="1471"/>
                      </a:lnTo>
                      <a:lnTo>
                        <a:pt x="1451" y="1514"/>
                      </a:lnTo>
                      <a:lnTo>
                        <a:pt x="1428" y="1574"/>
                      </a:lnTo>
                      <a:lnTo>
                        <a:pt x="1403" y="1631"/>
                      </a:lnTo>
                      <a:lnTo>
                        <a:pt x="1375" y="1691"/>
                      </a:lnTo>
                      <a:lnTo>
                        <a:pt x="1343" y="1749"/>
                      </a:lnTo>
                      <a:lnTo>
                        <a:pt x="1310" y="1805"/>
                      </a:lnTo>
                      <a:lnTo>
                        <a:pt x="1272" y="1862"/>
                      </a:lnTo>
                      <a:lnTo>
                        <a:pt x="1253" y="1890"/>
                      </a:lnTo>
                      <a:lnTo>
                        <a:pt x="1232" y="1917"/>
                      </a:lnTo>
                      <a:lnTo>
                        <a:pt x="1212" y="1943"/>
                      </a:lnTo>
                      <a:lnTo>
                        <a:pt x="1189" y="1969"/>
                      </a:lnTo>
                      <a:lnTo>
                        <a:pt x="1166" y="1993"/>
                      </a:lnTo>
                      <a:lnTo>
                        <a:pt x="1144" y="2017"/>
                      </a:lnTo>
                      <a:lnTo>
                        <a:pt x="1120" y="2041"/>
                      </a:lnTo>
                      <a:lnTo>
                        <a:pt x="1095" y="2062"/>
                      </a:lnTo>
                      <a:lnTo>
                        <a:pt x="1070" y="2085"/>
                      </a:lnTo>
                      <a:lnTo>
                        <a:pt x="1044" y="2105"/>
                      </a:lnTo>
                      <a:lnTo>
                        <a:pt x="1018" y="2125"/>
                      </a:lnTo>
                      <a:lnTo>
                        <a:pt x="990" y="2143"/>
                      </a:lnTo>
                      <a:lnTo>
                        <a:pt x="963" y="2161"/>
                      </a:lnTo>
                      <a:lnTo>
                        <a:pt x="934" y="2176"/>
                      </a:lnTo>
                      <a:lnTo>
                        <a:pt x="905" y="2191"/>
                      </a:lnTo>
                      <a:lnTo>
                        <a:pt x="874" y="2203"/>
                      </a:lnTo>
                      <a:lnTo>
                        <a:pt x="843" y="2215"/>
                      </a:lnTo>
                      <a:lnTo>
                        <a:pt x="813" y="2226"/>
                      </a:lnTo>
                      <a:lnTo>
                        <a:pt x="781" y="2235"/>
                      </a:lnTo>
                      <a:lnTo>
                        <a:pt x="748" y="2243"/>
                      </a:lnTo>
                      <a:lnTo>
                        <a:pt x="698" y="2244"/>
                      </a:lnTo>
                      <a:lnTo>
                        <a:pt x="648" y="2244"/>
                      </a:lnTo>
                      <a:lnTo>
                        <a:pt x="600" y="2243"/>
                      </a:lnTo>
                      <a:lnTo>
                        <a:pt x="553" y="2238"/>
                      </a:lnTo>
                      <a:lnTo>
                        <a:pt x="508" y="2232"/>
                      </a:lnTo>
                      <a:lnTo>
                        <a:pt x="463" y="2223"/>
                      </a:lnTo>
                      <a:lnTo>
                        <a:pt x="419" y="2212"/>
                      </a:lnTo>
                      <a:lnTo>
                        <a:pt x="377" y="2197"/>
                      </a:lnTo>
                      <a:lnTo>
                        <a:pt x="356" y="2190"/>
                      </a:lnTo>
                      <a:lnTo>
                        <a:pt x="338" y="2182"/>
                      </a:lnTo>
                      <a:lnTo>
                        <a:pt x="318" y="2171"/>
                      </a:lnTo>
                      <a:lnTo>
                        <a:pt x="298" y="2161"/>
                      </a:lnTo>
                      <a:lnTo>
                        <a:pt x="279" y="2150"/>
                      </a:lnTo>
                      <a:lnTo>
                        <a:pt x="259" y="2138"/>
                      </a:lnTo>
                      <a:lnTo>
                        <a:pt x="242" y="2126"/>
                      </a:lnTo>
                      <a:lnTo>
                        <a:pt x="224" y="2112"/>
                      </a:lnTo>
                      <a:lnTo>
                        <a:pt x="208" y="2097"/>
                      </a:lnTo>
                      <a:lnTo>
                        <a:pt x="191" y="2082"/>
                      </a:lnTo>
                      <a:lnTo>
                        <a:pt x="174" y="2067"/>
                      </a:lnTo>
                      <a:lnTo>
                        <a:pt x="158" y="2051"/>
                      </a:lnTo>
                      <a:lnTo>
                        <a:pt x="144" y="2033"/>
                      </a:lnTo>
                      <a:lnTo>
                        <a:pt x="129" y="2014"/>
                      </a:lnTo>
                      <a:lnTo>
                        <a:pt x="114" y="1994"/>
                      </a:lnTo>
                      <a:lnTo>
                        <a:pt x="100" y="1973"/>
                      </a:lnTo>
                      <a:lnTo>
                        <a:pt x="91" y="1954"/>
                      </a:lnTo>
                      <a:lnTo>
                        <a:pt x="84" y="1934"/>
                      </a:lnTo>
                      <a:lnTo>
                        <a:pt x="78" y="1912"/>
                      </a:lnTo>
                      <a:lnTo>
                        <a:pt x="73" y="1891"/>
                      </a:lnTo>
                      <a:lnTo>
                        <a:pt x="67" y="1867"/>
                      </a:lnTo>
                      <a:lnTo>
                        <a:pt x="66" y="1845"/>
                      </a:lnTo>
                      <a:lnTo>
                        <a:pt x="64" y="1820"/>
                      </a:lnTo>
                      <a:lnTo>
                        <a:pt x="63" y="1796"/>
                      </a:lnTo>
                      <a:lnTo>
                        <a:pt x="64" y="1772"/>
                      </a:lnTo>
                      <a:lnTo>
                        <a:pt x="67" y="1748"/>
                      </a:lnTo>
                      <a:lnTo>
                        <a:pt x="71" y="1725"/>
                      </a:lnTo>
                      <a:lnTo>
                        <a:pt x="76" y="1702"/>
                      </a:lnTo>
                      <a:lnTo>
                        <a:pt x="84" y="1681"/>
                      </a:lnTo>
                      <a:lnTo>
                        <a:pt x="91" y="1660"/>
                      </a:lnTo>
                      <a:lnTo>
                        <a:pt x="102" y="1642"/>
                      </a:lnTo>
                      <a:lnTo>
                        <a:pt x="113" y="1625"/>
                      </a:lnTo>
                      <a:lnTo>
                        <a:pt x="129" y="1603"/>
                      </a:lnTo>
                      <a:lnTo>
                        <a:pt x="149" y="1583"/>
                      </a:lnTo>
                      <a:lnTo>
                        <a:pt x="168" y="1565"/>
                      </a:lnTo>
                      <a:lnTo>
                        <a:pt x="187" y="1553"/>
                      </a:lnTo>
                      <a:lnTo>
                        <a:pt x="209" y="1539"/>
                      </a:lnTo>
                      <a:lnTo>
                        <a:pt x="232" y="1532"/>
                      </a:lnTo>
                      <a:lnTo>
                        <a:pt x="256" y="1524"/>
                      </a:lnTo>
                      <a:lnTo>
                        <a:pt x="280" y="1518"/>
                      </a:lnTo>
                      <a:lnTo>
                        <a:pt x="305" y="1515"/>
                      </a:lnTo>
                      <a:lnTo>
                        <a:pt x="329" y="1514"/>
                      </a:lnTo>
                      <a:lnTo>
                        <a:pt x="355" y="1512"/>
                      </a:lnTo>
                      <a:lnTo>
                        <a:pt x="380" y="1514"/>
                      </a:lnTo>
                      <a:lnTo>
                        <a:pt x="404" y="1515"/>
                      </a:lnTo>
                      <a:lnTo>
                        <a:pt x="430" y="1518"/>
                      </a:lnTo>
                      <a:lnTo>
                        <a:pt x="454" y="1524"/>
                      </a:lnTo>
                      <a:lnTo>
                        <a:pt x="479" y="1528"/>
                      </a:lnTo>
                      <a:lnTo>
                        <a:pt x="489" y="1536"/>
                      </a:lnTo>
                      <a:lnTo>
                        <a:pt x="495" y="1544"/>
                      </a:lnTo>
                      <a:lnTo>
                        <a:pt x="501" y="1553"/>
                      </a:lnTo>
                      <a:lnTo>
                        <a:pt x="507" y="1560"/>
                      </a:lnTo>
                      <a:lnTo>
                        <a:pt x="508" y="1568"/>
                      </a:lnTo>
                      <a:lnTo>
                        <a:pt x="512" y="1577"/>
                      </a:lnTo>
                      <a:lnTo>
                        <a:pt x="512" y="1585"/>
                      </a:lnTo>
                      <a:lnTo>
                        <a:pt x="512" y="1592"/>
                      </a:lnTo>
                      <a:lnTo>
                        <a:pt x="508" y="1607"/>
                      </a:lnTo>
                      <a:lnTo>
                        <a:pt x="501" y="1622"/>
                      </a:lnTo>
                      <a:lnTo>
                        <a:pt x="492" y="1636"/>
                      </a:lnTo>
                      <a:lnTo>
                        <a:pt x="480" y="1651"/>
                      </a:lnTo>
                      <a:lnTo>
                        <a:pt x="456" y="1678"/>
                      </a:lnTo>
                      <a:lnTo>
                        <a:pt x="430" y="1707"/>
                      </a:lnTo>
                      <a:lnTo>
                        <a:pt x="419" y="1721"/>
                      </a:lnTo>
                      <a:lnTo>
                        <a:pt x="410" y="1736"/>
                      </a:lnTo>
                      <a:lnTo>
                        <a:pt x="403" y="1751"/>
                      </a:lnTo>
                      <a:lnTo>
                        <a:pt x="400" y="1765"/>
                      </a:lnTo>
                      <a:lnTo>
                        <a:pt x="395" y="1795"/>
                      </a:lnTo>
                      <a:lnTo>
                        <a:pt x="392" y="1823"/>
                      </a:lnTo>
                      <a:lnTo>
                        <a:pt x="392" y="1852"/>
                      </a:lnTo>
                      <a:lnTo>
                        <a:pt x="394" y="1881"/>
                      </a:lnTo>
                      <a:lnTo>
                        <a:pt x="398" y="1908"/>
                      </a:lnTo>
                      <a:lnTo>
                        <a:pt x="404" y="1938"/>
                      </a:lnTo>
                      <a:lnTo>
                        <a:pt x="415" y="1966"/>
                      </a:lnTo>
                      <a:lnTo>
                        <a:pt x="426" y="1991"/>
                      </a:lnTo>
                      <a:lnTo>
                        <a:pt x="439" y="2017"/>
                      </a:lnTo>
                      <a:lnTo>
                        <a:pt x="454" y="2041"/>
                      </a:lnTo>
                      <a:lnTo>
                        <a:pt x="472" y="2064"/>
                      </a:lnTo>
                      <a:lnTo>
                        <a:pt x="492" y="2085"/>
                      </a:lnTo>
                      <a:lnTo>
                        <a:pt x="515" y="2104"/>
                      </a:lnTo>
                      <a:lnTo>
                        <a:pt x="537" y="2122"/>
                      </a:lnTo>
                      <a:lnTo>
                        <a:pt x="563" y="2138"/>
                      </a:lnTo>
                      <a:lnTo>
                        <a:pt x="590" y="2150"/>
                      </a:lnTo>
                      <a:lnTo>
                        <a:pt x="607" y="2158"/>
                      </a:lnTo>
                      <a:lnTo>
                        <a:pt x="621" y="2162"/>
                      </a:lnTo>
                      <a:lnTo>
                        <a:pt x="637" y="2167"/>
                      </a:lnTo>
                      <a:lnTo>
                        <a:pt x="651" y="2170"/>
                      </a:lnTo>
                      <a:lnTo>
                        <a:pt x="666" y="2171"/>
                      </a:lnTo>
                      <a:lnTo>
                        <a:pt x="682" y="2173"/>
                      </a:lnTo>
                      <a:lnTo>
                        <a:pt x="696" y="2173"/>
                      </a:lnTo>
                      <a:lnTo>
                        <a:pt x="711" y="2171"/>
                      </a:lnTo>
                      <a:lnTo>
                        <a:pt x="726" y="2170"/>
                      </a:lnTo>
                      <a:lnTo>
                        <a:pt x="739" y="2167"/>
                      </a:lnTo>
                      <a:lnTo>
                        <a:pt x="753" y="2164"/>
                      </a:lnTo>
                      <a:lnTo>
                        <a:pt x="766" y="2159"/>
                      </a:lnTo>
                      <a:lnTo>
                        <a:pt x="793" y="2147"/>
                      </a:lnTo>
                      <a:lnTo>
                        <a:pt x="817" y="2133"/>
                      </a:lnTo>
                      <a:lnTo>
                        <a:pt x="843" y="2115"/>
                      </a:lnTo>
                      <a:lnTo>
                        <a:pt x="866" y="2096"/>
                      </a:lnTo>
                      <a:lnTo>
                        <a:pt x="887" y="2075"/>
                      </a:lnTo>
                      <a:lnTo>
                        <a:pt x="908" y="2054"/>
                      </a:lnTo>
                      <a:lnTo>
                        <a:pt x="928" y="2029"/>
                      </a:lnTo>
                      <a:lnTo>
                        <a:pt x="944" y="2005"/>
                      </a:lnTo>
                      <a:lnTo>
                        <a:pt x="959" y="1981"/>
                      </a:lnTo>
                      <a:lnTo>
                        <a:pt x="974" y="1955"/>
                      </a:lnTo>
                      <a:lnTo>
                        <a:pt x="987" y="1914"/>
                      </a:lnTo>
                      <a:lnTo>
                        <a:pt x="999" y="1870"/>
                      </a:lnTo>
                      <a:lnTo>
                        <a:pt x="1008" y="1827"/>
                      </a:lnTo>
                      <a:lnTo>
                        <a:pt x="1014" y="1781"/>
                      </a:lnTo>
                      <a:lnTo>
                        <a:pt x="1021" y="1736"/>
                      </a:lnTo>
                      <a:lnTo>
                        <a:pt x="1024" y="1689"/>
                      </a:lnTo>
                      <a:lnTo>
                        <a:pt x="1027" y="1642"/>
                      </a:lnTo>
                      <a:lnTo>
                        <a:pt x="1030" y="1595"/>
                      </a:lnTo>
                      <a:lnTo>
                        <a:pt x="1035" y="1503"/>
                      </a:lnTo>
                      <a:lnTo>
                        <a:pt x="1042" y="1409"/>
                      </a:lnTo>
                      <a:lnTo>
                        <a:pt x="1045" y="1362"/>
                      </a:lnTo>
                      <a:lnTo>
                        <a:pt x="1052" y="1317"/>
                      </a:lnTo>
                      <a:lnTo>
                        <a:pt x="1058" y="1272"/>
                      </a:lnTo>
                      <a:lnTo>
                        <a:pt x="1067" y="1228"/>
                      </a:lnTo>
                      <a:lnTo>
                        <a:pt x="1017" y="1262"/>
                      </a:lnTo>
                      <a:lnTo>
                        <a:pt x="966" y="1294"/>
                      </a:lnTo>
                      <a:lnTo>
                        <a:pt x="940" y="1309"/>
                      </a:lnTo>
                      <a:lnTo>
                        <a:pt x="911" y="1322"/>
                      </a:lnTo>
                      <a:lnTo>
                        <a:pt x="897" y="1326"/>
                      </a:lnTo>
                      <a:lnTo>
                        <a:pt x="881" y="1332"/>
                      </a:lnTo>
                      <a:lnTo>
                        <a:pt x="864" y="1335"/>
                      </a:lnTo>
                      <a:lnTo>
                        <a:pt x="847" y="1338"/>
                      </a:lnTo>
                      <a:lnTo>
                        <a:pt x="829" y="1344"/>
                      </a:lnTo>
                      <a:lnTo>
                        <a:pt x="813" y="1350"/>
                      </a:lnTo>
                      <a:lnTo>
                        <a:pt x="796" y="1356"/>
                      </a:lnTo>
                      <a:lnTo>
                        <a:pt x="779" y="1361"/>
                      </a:lnTo>
                      <a:lnTo>
                        <a:pt x="746" y="1367"/>
                      </a:lnTo>
                      <a:lnTo>
                        <a:pt x="713" y="1370"/>
                      </a:lnTo>
                      <a:lnTo>
                        <a:pt x="679" y="1370"/>
                      </a:lnTo>
                      <a:lnTo>
                        <a:pt x="646" y="1368"/>
                      </a:lnTo>
                      <a:lnTo>
                        <a:pt x="613" y="1364"/>
                      </a:lnTo>
                      <a:lnTo>
                        <a:pt x="581" y="1359"/>
                      </a:lnTo>
                      <a:lnTo>
                        <a:pt x="515" y="1343"/>
                      </a:lnTo>
                      <a:lnTo>
                        <a:pt x="448" y="1325"/>
                      </a:lnTo>
                      <a:lnTo>
                        <a:pt x="383" y="1306"/>
                      </a:lnTo>
                      <a:lnTo>
                        <a:pt x="321" y="1290"/>
                      </a:lnTo>
                      <a:lnTo>
                        <a:pt x="282" y="1267"/>
                      </a:lnTo>
                      <a:lnTo>
                        <a:pt x="248" y="1244"/>
                      </a:lnTo>
                      <a:lnTo>
                        <a:pt x="220" y="1222"/>
                      </a:lnTo>
                      <a:lnTo>
                        <a:pt x="194" y="1199"/>
                      </a:lnTo>
                      <a:lnTo>
                        <a:pt x="171" y="1175"/>
                      </a:lnTo>
                      <a:lnTo>
                        <a:pt x="150" y="1149"/>
                      </a:lnTo>
                      <a:lnTo>
                        <a:pt x="134" y="1125"/>
                      </a:lnTo>
                      <a:lnTo>
                        <a:pt x="118" y="1099"/>
                      </a:lnTo>
                      <a:lnTo>
                        <a:pt x="105" y="1073"/>
                      </a:lnTo>
                      <a:lnTo>
                        <a:pt x="94" y="1046"/>
                      </a:lnTo>
                      <a:lnTo>
                        <a:pt x="81" y="1019"/>
                      </a:lnTo>
                      <a:lnTo>
                        <a:pt x="71" y="992"/>
                      </a:lnTo>
                      <a:lnTo>
                        <a:pt x="47" y="936"/>
                      </a:lnTo>
                      <a:lnTo>
                        <a:pt x="21" y="878"/>
                      </a:lnTo>
                      <a:lnTo>
                        <a:pt x="11" y="836"/>
                      </a:lnTo>
                      <a:lnTo>
                        <a:pt x="3" y="795"/>
                      </a:lnTo>
                      <a:lnTo>
                        <a:pt x="0" y="753"/>
                      </a:lnTo>
                      <a:lnTo>
                        <a:pt x="0" y="712"/>
                      </a:lnTo>
                      <a:lnTo>
                        <a:pt x="2" y="672"/>
                      </a:lnTo>
                      <a:lnTo>
                        <a:pt x="6" y="632"/>
                      </a:lnTo>
                      <a:lnTo>
                        <a:pt x="14" y="593"/>
                      </a:lnTo>
                      <a:lnTo>
                        <a:pt x="23" y="554"/>
                      </a:lnTo>
                      <a:lnTo>
                        <a:pt x="35" y="517"/>
                      </a:lnTo>
                      <a:lnTo>
                        <a:pt x="49" y="480"/>
                      </a:lnTo>
                      <a:lnTo>
                        <a:pt x="64" y="444"/>
                      </a:lnTo>
                      <a:lnTo>
                        <a:pt x="81" y="409"/>
                      </a:lnTo>
                      <a:lnTo>
                        <a:pt x="99" y="373"/>
                      </a:lnTo>
                      <a:lnTo>
                        <a:pt x="120" y="340"/>
                      </a:lnTo>
                      <a:lnTo>
                        <a:pt x="140" y="308"/>
                      </a:lnTo>
                      <a:lnTo>
                        <a:pt x="161" y="273"/>
                      </a:lnTo>
                      <a:lnTo>
                        <a:pt x="187" y="245"/>
                      </a:lnTo>
                      <a:lnTo>
                        <a:pt x="212" y="216"/>
                      </a:lnTo>
                      <a:lnTo>
                        <a:pt x="242" y="190"/>
                      </a:lnTo>
                      <a:lnTo>
                        <a:pt x="271" y="164"/>
                      </a:lnTo>
                      <a:lnTo>
                        <a:pt x="300" y="142"/>
                      </a:lnTo>
                      <a:lnTo>
                        <a:pt x="332" y="119"/>
                      </a:lnTo>
                      <a:lnTo>
                        <a:pt x="365" y="99"/>
                      </a:lnTo>
                      <a:lnTo>
                        <a:pt x="397" y="81"/>
                      </a:lnTo>
                      <a:lnTo>
                        <a:pt x="430" y="66"/>
                      </a:lnTo>
                      <a:lnTo>
                        <a:pt x="466" y="51"/>
                      </a:lnTo>
                      <a:lnTo>
                        <a:pt x="501" y="39"/>
                      </a:lnTo>
                      <a:lnTo>
                        <a:pt x="537" y="27"/>
                      </a:lnTo>
                      <a:lnTo>
                        <a:pt x="572" y="18"/>
                      </a:lnTo>
                      <a:lnTo>
                        <a:pt x="610" y="10"/>
                      </a:lnTo>
                      <a:lnTo>
                        <a:pt x="645" y="4"/>
                      </a:lnTo>
                      <a:lnTo>
                        <a:pt x="682" y="1"/>
                      </a:lnTo>
                      <a:lnTo>
                        <a:pt x="719" y="0"/>
                      </a:lnTo>
                      <a:lnTo>
                        <a:pt x="755" y="1"/>
                      </a:lnTo>
                      <a:lnTo>
                        <a:pt x="792" y="3"/>
                      </a:lnTo>
                      <a:lnTo>
                        <a:pt x="829" y="7"/>
                      </a:lnTo>
                      <a:lnTo>
                        <a:pt x="864" y="13"/>
                      </a:lnTo>
                      <a:lnTo>
                        <a:pt x="900" y="22"/>
                      </a:lnTo>
                      <a:lnTo>
                        <a:pt x="935" y="33"/>
                      </a:lnTo>
                      <a:lnTo>
                        <a:pt x="970" y="46"/>
                      </a:lnTo>
                      <a:lnTo>
                        <a:pt x="1003" y="60"/>
                      </a:lnTo>
                      <a:lnTo>
                        <a:pt x="1035" y="77"/>
                      </a:lnTo>
                      <a:lnTo>
                        <a:pt x="1068" y="96"/>
                      </a:lnTo>
                      <a:lnTo>
                        <a:pt x="1100" y="117"/>
                      </a:lnTo>
                      <a:lnTo>
                        <a:pt x="1129" y="142"/>
                      </a:lnTo>
                      <a:lnTo>
                        <a:pt x="1158" y="167"/>
                      </a:lnTo>
                      <a:lnTo>
                        <a:pt x="1185" y="195"/>
                      </a:lnTo>
                      <a:lnTo>
                        <a:pt x="1213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28080" y="2364840"/>
                  <a:ext cx="39600" cy="76680"/>
                </a:xfrm>
                <a:custGeom>
                  <a:avLst/>
                  <a:gdLst/>
                  <a:ahLst/>
                  <a:rect l="l" t="t" r="r" b="b"/>
                  <a:pathLst>
                    <a:path w="614" h="1193">
                      <a:moveTo>
                        <a:pt x="499" y="105"/>
                      </a:moveTo>
                      <a:lnTo>
                        <a:pt x="518" y="143"/>
                      </a:lnTo>
                      <a:lnTo>
                        <a:pt x="536" y="182"/>
                      </a:lnTo>
                      <a:lnTo>
                        <a:pt x="550" y="219"/>
                      </a:lnTo>
                      <a:lnTo>
                        <a:pt x="564" y="255"/>
                      </a:lnTo>
                      <a:lnTo>
                        <a:pt x="576" y="292"/>
                      </a:lnTo>
                      <a:lnTo>
                        <a:pt x="585" y="328"/>
                      </a:lnTo>
                      <a:lnTo>
                        <a:pt x="593" y="366"/>
                      </a:lnTo>
                      <a:lnTo>
                        <a:pt x="602" y="405"/>
                      </a:lnTo>
                      <a:lnTo>
                        <a:pt x="607" y="447"/>
                      </a:lnTo>
                      <a:lnTo>
                        <a:pt x="611" y="492"/>
                      </a:lnTo>
                      <a:lnTo>
                        <a:pt x="613" y="541"/>
                      </a:lnTo>
                      <a:lnTo>
                        <a:pt x="614" y="592"/>
                      </a:lnTo>
                      <a:lnTo>
                        <a:pt x="614" y="648"/>
                      </a:lnTo>
                      <a:lnTo>
                        <a:pt x="614" y="709"/>
                      </a:lnTo>
                      <a:lnTo>
                        <a:pt x="611" y="777"/>
                      </a:lnTo>
                      <a:lnTo>
                        <a:pt x="608" y="850"/>
                      </a:lnTo>
                      <a:lnTo>
                        <a:pt x="589" y="910"/>
                      </a:lnTo>
                      <a:lnTo>
                        <a:pt x="569" y="966"/>
                      </a:lnTo>
                      <a:lnTo>
                        <a:pt x="558" y="993"/>
                      </a:lnTo>
                      <a:lnTo>
                        <a:pt x="546" y="1021"/>
                      </a:lnTo>
                      <a:lnTo>
                        <a:pt x="532" y="1046"/>
                      </a:lnTo>
                      <a:lnTo>
                        <a:pt x="518" y="1071"/>
                      </a:lnTo>
                      <a:lnTo>
                        <a:pt x="499" y="1095"/>
                      </a:lnTo>
                      <a:lnTo>
                        <a:pt x="478" y="1116"/>
                      </a:lnTo>
                      <a:lnTo>
                        <a:pt x="466" y="1126"/>
                      </a:lnTo>
                      <a:lnTo>
                        <a:pt x="455" y="1135"/>
                      </a:lnTo>
                      <a:lnTo>
                        <a:pt x="440" y="1143"/>
                      </a:lnTo>
                      <a:lnTo>
                        <a:pt x="428" y="1152"/>
                      </a:lnTo>
                      <a:lnTo>
                        <a:pt x="411" y="1160"/>
                      </a:lnTo>
                      <a:lnTo>
                        <a:pt x="395" y="1166"/>
                      </a:lnTo>
                      <a:lnTo>
                        <a:pt x="380" y="1173"/>
                      </a:lnTo>
                      <a:lnTo>
                        <a:pt x="360" y="1178"/>
                      </a:lnTo>
                      <a:lnTo>
                        <a:pt x="340" y="1182"/>
                      </a:lnTo>
                      <a:lnTo>
                        <a:pt x="319" y="1187"/>
                      </a:lnTo>
                      <a:lnTo>
                        <a:pt x="298" y="1190"/>
                      </a:lnTo>
                      <a:lnTo>
                        <a:pt x="276" y="1193"/>
                      </a:lnTo>
                      <a:lnTo>
                        <a:pt x="237" y="1181"/>
                      </a:lnTo>
                      <a:lnTo>
                        <a:pt x="203" y="1166"/>
                      </a:lnTo>
                      <a:lnTo>
                        <a:pt x="173" y="1150"/>
                      </a:lnTo>
                      <a:lnTo>
                        <a:pt x="145" y="1131"/>
                      </a:lnTo>
                      <a:lnTo>
                        <a:pt x="121" y="1111"/>
                      </a:lnTo>
                      <a:lnTo>
                        <a:pt x="98" y="1089"/>
                      </a:lnTo>
                      <a:lnTo>
                        <a:pt x="79" y="1064"/>
                      </a:lnTo>
                      <a:lnTo>
                        <a:pt x="63" y="1039"/>
                      </a:lnTo>
                      <a:lnTo>
                        <a:pt x="49" y="1013"/>
                      </a:lnTo>
                      <a:lnTo>
                        <a:pt x="35" y="984"/>
                      </a:lnTo>
                      <a:lnTo>
                        <a:pt x="26" y="955"/>
                      </a:lnTo>
                      <a:lnTo>
                        <a:pt x="18" y="924"/>
                      </a:lnTo>
                      <a:lnTo>
                        <a:pt x="9" y="893"/>
                      </a:lnTo>
                      <a:lnTo>
                        <a:pt x="6" y="862"/>
                      </a:lnTo>
                      <a:lnTo>
                        <a:pt x="2" y="827"/>
                      </a:lnTo>
                      <a:lnTo>
                        <a:pt x="0" y="794"/>
                      </a:lnTo>
                      <a:lnTo>
                        <a:pt x="0" y="760"/>
                      </a:lnTo>
                      <a:lnTo>
                        <a:pt x="0" y="724"/>
                      </a:lnTo>
                      <a:lnTo>
                        <a:pt x="2" y="689"/>
                      </a:lnTo>
                      <a:lnTo>
                        <a:pt x="5" y="653"/>
                      </a:lnTo>
                      <a:lnTo>
                        <a:pt x="11" y="582"/>
                      </a:lnTo>
                      <a:lnTo>
                        <a:pt x="21" y="511"/>
                      </a:lnTo>
                      <a:lnTo>
                        <a:pt x="29" y="440"/>
                      </a:lnTo>
                      <a:lnTo>
                        <a:pt x="39" y="373"/>
                      </a:lnTo>
                      <a:lnTo>
                        <a:pt x="47" y="308"/>
                      </a:lnTo>
                      <a:lnTo>
                        <a:pt x="52" y="245"/>
                      </a:lnTo>
                      <a:lnTo>
                        <a:pt x="56" y="226"/>
                      </a:lnTo>
                      <a:lnTo>
                        <a:pt x="62" y="208"/>
                      </a:lnTo>
                      <a:lnTo>
                        <a:pt x="67" y="189"/>
                      </a:lnTo>
                      <a:lnTo>
                        <a:pt x="74" y="172"/>
                      </a:lnTo>
                      <a:lnTo>
                        <a:pt x="80" y="155"/>
                      </a:lnTo>
                      <a:lnTo>
                        <a:pt x="91" y="139"/>
                      </a:lnTo>
                      <a:lnTo>
                        <a:pt x="100" y="124"/>
                      </a:lnTo>
                      <a:lnTo>
                        <a:pt x="110" y="108"/>
                      </a:lnTo>
                      <a:lnTo>
                        <a:pt x="121" y="93"/>
                      </a:lnTo>
                      <a:lnTo>
                        <a:pt x="133" y="81"/>
                      </a:lnTo>
                      <a:lnTo>
                        <a:pt x="147" y="66"/>
                      </a:lnTo>
                      <a:lnTo>
                        <a:pt x="162" y="54"/>
                      </a:lnTo>
                      <a:lnTo>
                        <a:pt x="176" y="42"/>
                      </a:lnTo>
                      <a:lnTo>
                        <a:pt x="191" y="31"/>
                      </a:lnTo>
                      <a:lnTo>
                        <a:pt x="209" y="18"/>
                      </a:lnTo>
                      <a:lnTo>
                        <a:pt x="224" y="8"/>
                      </a:lnTo>
                      <a:lnTo>
                        <a:pt x="247" y="1"/>
                      </a:lnTo>
                      <a:lnTo>
                        <a:pt x="266" y="0"/>
                      </a:lnTo>
                      <a:lnTo>
                        <a:pt x="287" y="0"/>
                      </a:lnTo>
                      <a:lnTo>
                        <a:pt x="305" y="1"/>
                      </a:lnTo>
                      <a:lnTo>
                        <a:pt x="322" y="5"/>
                      </a:lnTo>
                      <a:lnTo>
                        <a:pt x="340" y="12"/>
                      </a:lnTo>
                      <a:lnTo>
                        <a:pt x="357" y="18"/>
                      </a:lnTo>
                      <a:lnTo>
                        <a:pt x="372" y="25"/>
                      </a:lnTo>
                      <a:lnTo>
                        <a:pt x="405" y="45"/>
                      </a:lnTo>
                      <a:lnTo>
                        <a:pt x="436" y="66"/>
                      </a:lnTo>
                      <a:lnTo>
                        <a:pt x="466" y="87"/>
                      </a:lnTo>
                      <a:lnTo>
                        <a:pt x="499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89760" y="2529720"/>
                  <a:ext cx="105480" cy="138960"/>
                </a:xfrm>
                <a:custGeom>
                  <a:avLst/>
                  <a:gdLst/>
                  <a:ahLst/>
                  <a:rect l="l" t="t" r="r" b="b"/>
                  <a:pathLst>
                    <a:path w="1639" h="2158">
                      <a:moveTo>
                        <a:pt x="1210" y="104"/>
                      </a:moveTo>
                      <a:lnTo>
                        <a:pt x="1210" y="245"/>
                      </a:lnTo>
                      <a:lnTo>
                        <a:pt x="1210" y="389"/>
                      </a:lnTo>
                      <a:lnTo>
                        <a:pt x="1210" y="533"/>
                      </a:lnTo>
                      <a:lnTo>
                        <a:pt x="1210" y="676"/>
                      </a:lnTo>
                      <a:lnTo>
                        <a:pt x="1210" y="818"/>
                      </a:lnTo>
                      <a:lnTo>
                        <a:pt x="1210" y="960"/>
                      </a:lnTo>
                      <a:lnTo>
                        <a:pt x="1210" y="1097"/>
                      </a:lnTo>
                      <a:lnTo>
                        <a:pt x="1210" y="1233"/>
                      </a:lnTo>
                      <a:lnTo>
                        <a:pt x="1248" y="1239"/>
                      </a:lnTo>
                      <a:lnTo>
                        <a:pt x="1280" y="1242"/>
                      </a:lnTo>
                      <a:lnTo>
                        <a:pt x="1307" y="1245"/>
                      </a:lnTo>
                      <a:lnTo>
                        <a:pt x="1331" y="1242"/>
                      </a:lnTo>
                      <a:lnTo>
                        <a:pt x="1354" y="1239"/>
                      </a:lnTo>
                      <a:lnTo>
                        <a:pt x="1374" y="1234"/>
                      </a:lnTo>
                      <a:lnTo>
                        <a:pt x="1395" y="1227"/>
                      </a:lnTo>
                      <a:lnTo>
                        <a:pt x="1418" y="1216"/>
                      </a:lnTo>
                      <a:lnTo>
                        <a:pt x="1437" y="1205"/>
                      </a:lnTo>
                      <a:lnTo>
                        <a:pt x="1455" y="1194"/>
                      </a:lnTo>
                      <a:lnTo>
                        <a:pt x="1471" y="1181"/>
                      </a:lnTo>
                      <a:lnTo>
                        <a:pt x="1487" y="1166"/>
                      </a:lnTo>
                      <a:lnTo>
                        <a:pt x="1501" y="1151"/>
                      </a:lnTo>
                      <a:lnTo>
                        <a:pt x="1513" y="1134"/>
                      </a:lnTo>
                      <a:lnTo>
                        <a:pt x="1525" y="1118"/>
                      </a:lnTo>
                      <a:lnTo>
                        <a:pt x="1534" y="1101"/>
                      </a:lnTo>
                      <a:lnTo>
                        <a:pt x="1554" y="1063"/>
                      </a:lnTo>
                      <a:lnTo>
                        <a:pt x="1572" y="1028"/>
                      </a:lnTo>
                      <a:lnTo>
                        <a:pt x="1589" y="994"/>
                      </a:lnTo>
                      <a:lnTo>
                        <a:pt x="1608" y="963"/>
                      </a:lnTo>
                      <a:lnTo>
                        <a:pt x="1639" y="1009"/>
                      </a:lnTo>
                      <a:lnTo>
                        <a:pt x="1621" y="1662"/>
                      </a:lnTo>
                      <a:lnTo>
                        <a:pt x="1605" y="1644"/>
                      </a:lnTo>
                      <a:lnTo>
                        <a:pt x="1587" y="1623"/>
                      </a:lnTo>
                      <a:lnTo>
                        <a:pt x="1569" y="1597"/>
                      </a:lnTo>
                      <a:lnTo>
                        <a:pt x="1552" y="1571"/>
                      </a:lnTo>
                      <a:lnTo>
                        <a:pt x="1532" y="1543"/>
                      </a:lnTo>
                      <a:lnTo>
                        <a:pt x="1513" y="1515"/>
                      </a:lnTo>
                      <a:lnTo>
                        <a:pt x="1492" y="1486"/>
                      </a:lnTo>
                      <a:lnTo>
                        <a:pt x="1471" y="1458"/>
                      </a:lnTo>
                      <a:lnTo>
                        <a:pt x="1448" y="1432"/>
                      </a:lnTo>
                      <a:lnTo>
                        <a:pt x="1422" y="1410"/>
                      </a:lnTo>
                      <a:lnTo>
                        <a:pt x="1411" y="1401"/>
                      </a:lnTo>
                      <a:lnTo>
                        <a:pt x="1397" y="1391"/>
                      </a:lnTo>
                      <a:lnTo>
                        <a:pt x="1384" y="1383"/>
                      </a:lnTo>
                      <a:lnTo>
                        <a:pt x="1369" y="1376"/>
                      </a:lnTo>
                      <a:lnTo>
                        <a:pt x="1355" y="1370"/>
                      </a:lnTo>
                      <a:lnTo>
                        <a:pt x="1340" y="1367"/>
                      </a:lnTo>
                      <a:lnTo>
                        <a:pt x="1325" y="1363"/>
                      </a:lnTo>
                      <a:lnTo>
                        <a:pt x="1310" y="1361"/>
                      </a:lnTo>
                      <a:lnTo>
                        <a:pt x="1294" y="1361"/>
                      </a:lnTo>
                      <a:lnTo>
                        <a:pt x="1276" y="1365"/>
                      </a:lnTo>
                      <a:lnTo>
                        <a:pt x="1260" y="1369"/>
                      </a:lnTo>
                      <a:lnTo>
                        <a:pt x="1242" y="1375"/>
                      </a:lnTo>
                      <a:lnTo>
                        <a:pt x="1209" y="1373"/>
                      </a:lnTo>
                      <a:lnTo>
                        <a:pt x="1216" y="1393"/>
                      </a:lnTo>
                      <a:lnTo>
                        <a:pt x="1221" y="1415"/>
                      </a:lnTo>
                      <a:lnTo>
                        <a:pt x="1224" y="1440"/>
                      </a:lnTo>
                      <a:lnTo>
                        <a:pt x="1227" y="1464"/>
                      </a:lnTo>
                      <a:lnTo>
                        <a:pt x="1229" y="1490"/>
                      </a:lnTo>
                      <a:lnTo>
                        <a:pt x="1229" y="1515"/>
                      </a:lnTo>
                      <a:lnTo>
                        <a:pt x="1227" y="1543"/>
                      </a:lnTo>
                      <a:lnTo>
                        <a:pt x="1227" y="1571"/>
                      </a:lnTo>
                      <a:lnTo>
                        <a:pt x="1218" y="1688"/>
                      </a:lnTo>
                      <a:lnTo>
                        <a:pt x="1210" y="1802"/>
                      </a:lnTo>
                      <a:lnTo>
                        <a:pt x="1210" y="1831"/>
                      </a:lnTo>
                      <a:lnTo>
                        <a:pt x="1212" y="1857"/>
                      </a:lnTo>
                      <a:lnTo>
                        <a:pt x="1213" y="1884"/>
                      </a:lnTo>
                      <a:lnTo>
                        <a:pt x="1216" y="1909"/>
                      </a:lnTo>
                      <a:lnTo>
                        <a:pt x="1223" y="1933"/>
                      </a:lnTo>
                      <a:lnTo>
                        <a:pt x="1229" y="1957"/>
                      </a:lnTo>
                      <a:lnTo>
                        <a:pt x="1237" y="1978"/>
                      </a:lnTo>
                      <a:lnTo>
                        <a:pt x="1248" y="1998"/>
                      </a:lnTo>
                      <a:lnTo>
                        <a:pt x="1262" y="2016"/>
                      </a:lnTo>
                      <a:lnTo>
                        <a:pt x="1277" y="2034"/>
                      </a:lnTo>
                      <a:lnTo>
                        <a:pt x="1295" y="2049"/>
                      </a:lnTo>
                      <a:lnTo>
                        <a:pt x="1316" y="2062"/>
                      </a:lnTo>
                      <a:lnTo>
                        <a:pt x="1340" y="2071"/>
                      </a:lnTo>
                      <a:lnTo>
                        <a:pt x="1366" y="2081"/>
                      </a:lnTo>
                      <a:lnTo>
                        <a:pt x="1397" y="2086"/>
                      </a:lnTo>
                      <a:lnTo>
                        <a:pt x="1431" y="2089"/>
                      </a:lnTo>
                      <a:lnTo>
                        <a:pt x="1433" y="2099"/>
                      </a:lnTo>
                      <a:lnTo>
                        <a:pt x="1431" y="2108"/>
                      </a:lnTo>
                      <a:lnTo>
                        <a:pt x="1429" y="2116"/>
                      </a:lnTo>
                      <a:lnTo>
                        <a:pt x="1426" y="2125"/>
                      </a:lnTo>
                      <a:lnTo>
                        <a:pt x="1422" y="2131"/>
                      </a:lnTo>
                      <a:lnTo>
                        <a:pt x="1418" y="2136"/>
                      </a:lnTo>
                      <a:lnTo>
                        <a:pt x="1411" y="2142"/>
                      </a:lnTo>
                      <a:lnTo>
                        <a:pt x="1405" y="2146"/>
                      </a:lnTo>
                      <a:lnTo>
                        <a:pt x="1397" y="2151"/>
                      </a:lnTo>
                      <a:lnTo>
                        <a:pt x="1389" y="2154"/>
                      </a:lnTo>
                      <a:lnTo>
                        <a:pt x="1381" y="2155"/>
                      </a:lnTo>
                      <a:lnTo>
                        <a:pt x="1372" y="2157"/>
                      </a:lnTo>
                      <a:lnTo>
                        <a:pt x="1355" y="2158"/>
                      </a:lnTo>
                      <a:lnTo>
                        <a:pt x="1339" y="2157"/>
                      </a:lnTo>
                      <a:lnTo>
                        <a:pt x="1250" y="2157"/>
                      </a:lnTo>
                      <a:lnTo>
                        <a:pt x="1163" y="2157"/>
                      </a:lnTo>
                      <a:lnTo>
                        <a:pt x="1076" y="2157"/>
                      </a:lnTo>
                      <a:lnTo>
                        <a:pt x="988" y="2157"/>
                      </a:lnTo>
                      <a:lnTo>
                        <a:pt x="900" y="2157"/>
                      </a:lnTo>
                      <a:lnTo>
                        <a:pt x="811" y="2157"/>
                      </a:lnTo>
                      <a:lnTo>
                        <a:pt x="725" y="2157"/>
                      </a:lnTo>
                      <a:lnTo>
                        <a:pt x="637" y="2157"/>
                      </a:lnTo>
                      <a:lnTo>
                        <a:pt x="639" y="2146"/>
                      </a:lnTo>
                      <a:lnTo>
                        <a:pt x="640" y="2136"/>
                      </a:lnTo>
                      <a:lnTo>
                        <a:pt x="645" y="2126"/>
                      </a:lnTo>
                      <a:lnTo>
                        <a:pt x="649" y="2116"/>
                      </a:lnTo>
                      <a:lnTo>
                        <a:pt x="660" y="2101"/>
                      </a:lnTo>
                      <a:lnTo>
                        <a:pt x="675" y="2084"/>
                      </a:lnTo>
                      <a:lnTo>
                        <a:pt x="707" y="2055"/>
                      </a:lnTo>
                      <a:lnTo>
                        <a:pt x="742" y="2028"/>
                      </a:lnTo>
                      <a:lnTo>
                        <a:pt x="758" y="2013"/>
                      </a:lnTo>
                      <a:lnTo>
                        <a:pt x="776" y="1998"/>
                      </a:lnTo>
                      <a:lnTo>
                        <a:pt x="790" y="1983"/>
                      </a:lnTo>
                      <a:lnTo>
                        <a:pt x="803" y="1966"/>
                      </a:lnTo>
                      <a:lnTo>
                        <a:pt x="810" y="1959"/>
                      </a:lnTo>
                      <a:lnTo>
                        <a:pt x="814" y="1948"/>
                      </a:lnTo>
                      <a:lnTo>
                        <a:pt x="820" y="1939"/>
                      </a:lnTo>
                      <a:lnTo>
                        <a:pt x="823" y="1930"/>
                      </a:lnTo>
                      <a:lnTo>
                        <a:pt x="825" y="1918"/>
                      </a:lnTo>
                      <a:lnTo>
                        <a:pt x="826" y="1907"/>
                      </a:lnTo>
                      <a:lnTo>
                        <a:pt x="828" y="1895"/>
                      </a:lnTo>
                      <a:lnTo>
                        <a:pt x="826" y="1883"/>
                      </a:lnTo>
                      <a:lnTo>
                        <a:pt x="825" y="1850"/>
                      </a:lnTo>
                      <a:lnTo>
                        <a:pt x="825" y="1817"/>
                      </a:lnTo>
                      <a:lnTo>
                        <a:pt x="825" y="1783"/>
                      </a:lnTo>
                      <a:lnTo>
                        <a:pt x="826" y="1749"/>
                      </a:lnTo>
                      <a:lnTo>
                        <a:pt x="829" y="1681"/>
                      </a:lnTo>
                      <a:lnTo>
                        <a:pt x="831" y="1612"/>
                      </a:lnTo>
                      <a:lnTo>
                        <a:pt x="831" y="1578"/>
                      </a:lnTo>
                      <a:lnTo>
                        <a:pt x="829" y="1546"/>
                      </a:lnTo>
                      <a:lnTo>
                        <a:pt x="828" y="1511"/>
                      </a:lnTo>
                      <a:lnTo>
                        <a:pt x="823" y="1479"/>
                      </a:lnTo>
                      <a:lnTo>
                        <a:pt x="817" y="1449"/>
                      </a:lnTo>
                      <a:lnTo>
                        <a:pt x="808" y="1419"/>
                      </a:lnTo>
                      <a:lnTo>
                        <a:pt x="797" y="1389"/>
                      </a:lnTo>
                      <a:lnTo>
                        <a:pt x="782" y="1361"/>
                      </a:lnTo>
                      <a:lnTo>
                        <a:pt x="32" y="1361"/>
                      </a:lnTo>
                      <a:lnTo>
                        <a:pt x="0" y="1313"/>
                      </a:lnTo>
                      <a:lnTo>
                        <a:pt x="55" y="1233"/>
                      </a:lnTo>
                      <a:lnTo>
                        <a:pt x="109" y="1154"/>
                      </a:lnTo>
                      <a:lnTo>
                        <a:pt x="164" y="1073"/>
                      </a:lnTo>
                      <a:lnTo>
                        <a:pt x="217" y="992"/>
                      </a:lnTo>
                      <a:lnTo>
                        <a:pt x="270" y="912"/>
                      </a:lnTo>
                      <a:lnTo>
                        <a:pt x="323" y="832"/>
                      </a:lnTo>
                      <a:lnTo>
                        <a:pt x="376" y="749"/>
                      </a:lnTo>
                      <a:lnTo>
                        <a:pt x="430" y="668"/>
                      </a:lnTo>
                      <a:lnTo>
                        <a:pt x="484" y="590"/>
                      </a:lnTo>
                      <a:lnTo>
                        <a:pt x="537" y="508"/>
                      </a:lnTo>
                      <a:lnTo>
                        <a:pt x="592" y="430"/>
                      </a:lnTo>
                      <a:lnTo>
                        <a:pt x="647" y="351"/>
                      </a:lnTo>
                      <a:lnTo>
                        <a:pt x="704" y="272"/>
                      </a:lnTo>
                      <a:lnTo>
                        <a:pt x="760" y="194"/>
                      </a:lnTo>
                      <a:lnTo>
                        <a:pt x="817" y="117"/>
                      </a:lnTo>
                      <a:lnTo>
                        <a:pt x="874" y="41"/>
                      </a:lnTo>
                      <a:lnTo>
                        <a:pt x="917" y="30"/>
                      </a:lnTo>
                      <a:lnTo>
                        <a:pt x="967" y="17"/>
                      </a:lnTo>
                      <a:lnTo>
                        <a:pt x="995" y="12"/>
                      </a:lnTo>
                      <a:lnTo>
                        <a:pt x="1023" y="7"/>
                      </a:lnTo>
                      <a:lnTo>
                        <a:pt x="1052" y="2"/>
                      </a:lnTo>
                      <a:lnTo>
                        <a:pt x="1079" y="0"/>
                      </a:lnTo>
                      <a:lnTo>
                        <a:pt x="1105" y="2"/>
                      </a:lnTo>
                      <a:lnTo>
                        <a:pt x="1130" y="6"/>
                      </a:lnTo>
                      <a:lnTo>
                        <a:pt x="1142" y="7"/>
                      </a:lnTo>
                      <a:lnTo>
                        <a:pt x="1153" y="12"/>
                      </a:lnTo>
                      <a:lnTo>
                        <a:pt x="1163" y="15"/>
                      </a:lnTo>
                      <a:lnTo>
                        <a:pt x="1173" y="21"/>
                      </a:lnTo>
                      <a:lnTo>
                        <a:pt x="1180" y="29"/>
                      </a:lnTo>
                      <a:lnTo>
                        <a:pt x="1189" y="35"/>
                      </a:lnTo>
                      <a:lnTo>
                        <a:pt x="1195" y="42"/>
                      </a:lnTo>
                      <a:lnTo>
                        <a:pt x="1201" y="53"/>
                      </a:lnTo>
                      <a:lnTo>
                        <a:pt x="1206" y="64"/>
                      </a:lnTo>
                      <a:lnTo>
                        <a:pt x="1209" y="74"/>
                      </a:lnTo>
                      <a:lnTo>
                        <a:pt x="1210" y="89"/>
                      </a:lnTo>
                      <a:lnTo>
                        <a:pt x="1210" y="104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63360" y="2535840"/>
                  <a:ext cx="98280" cy="141120"/>
                </a:xfrm>
                <a:custGeom>
                  <a:avLst/>
                  <a:gdLst/>
                  <a:ahLst/>
                  <a:rect l="l" t="t" r="r" b="b"/>
                  <a:pathLst>
                    <a:path w="1527" h="2195">
                      <a:moveTo>
                        <a:pt x="1400" y="333"/>
                      </a:moveTo>
                      <a:lnTo>
                        <a:pt x="1406" y="354"/>
                      </a:lnTo>
                      <a:lnTo>
                        <a:pt x="1412" y="373"/>
                      </a:lnTo>
                      <a:lnTo>
                        <a:pt x="1416" y="394"/>
                      </a:lnTo>
                      <a:lnTo>
                        <a:pt x="1420" y="413"/>
                      </a:lnTo>
                      <a:lnTo>
                        <a:pt x="1423" y="433"/>
                      </a:lnTo>
                      <a:lnTo>
                        <a:pt x="1424" y="452"/>
                      </a:lnTo>
                      <a:lnTo>
                        <a:pt x="1424" y="471"/>
                      </a:lnTo>
                      <a:lnTo>
                        <a:pt x="1423" y="489"/>
                      </a:lnTo>
                      <a:lnTo>
                        <a:pt x="1421" y="508"/>
                      </a:lnTo>
                      <a:lnTo>
                        <a:pt x="1418" y="526"/>
                      </a:lnTo>
                      <a:lnTo>
                        <a:pt x="1414" y="545"/>
                      </a:lnTo>
                      <a:lnTo>
                        <a:pt x="1409" y="563"/>
                      </a:lnTo>
                      <a:lnTo>
                        <a:pt x="1398" y="598"/>
                      </a:lnTo>
                      <a:lnTo>
                        <a:pt x="1384" y="633"/>
                      </a:lnTo>
                      <a:lnTo>
                        <a:pt x="1366" y="664"/>
                      </a:lnTo>
                      <a:lnTo>
                        <a:pt x="1347" y="697"/>
                      </a:lnTo>
                      <a:lnTo>
                        <a:pt x="1324" y="729"/>
                      </a:lnTo>
                      <a:lnTo>
                        <a:pt x="1302" y="760"/>
                      </a:lnTo>
                      <a:lnTo>
                        <a:pt x="1276" y="791"/>
                      </a:lnTo>
                      <a:lnTo>
                        <a:pt x="1249" y="820"/>
                      </a:lnTo>
                      <a:lnTo>
                        <a:pt x="1220" y="847"/>
                      </a:lnTo>
                      <a:lnTo>
                        <a:pt x="1192" y="874"/>
                      </a:lnTo>
                      <a:lnTo>
                        <a:pt x="1192" y="920"/>
                      </a:lnTo>
                      <a:lnTo>
                        <a:pt x="1214" y="931"/>
                      </a:lnTo>
                      <a:lnTo>
                        <a:pt x="1235" y="944"/>
                      </a:lnTo>
                      <a:lnTo>
                        <a:pt x="1255" y="956"/>
                      </a:lnTo>
                      <a:lnTo>
                        <a:pt x="1274" y="970"/>
                      </a:lnTo>
                      <a:lnTo>
                        <a:pt x="1291" y="984"/>
                      </a:lnTo>
                      <a:lnTo>
                        <a:pt x="1309" y="999"/>
                      </a:lnTo>
                      <a:lnTo>
                        <a:pt x="1326" y="1013"/>
                      </a:lnTo>
                      <a:lnTo>
                        <a:pt x="1340" y="1029"/>
                      </a:lnTo>
                      <a:lnTo>
                        <a:pt x="1356" y="1047"/>
                      </a:lnTo>
                      <a:lnTo>
                        <a:pt x="1370" y="1063"/>
                      </a:lnTo>
                      <a:lnTo>
                        <a:pt x="1382" y="1080"/>
                      </a:lnTo>
                      <a:lnTo>
                        <a:pt x="1395" y="1098"/>
                      </a:lnTo>
                      <a:lnTo>
                        <a:pt x="1418" y="1136"/>
                      </a:lnTo>
                      <a:lnTo>
                        <a:pt x="1438" y="1174"/>
                      </a:lnTo>
                      <a:lnTo>
                        <a:pt x="1455" y="1213"/>
                      </a:lnTo>
                      <a:lnTo>
                        <a:pt x="1471" y="1255"/>
                      </a:lnTo>
                      <a:lnTo>
                        <a:pt x="1483" y="1295"/>
                      </a:lnTo>
                      <a:lnTo>
                        <a:pt x="1495" y="1339"/>
                      </a:lnTo>
                      <a:lnTo>
                        <a:pt x="1506" y="1381"/>
                      </a:lnTo>
                      <a:lnTo>
                        <a:pt x="1515" y="1425"/>
                      </a:lnTo>
                      <a:lnTo>
                        <a:pt x="1521" y="1468"/>
                      </a:lnTo>
                      <a:lnTo>
                        <a:pt x="1527" y="1511"/>
                      </a:lnTo>
                      <a:lnTo>
                        <a:pt x="1526" y="1542"/>
                      </a:lnTo>
                      <a:lnTo>
                        <a:pt x="1521" y="1575"/>
                      </a:lnTo>
                      <a:lnTo>
                        <a:pt x="1515" y="1603"/>
                      </a:lnTo>
                      <a:lnTo>
                        <a:pt x="1508" y="1634"/>
                      </a:lnTo>
                      <a:lnTo>
                        <a:pt x="1498" y="1663"/>
                      </a:lnTo>
                      <a:lnTo>
                        <a:pt x="1489" y="1692"/>
                      </a:lnTo>
                      <a:lnTo>
                        <a:pt x="1477" y="1720"/>
                      </a:lnTo>
                      <a:lnTo>
                        <a:pt x="1465" y="1747"/>
                      </a:lnTo>
                      <a:lnTo>
                        <a:pt x="1450" y="1774"/>
                      </a:lnTo>
                      <a:lnTo>
                        <a:pt x="1435" y="1800"/>
                      </a:lnTo>
                      <a:lnTo>
                        <a:pt x="1420" y="1826"/>
                      </a:lnTo>
                      <a:lnTo>
                        <a:pt x="1402" y="1852"/>
                      </a:lnTo>
                      <a:lnTo>
                        <a:pt x="1384" y="1876"/>
                      </a:lnTo>
                      <a:lnTo>
                        <a:pt x="1364" y="1898"/>
                      </a:lnTo>
                      <a:lnTo>
                        <a:pt x="1344" y="1921"/>
                      </a:lnTo>
                      <a:lnTo>
                        <a:pt x="1323" y="1944"/>
                      </a:lnTo>
                      <a:lnTo>
                        <a:pt x="1302" y="1965"/>
                      </a:lnTo>
                      <a:lnTo>
                        <a:pt x="1279" y="1986"/>
                      </a:lnTo>
                      <a:lnTo>
                        <a:pt x="1255" y="2004"/>
                      </a:lnTo>
                      <a:lnTo>
                        <a:pt x="1232" y="2024"/>
                      </a:lnTo>
                      <a:lnTo>
                        <a:pt x="1206" y="2044"/>
                      </a:lnTo>
                      <a:lnTo>
                        <a:pt x="1182" y="2060"/>
                      </a:lnTo>
                      <a:lnTo>
                        <a:pt x="1157" y="2077"/>
                      </a:lnTo>
                      <a:lnTo>
                        <a:pt x="1131" y="2094"/>
                      </a:lnTo>
                      <a:lnTo>
                        <a:pt x="1103" y="2108"/>
                      </a:lnTo>
                      <a:lnTo>
                        <a:pt x="1076" y="2122"/>
                      </a:lnTo>
                      <a:lnTo>
                        <a:pt x="1048" y="2136"/>
                      </a:lnTo>
                      <a:lnTo>
                        <a:pt x="1021" y="2148"/>
                      </a:lnTo>
                      <a:lnTo>
                        <a:pt x="993" y="2161"/>
                      </a:lnTo>
                      <a:lnTo>
                        <a:pt x="966" y="2171"/>
                      </a:lnTo>
                      <a:lnTo>
                        <a:pt x="939" y="2183"/>
                      </a:lnTo>
                      <a:lnTo>
                        <a:pt x="910" y="2190"/>
                      </a:lnTo>
                      <a:lnTo>
                        <a:pt x="810" y="2193"/>
                      </a:lnTo>
                      <a:lnTo>
                        <a:pt x="709" y="2195"/>
                      </a:lnTo>
                      <a:lnTo>
                        <a:pt x="659" y="2193"/>
                      </a:lnTo>
                      <a:lnTo>
                        <a:pt x="611" y="2190"/>
                      </a:lnTo>
                      <a:lnTo>
                        <a:pt x="562" y="2187"/>
                      </a:lnTo>
                      <a:lnTo>
                        <a:pt x="514" y="2181"/>
                      </a:lnTo>
                      <a:lnTo>
                        <a:pt x="470" y="2172"/>
                      </a:lnTo>
                      <a:lnTo>
                        <a:pt x="423" y="2161"/>
                      </a:lnTo>
                      <a:lnTo>
                        <a:pt x="379" y="2148"/>
                      </a:lnTo>
                      <a:lnTo>
                        <a:pt x="335" y="2133"/>
                      </a:lnTo>
                      <a:lnTo>
                        <a:pt x="314" y="2122"/>
                      </a:lnTo>
                      <a:lnTo>
                        <a:pt x="293" y="2113"/>
                      </a:lnTo>
                      <a:lnTo>
                        <a:pt x="273" y="2101"/>
                      </a:lnTo>
                      <a:lnTo>
                        <a:pt x="254" y="2090"/>
                      </a:lnTo>
                      <a:lnTo>
                        <a:pt x="234" y="2077"/>
                      </a:lnTo>
                      <a:lnTo>
                        <a:pt x="214" y="2063"/>
                      </a:lnTo>
                      <a:lnTo>
                        <a:pt x="195" y="2048"/>
                      </a:lnTo>
                      <a:lnTo>
                        <a:pt x="178" y="2033"/>
                      </a:lnTo>
                      <a:lnTo>
                        <a:pt x="150" y="2006"/>
                      </a:lnTo>
                      <a:lnTo>
                        <a:pt x="124" y="1979"/>
                      </a:lnTo>
                      <a:lnTo>
                        <a:pt x="101" y="1951"/>
                      </a:lnTo>
                      <a:lnTo>
                        <a:pt x="81" y="1923"/>
                      </a:lnTo>
                      <a:lnTo>
                        <a:pt x="63" y="1892"/>
                      </a:lnTo>
                      <a:lnTo>
                        <a:pt x="47" y="1862"/>
                      </a:lnTo>
                      <a:lnTo>
                        <a:pt x="33" y="1829"/>
                      </a:lnTo>
                      <a:lnTo>
                        <a:pt x="21" y="1797"/>
                      </a:lnTo>
                      <a:lnTo>
                        <a:pt x="13" y="1763"/>
                      </a:lnTo>
                      <a:lnTo>
                        <a:pt x="4" y="1728"/>
                      </a:lnTo>
                      <a:lnTo>
                        <a:pt x="1" y="1694"/>
                      </a:lnTo>
                      <a:lnTo>
                        <a:pt x="0" y="1658"/>
                      </a:lnTo>
                      <a:lnTo>
                        <a:pt x="0" y="1621"/>
                      </a:lnTo>
                      <a:lnTo>
                        <a:pt x="3" y="1585"/>
                      </a:lnTo>
                      <a:lnTo>
                        <a:pt x="10" y="1549"/>
                      </a:lnTo>
                      <a:lnTo>
                        <a:pt x="18" y="1511"/>
                      </a:lnTo>
                      <a:lnTo>
                        <a:pt x="27" y="1481"/>
                      </a:lnTo>
                      <a:lnTo>
                        <a:pt x="39" y="1451"/>
                      </a:lnTo>
                      <a:lnTo>
                        <a:pt x="50" y="1422"/>
                      </a:lnTo>
                      <a:lnTo>
                        <a:pt x="65" y="1397"/>
                      </a:lnTo>
                      <a:lnTo>
                        <a:pt x="81" y="1371"/>
                      </a:lnTo>
                      <a:lnTo>
                        <a:pt x="97" y="1345"/>
                      </a:lnTo>
                      <a:lnTo>
                        <a:pt x="116" y="1322"/>
                      </a:lnTo>
                      <a:lnTo>
                        <a:pt x="136" y="1298"/>
                      </a:lnTo>
                      <a:lnTo>
                        <a:pt x="155" y="1276"/>
                      </a:lnTo>
                      <a:lnTo>
                        <a:pt x="176" y="1255"/>
                      </a:lnTo>
                      <a:lnTo>
                        <a:pt x="198" y="1233"/>
                      </a:lnTo>
                      <a:lnTo>
                        <a:pt x="221" y="1212"/>
                      </a:lnTo>
                      <a:lnTo>
                        <a:pt x="269" y="1169"/>
                      </a:lnTo>
                      <a:lnTo>
                        <a:pt x="317" y="1127"/>
                      </a:lnTo>
                      <a:lnTo>
                        <a:pt x="282" y="1094"/>
                      </a:lnTo>
                      <a:lnTo>
                        <a:pt x="250" y="1059"/>
                      </a:lnTo>
                      <a:lnTo>
                        <a:pt x="219" y="1021"/>
                      </a:lnTo>
                      <a:lnTo>
                        <a:pt x="192" y="981"/>
                      </a:lnTo>
                      <a:lnTo>
                        <a:pt x="166" y="941"/>
                      </a:lnTo>
                      <a:lnTo>
                        <a:pt x="143" y="899"/>
                      </a:lnTo>
                      <a:lnTo>
                        <a:pt x="134" y="876"/>
                      </a:lnTo>
                      <a:lnTo>
                        <a:pt x="124" y="855"/>
                      </a:lnTo>
                      <a:lnTo>
                        <a:pt x="116" y="832"/>
                      </a:lnTo>
                      <a:lnTo>
                        <a:pt x="108" y="808"/>
                      </a:lnTo>
                      <a:lnTo>
                        <a:pt x="101" y="785"/>
                      </a:lnTo>
                      <a:lnTo>
                        <a:pt x="95" y="763"/>
                      </a:lnTo>
                      <a:lnTo>
                        <a:pt x="90" y="739"/>
                      </a:lnTo>
                      <a:lnTo>
                        <a:pt x="86" y="714"/>
                      </a:lnTo>
                      <a:lnTo>
                        <a:pt x="81" y="690"/>
                      </a:lnTo>
                      <a:lnTo>
                        <a:pt x="77" y="666"/>
                      </a:lnTo>
                      <a:lnTo>
                        <a:pt x="75" y="642"/>
                      </a:lnTo>
                      <a:lnTo>
                        <a:pt x="74" y="616"/>
                      </a:lnTo>
                      <a:lnTo>
                        <a:pt x="74" y="592"/>
                      </a:lnTo>
                      <a:lnTo>
                        <a:pt x="74" y="566"/>
                      </a:lnTo>
                      <a:lnTo>
                        <a:pt x="75" y="540"/>
                      </a:lnTo>
                      <a:lnTo>
                        <a:pt x="80" y="515"/>
                      </a:lnTo>
                      <a:lnTo>
                        <a:pt x="83" y="489"/>
                      </a:lnTo>
                      <a:lnTo>
                        <a:pt x="86" y="463"/>
                      </a:lnTo>
                      <a:lnTo>
                        <a:pt x="92" y="437"/>
                      </a:lnTo>
                      <a:lnTo>
                        <a:pt x="97" y="412"/>
                      </a:lnTo>
                      <a:lnTo>
                        <a:pt x="111" y="381"/>
                      </a:lnTo>
                      <a:lnTo>
                        <a:pt x="125" y="350"/>
                      </a:lnTo>
                      <a:lnTo>
                        <a:pt x="142" y="323"/>
                      </a:lnTo>
                      <a:lnTo>
                        <a:pt x="161" y="295"/>
                      </a:lnTo>
                      <a:lnTo>
                        <a:pt x="179" y="271"/>
                      </a:lnTo>
                      <a:lnTo>
                        <a:pt x="199" y="247"/>
                      </a:lnTo>
                      <a:lnTo>
                        <a:pt x="222" y="224"/>
                      </a:lnTo>
                      <a:lnTo>
                        <a:pt x="245" y="202"/>
                      </a:lnTo>
                      <a:lnTo>
                        <a:pt x="267" y="183"/>
                      </a:lnTo>
                      <a:lnTo>
                        <a:pt x="293" y="164"/>
                      </a:lnTo>
                      <a:lnTo>
                        <a:pt x="319" y="146"/>
                      </a:lnTo>
                      <a:lnTo>
                        <a:pt x="346" y="129"/>
                      </a:lnTo>
                      <a:lnTo>
                        <a:pt x="373" y="114"/>
                      </a:lnTo>
                      <a:lnTo>
                        <a:pt x="402" y="99"/>
                      </a:lnTo>
                      <a:lnTo>
                        <a:pt x="431" y="86"/>
                      </a:lnTo>
                      <a:lnTo>
                        <a:pt x="459" y="74"/>
                      </a:lnTo>
                      <a:lnTo>
                        <a:pt x="490" y="64"/>
                      </a:lnTo>
                      <a:lnTo>
                        <a:pt x="521" y="53"/>
                      </a:lnTo>
                      <a:lnTo>
                        <a:pt x="552" y="44"/>
                      </a:lnTo>
                      <a:lnTo>
                        <a:pt x="584" y="36"/>
                      </a:lnTo>
                      <a:lnTo>
                        <a:pt x="616" y="28"/>
                      </a:lnTo>
                      <a:lnTo>
                        <a:pt x="648" y="21"/>
                      </a:lnTo>
                      <a:lnTo>
                        <a:pt x="680" y="17"/>
                      </a:lnTo>
                      <a:lnTo>
                        <a:pt x="713" y="12"/>
                      </a:lnTo>
                      <a:lnTo>
                        <a:pt x="777" y="5"/>
                      </a:lnTo>
                      <a:lnTo>
                        <a:pt x="844" y="0"/>
                      </a:lnTo>
                      <a:lnTo>
                        <a:pt x="908" y="0"/>
                      </a:lnTo>
                      <a:lnTo>
                        <a:pt x="971" y="2"/>
                      </a:lnTo>
                      <a:lnTo>
                        <a:pt x="1007" y="8"/>
                      </a:lnTo>
                      <a:lnTo>
                        <a:pt x="1040" y="18"/>
                      </a:lnTo>
                      <a:lnTo>
                        <a:pt x="1072" y="29"/>
                      </a:lnTo>
                      <a:lnTo>
                        <a:pt x="1105" y="43"/>
                      </a:lnTo>
                      <a:lnTo>
                        <a:pt x="1135" y="58"/>
                      </a:lnTo>
                      <a:lnTo>
                        <a:pt x="1164" y="74"/>
                      </a:lnTo>
                      <a:lnTo>
                        <a:pt x="1193" y="94"/>
                      </a:lnTo>
                      <a:lnTo>
                        <a:pt x="1223" y="114"/>
                      </a:lnTo>
                      <a:lnTo>
                        <a:pt x="1249" y="136"/>
                      </a:lnTo>
                      <a:lnTo>
                        <a:pt x="1274" y="160"/>
                      </a:lnTo>
                      <a:lnTo>
                        <a:pt x="1299" y="185"/>
                      </a:lnTo>
                      <a:lnTo>
                        <a:pt x="1321" y="212"/>
                      </a:lnTo>
                      <a:lnTo>
                        <a:pt x="1344" y="239"/>
                      </a:lnTo>
                      <a:lnTo>
                        <a:pt x="1362" y="268"/>
                      </a:lnTo>
                      <a:lnTo>
                        <a:pt x="1382" y="300"/>
                      </a:lnTo>
                      <a:lnTo>
                        <a:pt x="1400" y="333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87840" y="2541240"/>
                  <a:ext cx="56880" cy="49320"/>
                </a:xfrm>
                <a:custGeom>
                  <a:avLst/>
                  <a:gdLst/>
                  <a:ahLst/>
                  <a:rect l="l" t="t" r="r" b="b"/>
                  <a:pathLst>
                    <a:path w="881" h="770">
                      <a:moveTo>
                        <a:pt x="810" y="151"/>
                      </a:moveTo>
                      <a:lnTo>
                        <a:pt x="821" y="159"/>
                      </a:lnTo>
                      <a:lnTo>
                        <a:pt x="829" y="169"/>
                      </a:lnTo>
                      <a:lnTo>
                        <a:pt x="838" y="177"/>
                      </a:lnTo>
                      <a:lnTo>
                        <a:pt x="846" y="186"/>
                      </a:lnTo>
                      <a:lnTo>
                        <a:pt x="852" y="198"/>
                      </a:lnTo>
                      <a:lnTo>
                        <a:pt x="858" y="207"/>
                      </a:lnTo>
                      <a:lnTo>
                        <a:pt x="864" y="219"/>
                      </a:lnTo>
                      <a:lnTo>
                        <a:pt x="868" y="230"/>
                      </a:lnTo>
                      <a:lnTo>
                        <a:pt x="874" y="254"/>
                      </a:lnTo>
                      <a:lnTo>
                        <a:pt x="877" y="278"/>
                      </a:lnTo>
                      <a:lnTo>
                        <a:pt x="881" y="304"/>
                      </a:lnTo>
                      <a:lnTo>
                        <a:pt x="881" y="330"/>
                      </a:lnTo>
                      <a:lnTo>
                        <a:pt x="877" y="383"/>
                      </a:lnTo>
                      <a:lnTo>
                        <a:pt x="871" y="435"/>
                      </a:lnTo>
                      <a:lnTo>
                        <a:pt x="865" y="485"/>
                      </a:lnTo>
                      <a:lnTo>
                        <a:pt x="858" y="531"/>
                      </a:lnTo>
                      <a:lnTo>
                        <a:pt x="853" y="548"/>
                      </a:lnTo>
                      <a:lnTo>
                        <a:pt x="849" y="566"/>
                      </a:lnTo>
                      <a:lnTo>
                        <a:pt x="841" y="582"/>
                      </a:lnTo>
                      <a:lnTo>
                        <a:pt x="832" y="598"/>
                      </a:lnTo>
                      <a:lnTo>
                        <a:pt x="814" y="628"/>
                      </a:lnTo>
                      <a:lnTo>
                        <a:pt x="793" y="659"/>
                      </a:lnTo>
                      <a:lnTo>
                        <a:pt x="768" y="688"/>
                      </a:lnTo>
                      <a:lnTo>
                        <a:pt x="743" y="715"/>
                      </a:lnTo>
                      <a:lnTo>
                        <a:pt x="714" y="743"/>
                      </a:lnTo>
                      <a:lnTo>
                        <a:pt x="687" y="770"/>
                      </a:lnTo>
                      <a:lnTo>
                        <a:pt x="642" y="755"/>
                      </a:lnTo>
                      <a:lnTo>
                        <a:pt x="595" y="741"/>
                      </a:lnTo>
                      <a:lnTo>
                        <a:pt x="546" y="730"/>
                      </a:lnTo>
                      <a:lnTo>
                        <a:pt x="499" y="719"/>
                      </a:lnTo>
                      <a:lnTo>
                        <a:pt x="451" y="709"/>
                      </a:lnTo>
                      <a:lnTo>
                        <a:pt x="402" y="697"/>
                      </a:lnTo>
                      <a:lnTo>
                        <a:pt x="354" y="687"/>
                      </a:lnTo>
                      <a:lnTo>
                        <a:pt x="307" y="673"/>
                      </a:lnTo>
                      <a:lnTo>
                        <a:pt x="284" y="666"/>
                      </a:lnTo>
                      <a:lnTo>
                        <a:pt x="260" y="658"/>
                      </a:lnTo>
                      <a:lnTo>
                        <a:pt x="239" y="649"/>
                      </a:lnTo>
                      <a:lnTo>
                        <a:pt x="216" y="640"/>
                      </a:lnTo>
                      <a:lnTo>
                        <a:pt x="195" y="628"/>
                      </a:lnTo>
                      <a:lnTo>
                        <a:pt x="174" y="617"/>
                      </a:lnTo>
                      <a:lnTo>
                        <a:pt x="155" y="604"/>
                      </a:lnTo>
                      <a:lnTo>
                        <a:pt x="136" y="591"/>
                      </a:lnTo>
                      <a:lnTo>
                        <a:pt x="118" y="576"/>
                      </a:lnTo>
                      <a:lnTo>
                        <a:pt x="100" y="561"/>
                      </a:lnTo>
                      <a:lnTo>
                        <a:pt x="84" y="543"/>
                      </a:lnTo>
                      <a:lnTo>
                        <a:pt x="68" y="525"/>
                      </a:lnTo>
                      <a:lnTo>
                        <a:pt x="53" y="504"/>
                      </a:lnTo>
                      <a:lnTo>
                        <a:pt x="39" y="484"/>
                      </a:lnTo>
                      <a:lnTo>
                        <a:pt x="28" y="460"/>
                      </a:lnTo>
                      <a:lnTo>
                        <a:pt x="17" y="435"/>
                      </a:lnTo>
                      <a:lnTo>
                        <a:pt x="8" y="398"/>
                      </a:lnTo>
                      <a:lnTo>
                        <a:pt x="3" y="357"/>
                      </a:lnTo>
                      <a:lnTo>
                        <a:pt x="2" y="339"/>
                      </a:lnTo>
                      <a:lnTo>
                        <a:pt x="0" y="317"/>
                      </a:lnTo>
                      <a:lnTo>
                        <a:pt x="0" y="296"/>
                      </a:lnTo>
                      <a:lnTo>
                        <a:pt x="0" y="275"/>
                      </a:lnTo>
                      <a:lnTo>
                        <a:pt x="2" y="256"/>
                      </a:lnTo>
                      <a:lnTo>
                        <a:pt x="5" y="235"/>
                      </a:lnTo>
                      <a:lnTo>
                        <a:pt x="10" y="216"/>
                      </a:lnTo>
                      <a:lnTo>
                        <a:pt x="17" y="198"/>
                      </a:lnTo>
                      <a:lnTo>
                        <a:pt x="26" y="180"/>
                      </a:lnTo>
                      <a:lnTo>
                        <a:pt x="35" y="164"/>
                      </a:lnTo>
                      <a:lnTo>
                        <a:pt x="49" y="148"/>
                      </a:lnTo>
                      <a:lnTo>
                        <a:pt x="65" y="133"/>
                      </a:lnTo>
                      <a:lnTo>
                        <a:pt x="82" y="115"/>
                      </a:lnTo>
                      <a:lnTo>
                        <a:pt x="100" y="98"/>
                      </a:lnTo>
                      <a:lnTo>
                        <a:pt x="120" y="82"/>
                      </a:lnTo>
                      <a:lnTo>
                        <a:pt x="141" y="68"/>
                      </a:lnTo>
                      <a:lnTo>
                        <a:pt x="163" y="56"/>
                      </a:lnTo>
                      <a:lnTo>
                        <a:pt x="186" y="43"/>
                      </a:lnTo>
                      <a:lnTo>
                        <a:pt x="209" y="33"/>
                      </a:lnTo>
                      <a:lnTo>
                        <a:pt x="233" y="26"/>
                      </a:lnTo>
                      <a:lnTo>
                        <a:pt x="257" y="17"/>
                      </a:lnTo>
                      <a:lnTo>
                        <a:pt x="283" y="11"/>
                      </a:lnTo>
                      <a:lnTo>
                        <a:pt x="307" y="6"/>
                      </a:lnTo>
                      <a:lnTo>
                        <a:pt x="333" y="3"/>
                      </a:lnTo>
                      <a:lnTo>
                        <a:pt x="360" y="1"/>
                      </a:lnTo>
                      <a:lnTo>
                        <a:pt x="386" y="0"/>
                      </a:lnTo>
                      <a:lnTo>
                        <a:pt x="412" y="0"/>
                      </a:lnTo>
                      <a:lnTo>
                        <a:pt x="439" y="1"/>
                      </a:lnTo>
                      <a:lnTo>
                        <a:pt x="465" y="3"/>
                      </a:lnTo>
                      <a:lnTo>
                        <a:pt x="492" y="6"/>
                      </a:lnTo>
                      <a:lnTo>
                        <a:pt x="518" y="11"/>
                      </a:lnTo>
                      <a:lnTo>
                        <a:pt x="543" y="15"/>
                      </a:lnTo>
                      <a:lnTo>
                        <a:pt x="569" y="22"/>
                      </a:lnTo>
                      <a:lnTo>
                        <a:pt x="595" y="30"/>
                      </a:lnTo>
                      <a:lnTo>
                        <a:pt x="619" y="38"/>
                      </a:lnTo>
                      <a:lnTo>
                        <a:pt x="646" y="47"/>
                      </a:lnTo>
                      <a:lnTo>
                        <a:pt x="667" y="58"/>
                      </a:lnTo>
                      <a:lnTo>
                        <a:pt x="692" y="68"/>
                      </a:lnTo>
                      <a:lnTo>
                        <a:pt x="713" y="80"/>
                      </a:lnTo>
                      <a:lnTo>
                        <a:pt x="735" y="94"/>
                      </a:lnTo>
                      <a:lnTo>
                        <a:pt x="755" y="106"/>
                      </a:lnTo>
                      <a:lnTo>
                        <a:pt x="775" y="121"/>
                      </a:lnTo>
                      <a:lnTo>
                        <a:pt x="794" y="136"/>
                      </a:lnTo>
                      <a:lnTo>
                        <a:pt x="810" y="1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72360" y="2610360"/>
                  <a:ext cx="65880" cy="61560"/>
                </a:xfrm>
                <a:custGeom>
                  <a:avLst/>
                  <a:gdLst/>
                  <a:ahLst/>
                  <a:rect l="l" t="t" r="r" b="b"/>
                  <a:pathLst>
                    <a:path w="1022" h="957">
                      <a:moveTo>
                        <a:pt x="986" y="369"/>
                      </a:moveTo>
                      <a:lnTo>
                        <a:pt x="994" y="387"/>
                      </a:lnTo>
                      <a:lnTo>
                        <a:pt x="1001" y="408"/>
                      </a:lnTo>
                      <a:lnTo>
                        <a:pt x="1008" y="431"/>
                      </a:lnTo>
                      <a:lnTo>
                        <a:pt x="1013" y="454"/>
                      </a:lnTo>
                      <a:lnTo>
                        <a:pt x="1016" y="478"/>
                      </a:lnTo>
                      <a:lnTo>
                        <a:pt x="1019" y="502"/>
                      </a:lnTo>
                      <a:lnTo>
                        <a:pt x="1021" y="526"/>
                      </a:lnTo>
                      <a:lnTo>
                        <a:pt x="1022" y="550"/>
                      </a:lnTo>
                      <a:lnTo>
                        <a:pt x="1021" y="576"/>
                      </a:lnTo>
                      <a:lnTo>
                        <a:pt x="1019" y="600"/>
                      </a:lnTo>
                      <a:lnTo>
                        <a:pt x="1016" y="625"/>
                      </a:lnTo>
                      <a:lnTo>
                        <a:pt x="1013" y="649"/>
                      </a:lnTo>
                      <a:lnTo>
                        <a:pt x="1008" y="671"/>
                      </a:lnTo>
                      <a:lnTo>
                        <a:pt x="1001" y="694"/>
                      </a:lnTo>
                      <a:lnTo>
                        <a:pt x="994" y="715"/>
                      </a:lnTo>
                      <a:lnTo>
                        <a:pt x="986" y="735"/>
                      </a:lnTo>
                      <a:lnTo>
                        <a:pt x="966" y="765"/>
                      </a:lnTo>
                      <a:lnTo>
                        <a:pt x="945" y="792"/>
                      </a:lnTo>
                      <a:lnTo>
                        <a:pt x="924" y="818"/>
                      </a:lnTo>
                      <a:lnTo>
                        <a:pt x="901" y="841"/>
                      </a:lnTo>
                      <a:lnTo>
                        <a:pt x="876" y="863"/>
                      </a:lnTo>
                      <a:lnTo>
                        <a:pt x="850" y="881"/>
                      </a:lnTo>
                      <a:lnTo>
                        <a:pt x="824" y="898"/>
                      </a:lnTo>
                      <a:lnTo>
                        <a:pt x="795" y="913"/>
                      </a:lnTo>
                      <a:lnTo>
                        <a:pt x="766" y="925"/>
                      </a:lnTo>
                      <a:lnTo>
                        <a:pt x="738" y="936"/>
                      </a:lnTo>
                      <a:lnTo>
                        <a:pt x="705" y="944"/>
                      </a:lnTo>
                      <a:lnTo>
                        <a:pt x="674" y="951"/>
                      </a:lnTo>
                      <a:lnTo>
                        <a:pt x="642" y="954"/>
                      </a:lnTo>
                      <a:lnTo>
                        <a:pt x="608" y="957"/>
                      </a:lnTo>
                      <a:lnTo>
                        <a:pt x="574" y="957"/>
                      </a:lnTo>
                      <a:lnTo>
                        <a:pt x="538" y="956"/>
                      </a:lnTo>
                      <a:lnTo>
                        <a:pt x="500" y="954"/>
                      </a:lnTo>
                      <a:lnTo>
                        <a:pt x="461" y="947"/>
                      </a:lnTo>
                      <a:lnTo>
                        <a:pt x="423" y="939"/>
                      </a:lnTo>
                      <a:lnTo>
                        <a:pt x="384" y="930"/>
                      </a:lnTo>
                      <a:lnTo>
                        <a:pt x="347" y="916"/>
                      </a:lnTo>
                      <a:lnTo>
                        <a:pt x="311" y="901"/>
                      </a:lnTo>
                      <a:lnTo>
                        <a:pt x="276" y="883"/>
                      </a:lnTo>
                      <a:lnTo>
                        <a:pt x="242" y="862"/>
                      </a:lnTo>
                      <a:lnTo>
                        <a:pt x="210" y="841"/>
                      </a:lnTo>
                      <a:lnTo>
                        <a:pt x="180" y="817"/>
                      </a:lnTo>
                      <a:lnTo>
                        <a:pt x="150" y="791"/>
                      </a:lnTo>
                      <a:lnTo>
                        <a:pt x="122" y="764"/>
                      </a:lnTo>
                      <a:lnTo>
                        <a:pt x="97" y="733"/>
                      </a:lnTo>
                      <a:lnTo>
                        <a:pt x="72" y="702"/>
                      </a:lnTo>
                      <a:lnTo>
                        <a:pt x="51" y="671"/>
                      </a:lnTo>
                      <a:lnTo>
                        <a:pt x="33" y="638"/>
                      </a:lnTo>
                      <a:lnTo>
                        <a:pt x="19" y="614"/>
                      </a:lnTo>
                      <a:lnTo>
                        <a:pt x="12" y="590"/>
                      </a:lnTo>
                      <a:lnTo>
                        <a:pt x="5" y="564"/>
                      </a:lnTo>
                      <a:lnTo>
                        <a:pt x="1" y="540"/>
                      </a:lnTo>
                      <a:lnTo>
                        <a:pt x="0" y="514"/>
                      </a:lnTo>
                      <a:lnTo>
                        <a:pt x="0" y="488"/>
                      </a:lnTo>
                      <a:lnTo>
                        <a:pt x="1" y="461"/>
                      </a:lnTo>
                      <a:lnTo>
                        <a:pt x="5" y="436"/>
                      </a:lnTo>
                      <a:lnTo>
                        <a:pt x="13" y="383"/>
                      </a:lnTo>
                      <a:lnTo>
                        <a:pt x="23" y="331"/>
                      </a:lnTo>
                      <a:lnTo>
                        <a:pt x="26" y="304"/>
                      </a:lnTo>
                      <a:lnTo>
                        <a:pt x="29" y="278"/>
                      </a:lnTo>
                      <a:lnTo>
                        <a:pt x="31" y="252"/>
                      </a:lnTo>
                      <a:lnTo>
                        <a:pt x="33" y="227"/>
                      </a:lnTo>
                      <a:lnTo>
                        <a:pt x="48" y="189"/>
                      </a:lnTo>
                      <a:lnTo>
                        <a:pt x="66" y="156"/>
                      </a:lnTo>
                      <a:lnTo>
                        <a:pt x="84" y="125"/>
                      </a:lnTo>
                      <a:lnTo>
                        <a:pt x="104" y="99"/>
                      </a:lnTo>
                      <a:lnTo>
                        <a:pt x="124" y="75"/>
                      </a:lnTo>
                      <a:lnTo>
                        <a:pt x="145" y="56"/>
                      </a:lnTo>
                      <a:lnTo>
                        <a:pt x="168" y="39"/>
                      </a:lnTo>
                      <a:lnTo>
                        <a:pt x="190" y="27"/>
                      </a:lnTo>
                      <a:lnTo>
                        <a:pt x="213" y="17"/>
                      </a:lnTo>
                      <a:lnTo>
                        <a:pt x="237" y="9"/>
                      </a:lnTo>
                      <a:lnTo>
                        <a:pt x="261" y="4"/>
                      </a:lnTo>
                      <a:lnTo>
                        <a:pt x="287" y="1"/>
                      </a:lnTo>
                      <a:lnTo>
                        <a:pt x="313" y="0"/>
                      </a:lnTo>
                      <a:lnTo>
                        <a:pt x="337" y="1"/>
                      </a:lnTo>
                      <a:lnTo>
                        <a:pt x="364" y="4"/>
                      </a:lnTo>
                      <a:lnTo>
                        <a:pt x="390" y="9"/>
                      </a:lnTo>
                      <a:lnTo>
                        <a:pt x="416" y="15"/>
                      </a:lnTo>
                      <a:lnTo>
                        <a:pt x="442" y="21"/>
                      </a:lnTo>
                      <a:lnTo>
                        <a:pt x="470" y="30"/>
                      </a:lnTo>
                      <a:lnTo>
                        <a:pt x="496" y="39"/>
                      </a:lnTo>
                      <a:lnTo>
                        <a:pt x="547" y="60"/>
                      </a:lnTo>
                      <a:lnTo>
                        <a:pt x="597" y="83"/>
                      </a:lnTo>
                      <a:lnTo>
                        <a:pt x="647" y="106"/>
                      </a:lnTo>
                      <a:lnTo>
                        <a:pt x="694" y="127"/>
                      </a:lnTo>
                      <a:lnTo>
                        <a:pt x="738" y="146"/>
                      </a:lnTo>
                      <a:lnTo>
                        <a:pt x="777" y="160"/>
                      </a:lnTo>
                      <a:lnTo>
                        <a:pt x="986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16000" y="2676600"/>
                  <a:ext cx="87120" cy="138240"/>
                </a:xfrm>
                <a:custGeom>
                  <a:avLst/>
                  <a:gdLst/>
                  <a:ahLst/>
                  <a:rect l="l" t="t" r="r" b="b"/>
                  <a:pathLst>
                    <a:path w="1348" h="2143">
                      <a:moveTo>
                        <a:pt x="1285" y="41"/>
                      </a:moveTo>
                      <a:lnTo>
                        <a:pt x="1334" y="41"/>
                      </a:lnTo>
                      <a:lnTo>
                        <a:pt x="1343" y="106"/>
                      </a:lnTo>
                      <a:lnTo>
                        <a:pt x="1348" y="166"/>
                      </a:lnTo>
                      <a:lnTo>
                        <a:pt x="1346" y="223"/>
                      </a:lnTo>
                      <a:lnTo>
                        <a:pt x="1340" y="277"/>
                      </a:lnTo>
                      <a:lnTo>
                        <a:pt x="1328" y="327"/>
                      </a:lnTo>
                      <a:lnTo>
                        <a:pt x="1313" y="375"/>
                      </a:lnTo>
                      <a:lnTo>
                        <a:pt x="1292" y="422"/>
                      </a:lnTo>
                      <a:lnTo>
                        <a:pt x="1269" y="468"/>
                      </a:lnTo>
                      <a:lnTo>
                        <a:pt x="1242" y="510"/>
                      </a:lnTo>
                      <a:lnTo>
                        <a:pt x="1211" y="549"/>
                      </a:lnTo>
                      <a:lnTo>
                        <a:pt x="1178" y="590"/>
                      </a:lnTo>
                      <a:lnTo>
                        <a:pt x="1145" y="629"/>
                      </a:lnTo>
                      <a:lnTo>
                        <a:pt x="1107" y="666"/>
                      </a:lnTo>
                      <a:lnTo>
                        <a:pt x="1069" y="702"/>
                      </a:lnTo>
                      <a:lnTo>
                        <a:pt x="1030" y="738"/>
                      </a:lnTo>
                      <a:lnTo>
                        <a:pt x="992" y="774"/>
                      </a:lnTo>
                      <a:lnTo>
                        <a:pt x="911" y="847"/>
                      </a:lnTo>
                      <a:lnTo>
                        <a:pt x="833" y="921"/>
                      </a:lnTo>
                      <a:lnTo>
                        <a:pt x="794" y="958"/>
                      </a:lnTo>
                      <a:lnTo>
                        <a:pt x="759" y="998"/>
                      </a:lnTo>
                      <a:lnTo>
                        <a:pt x="726" y="1038"/>
                      </a:lnTo>
                      <a:lnTo>
                        <a:pt x="693" y="1080"/>
                      </a:lnTo>
                      <a:lnTo>
                        <a:pt x="664" y="1124"/>
                      </a:lnTo>
                      <a:lnTo>
                        <a:pt x="638" y="1171"/>
                      </a:lnTo>
                      <a:lnTo>
                        <a:pt x="616" y="1219"/>
                      </a:lnTo>
                      <a:lnTo>
                        <a:pt x="598" y="1271"/>
                      </a:lnTo>
                      <a:lnTo>
                        <a:pt x="584" y="1324"/>
                      </a:lnTo>
                      <a:lnTo>
                        <a:pt x="574" y="1380"/>
                      </a:lnTo>
                      <a:lnTo>
                        <a:pt x="569" y="1440"/>
                      </a:lnTo>
                      <a:lnTo>
                        <a:pt x="569" y="1502"/>
                      </a:lnTo>
                      <a:lnTo>
                        <a:pt x="590" y="1531"/>
                      </a:lnTo>
                      <a:lnTo>
                        <a:pt x="611" y="1558"/>
                      </a:lnTo>
                      <a:lnTo>
                        <a:pt x="634" y="1582"/>
                      </a:lnTo>
                      <a:lnTo>
                        <a:pt x="655" y="1606"/>
                      </a:lnTo>
                      <a:lnTo>
                        <a:pt x="679" y="1627"/>
                      </a:lnTo>
                      <a:lnTo>
                        <a:pt x="705" y="1646"/>
                      </a:lnTo>
                      <a:lnTo>
                        <a:pt x="717" y="1655"/>
                      </a:lnTo>
                      <a:lnTo>
                        <a:pt x="732" y="1662"/>
                      </a:lnTo>
                      <a:lnTo>
                        <a:pt x="749" y="1669"/>
                      </a:lnTo>
                      <a:lnTo>
                        <a:pt x="764" y="1676"/>
                      </a:lnTo>
                      <a:lnTo>
                        <a:pt x="779" y="1676"/>
                      </a:lnTo>
                      <a:lnTo>
                        <a:pt x="793" y="1676"/>
                      </a:lnTo>
                      <a:lnTo>
                        <a:pt x="809" y="1674"/>
                      </a:lnTo>
                      <a:lnTo>
                        <a:pt x="824" y="1672"/>
                      </a:lnTo>
                      <a:lnTo>
                        <a:pt x="837" y="1669"/>
                      </a:lnTo>
                      <a:lnTo>
                        <a:pt x="851" y="1664"/>
                      </a:lnTo>
                      <a:lnTo>
                        <a:pt x="865" y="1659"/>
                      </a:lnTo>
                      <a:lnTo>
                        <a:pt x="879" y="1655"/>
                      </a:lnTo>
                      <a:lnTo>
                        <a:pt x="906" y="1641"/>
                      </a:lnTo>
                      <a:lnTo>
                        <a:pt x="932" y="1626"/>
                      </a:lnTo>
                      <a:lnTo>
                        <a:pt x="956" y="1608"/>
                      </a:lnTo>
                      <a:lnTo>
                        <a:pt x="979" y="1587"/>
                      </a:lnTo>
                      <a:lnTo>
                        <a:pt x="1001" y="1566"/>
                      </a:lnTo>
                      <a:lnTo>
                        <a:pt x="1024" y="1543"/>
                      </a:lnTo>
                      <a:lnTo>
                        <a:pt x="1044" y="1520"/>
                      </a:lnTo>
                      <a:lnTo>
                        <a:pt x="1062" y="1496"/>
                      </a:lnTo>
                      <a:lnTo>
                        <a:pt x="1097" y="1449"/>
                      </a:lnTo>
                      <a:lnTo>
                        <a:pt x="1125" y="1407"/>
                      </a:lnTo>
                      <a:lnTo>
                        <a:pt x="1143" y="1428"/>
                      </a:lnTo>
                      <a:lnTo>
                        <a:pt x="1157" y="1452"/>
                      </a:lnTo>
                      <a:lnTo>
                        <a:pt x="1171" y="1479"/>
                      </a:lnTo>
                      <a:lnTo>
                        <a:pt x="1180" y="1505"/>
                      </a:lnTo>
                      <a:lnTo>
                        <a:pt x="1189" y="1532"/>
                      </a:lnTo>
                      <a:lnTo>
                        <a:pt x="1193" y="1561"/>
                      </a:lnTo>
                      <a:lnTo>
                        <a:pt x="1196" y="1591"/>
                      </a:lnTo>
                      <a:lnTo>
                        <a:pt x="1198" y="1620"/>
                      </a:lnTo>
                      <a:lnTo>
                        <a:pt x="1196" y="1652"/>
                      </a:lnTo>
                      <a:lnTo>
                        <a:pt x="1193" y="1680"/>
                      </a:lnTo>
                      <a:lnTo>
                        <a:pt x="1189" y="1711"/>
                      </a:lnTo>
                      <a:lnTo>
                        <a:pt x="1183" y="1740"/>
                      </a:lnTo>
                      <a:lnTo>
                        <a:pt x="1175" y="1769"/>
                      </a:lnTo>
                      <a:lnTo>
                        <a:pt x="1166" y="1798"/>
                      </a:lnTo>
                      <a:lnTo>
                        <a:pt x="1154" y="1826"/>
                      </a:lnTo>
                      <a:lnTo>
                        <a:pt x="1143" y="1851"/>
                      </a:lnTo>
                      <a:lnTo>
                        <a:pt x="1127" y="1880"/>
                      </a:lnTo>
                      <a:lnTo>
                        <a:pt x="1109" y="1907"/>
                      </a:lnTo>
                      <a:lnTo>
                        <a:pt x="1090" y="1933"/>
                      </a:lnTo>
                      <a:lnTo>
                        <a:pt x="1069" y="1957"/>
                      </a:lnTo>
                      <a:lnTo>
                        <a:pt x="1047" y="1980"/>
                      </a:lnTo>
                      <a:lnTo>
                        <a:pt x="1024" y="2001"/>
                      </a:lnTo>
                      <a:lnTo>
                        <a:pt x="998" y="2021"/>
                      </a:lnTo>
                      <a:lnTo>
                        <a:pt x="972" y="2039"/>
                      </a:lnTo>
                      <a:lnTo>
                        <a:pt x="947" y="2054"/>
                      </a:lnTo>
                      <a:lnTo>
                        <a:pt x="919" y="2071"/>
                      </a:lnTo>
                      <a:lnTo>
                        <a:pt x="890" y="2085"/>
                      </a:lnTo>
                      <a:lnTo>
                        <a:pt x="862" y="2098"/>
                      </a:lnTo>
                      <a:lnTo>
                        <a:pt x="833" y="2109"/>
                      </a:lnTo>
                      <a:lnTo>
                        <a:pt x="805" y="2121"/>
                      </a:lnTo>
                      <a:lnTo>
                        <a:pt x="776" y="2130"/>
                      </a:lnTo>
                      <a:lnTo>
                        <a:pt x="746" y="2139"/>
                      </a:lnTo>
                      <a:lnTo>
                        <a:pt x="717" y="2142"/>
                      </a:lnTo>
                      <a:lnTo>
                        <a:pt x="688" y="2143"/>
                      </a:lnTo>
                      <a:lnTo>
                        <a:pt x="659" y="2143"/>
                      </a:lnTo>
                      <a:lnTo>
                        <a:pt x="634" y="2142"/>
                      </a:lnTo>
                      <a:lnTo>
                        <a:pt x="606" y="2139"/>
                      </a:lnTo>
                      <a:lnTo>
                        <a:pt x="581" y="2136"/>
                      </a:lnTo>
                      <a:lnTo>
                        <a:pt x="557" y="2128"/>
                      </a:lnTo>
                      <a:lnTo>
                        <a:pt x="531" y="2122"/>
                      </a:lnTo>
                      <a:lnTo>
                        <a:pt x="507" y="2114"/>
                      </a:lnTo>
                      <a:lnTo>
                        <a:pt x="484" y="2104"/>
                      </a:lnTo>
                      <a:lnTo>
                        <a:pt x="460" y="2093"/>
                      </a:lnTo>
                      <a:lnTo>
                        <a:pt x="437" y="2082"/>
                      </a:lnTo>
                      <a:lnTo>
                        <a:pt x="392" y="2057"/>
                      </a:lnTo>
                      <a:lnTo>
                        <a:pt x="348" y="2028"/>
                      </a:lnTo>
                      <a:lnTo>
                        <a:pt x="328" y="2012"/>
                      </a:lnTo>
                      <a:lnTo>
                        <a:pt x="311" y="1995"/>
                      </a:lnTo>
                      <a:lnTo>
                        <a:pt x="295" y="1977"/>
                      </a:lnTo>
                      <a:lnTo>
                        <a:pt x="279" y="1957"/>
                      </a:lnTo>
                      <a:lnTo>
                        <a:pt x="265" y="1938"/>
                      </a:lnTo>
                      <a:lnTo>
                        <a:pt x="251" y="1918"/>
                      </a:lnTo>
                      <a:lnTo>
                        <a:pt x="240" y="1897"/>
                      </a:lnTo>
                      <a:lnTo>
                        <a:pt x="229" y="1876"/>
                      </a:lnTo>
                      <a:lnTo>
                        <a:pt x="219" y="1854"/>
                      </a:lnTo>
                      <a:lnTo>
                        <a:pt x="209" y="1832"/>
                      </a:lnTo>
                      <a:lnTo>
                        <a:pt x="201" y="1809"/>
                      </a:lnTo>
                      <a:lnTo>
                        <a:pt x="195" y="1785"/>
                      </a:lnTo>
                      <a:lnTo>
                        <a:pt x="190" y="1762"/>
                      </a:lnTo>
                      <a:lnTo>
                        <a:pt x="183" y="1738"/>
                      </a:lnTo>
                      <a:lnTo>
                        <a:pt x="180" y="1714"/>
                      </a:lnTo>
                      <a:lnTo>
                        <a:pt x="177" y="1690"/>
                      </a:lnTo>
                      <a:lnTo>
                        <a:pt x="174" y="1641"/>
                      </a:lnTo>
                      <a:lnTo>
                        <a:pt x="172" y="1593"/>
                      </a:lnTo>
                      <a:lnTo>
                        <a:pt x="174" y="1545"/>
                      </a:lnTo>
                      <a:lnTo>
                        <a:pt x="179" y="1496"/>
                      </a:lnTo>
                      <a:lnTo>
                        <a:pt x="186" y="1448"/>
                      </a:lnTo>
                      <a:lnTo>
                        <a:pt x="197" y="1401"/>
                      </a:lnTo>
                      <a:lnTo>
                        <a:pt x="207" y="1356"/>
                      </a:lnTo>
                      <a:lnTo>
                        <a:pt x="221" y="1313"/>
                      </a:lnTo>
                      <a:lnTo>
                        <a:pt x="243" y="1275"/>
                      </a:lnTo>
                      <a:lnTo>
                        <a:pt x="269" y="1239"/>
                      </a:lnTo>
                      <a:lnTo>
                        <a:pt x="295" y="1204"/>
                      </a:lnTo>
                      <a:lnTo>
                        <a:pt x="322" y="1171"/>
                      </a:lnTo>
                      <a:lnTo>
                        <a:pt x="351" y="1140"/>
                      </a:lnTo>
                      <a:lnTo>
                        <a:pt x="380" y="1109"/>
                      </a:lnTo>
                      <a:lnTo>
                        <a:pt x="411" y="1082"/>
                      </a:lnTo>
                      <a:lnTo>
                        <a:pt x="443" y="1054"/>
                      </a:lnTo>
                      <a:lnTo>
                        <a:pt x="475" y="1027"/>
                      </a:lnTo>
                      <a:lnTo>
                        <a:pt x="510" y="1003"/>
                      </a:lnTo>
                      <a:lnTo>
                        <a:pt x="543" y="977"/>
                      </a:lnTo>
                      <a:lnTo>
                        <a:pt x="578" y="955"/>
                      </a:lnTo>
                      <a:lnTo>
                        <a:pt x="648" y="908"/>
                      </a:lnTo>
                      <a:lnTo>
                        <a:pt x="717" y="862"/>
                      </a:lnTo>
                      <a:lnTo>
                        <a:pt x="788" y="817"/>
                      </a:lnTo>
                      <a:lnTo>
                        <a:pt x="858" y="773"/>
                      </a:lnTo>
                      <a:lnTo>
                        <a:pt x="891" y="749"/>
                      </a:lnTo>
                      <a:lnTo>
                        <a:pt x="926" y="723"/>
                      </a:lnTo>
                      <a:lnTo>
                        <a:pt x="958" y="700"/>
                      </a:lnTo>
                      <a:lnTo>
                        <a:pt x="989" y="674"/>
                      </a:lnTo>
                      <a:lnTo>
                        <a:pt x="1021" y="646"/>
                      </a:lnTo>
                      <a:lnTo>
                        <a:pt x="1051" y="619"/>
                      </a:lnTo>
                      <a:lnTo>
                        <a:pt x="1080" y="590"/>
                      </a:lnTo>
                      <a:lnTo>
                        <a:pt x="1107" y="560"/>
                      </a:lnTo>
                      <a:lnTo>
                        <a:pt x="1135" y="527"/>
                      </a:lnTo>
                      <a:lnTo>
                        <a:pt x="1159" y="493"/>
                      </a:lnTo>
                      <a:lnTo>
                        <a:pt x="1183" y="460"/>
                      </a:lnTo>
                      <a:lnTo>
                        <a:pt x="1204" y="422"/>
                      </a:lnTo>
                      <a:lnTo>
                        <a:pt x="1196" y="419"/>
                      </a:lnTo>
                      <a:lnTo>
                        <a:pt x="1189" y="419"/>
                      </a:lnTo>
                      <a:lnTo>
                        <a:pt x="1180" y="419"/>
                      </a:lnTo>
                      <a:lnTo>
                        <a:pt x="1172" y="419"/>
                      </a:lnTo>
                      <a:lnTo>
                        <a:pt x="1156" y="424"/>
                      </a:lnTo>
                      <a:lnTo>
                        <a:pt x="1140" y="430"/>
                      </a:lnTo>
                      <a:lnTo>
                        <a:pt x="1125" y="440"/>
                      </a:lnTo>
                      <a:lnTo>
                        <a:pt x="1110" y="453"/>
                      </a:lnTo>
                      <a:lnTo>
                        <a:pt x="1097" y="466"/>
                      </a:lnTo>
                      <a:lnTo>
                        <a:pt x="1080" y="478"/>
                      </a:lnTo>
                      <a:lnTo>
                        <a:pt x="1051" y="508"/>
                      </a:lnTo>
                      <a:lnTo>
                        <a:pt x="1021" y="534"/>
                      </a:lnTo>
                      <a:lnTo>
                        <a:pt x="1004" y="545"/>
                      </a:lnTo>
                      <a:lnTo>
                        <a:pt x="988" y="554"/>
                      </a:lnTo>
                      <a:lnTo>
                        <a:pt x="971" y="560"/>
                      </a:lnTo>
                      <a:lnTo>
                        <a:pt x="953" y="563"/>
                      </a:lnTo>
                      <a:lnTo>
                        <a:pt x="921" y="575"/>
                      </a:lnTo>
                      <a:lnTo>
                        <a:pt x="888" y="584"/>
                      </a:lnTo>
                      <a:lnTo>
                        <a:pt x="855" y="590"/>
                      </a:lnTo>
                      <a:lnTo>
                        <a:pt x="823" y="592"/>
                      </a:lnTo>
                      <a:lnTo>
                        <a:pt x="788" y="593"/>
                      </a:lnTo>
                      <a:lnTo>
                        <a:pt x="755" y="592"/>
                      </a:lnTo>
                      <a:lnTo>
                        <a:pt x="723" y="589"/>
                      </a:lnTo>
                      <a:lnTo>
                        <a:pt x="688" y="584"/>
                      </a:lnTo>
                      <a:lnTo>
                        <a:pt x="656" y="577"/>
                      </a:lnTo>
                      <a:lnTo>
                        <a:pt x="623" y="569"/>
                      </a:lnTo>
                      <a:lnTo>
                        <a:pt x="590" y="561"/>
                      </a:lnTo>
                      <a:lnTo>
                        <a:pt x="558" y="551"/>
                      </a:lnTo>
                      <a:lnTo>
                        <a:pt x="493" y="534"/>
                      </a:lnTo>
                      <a:lnTo>
                        <a:pt x="430" y="514"/>
                      </a:lnTo>
                      <a:lnTo>
                        <a:pt x="399" y="507"/>
                      </a:lnTo>
                      <a:lnTo>
                        <a:pt x="369" y="500"/>
                      </a:lnTo>
                      <a:lnTo>
                        <a:pt x="339" y="493"/>
                      </a:lnTo>
                      <a:lnTo>
                        <a:pt x="310" y="489"/>
                      </a:lnTo>
                      <a:lnTo>
                        <a:pt x="279" y="486"/>
                      </a:lnTo>
                      <a:lnTo>
                        <a:pt x="251" y="486"/>
                      </a:lnTo>
                      <a:lnTo>
                        <a:pt x="222" y="487"/>
                      </a:lnTo>
                      <a:lnTo>
                        <a:pt x="195" y="490"/>
                      </a:lnTo>
                      <a:lnTo>
                        <a:pt x="168" y="496"/>
                      </a:lnTo>
                      <a:lnTo>
                        <a:pt x="142" y="507"/>
                      </a:lnTo>
                      <a:lnTo>
                        <a:pt x="116" y="519"/>
                      </a:lnTo>
                      <a:lnTo>
                        <a:pt x="92" y="536"/>
                      </a:lnTo>
                      <a:lnTo>
                        <a:pt x="68" y="557"/>
                      </a:lnTo>
                      <a:lnTo>
                        <a:pt x="44" y="581"/>
                      </a:lnTo>
                      <a:lnTo>
                        <a:pt x="21" y="610"/>
                      </a:lnTo>
                      <a:lnTo>
                        <a:pt x="0" y="642"/>
                      </a:lnTo>
                      <a:lnTo>
                        <a:pt x="11" y="575"/>
                      </a:lnTo>
                      <a:lnTo>
                        <a:pt x="23" y="504"/>
                      </a:lnTo>
                      <a:lnTo>
                        <a:pt x="33" y="428"/>
                      </a:lnTo>
                      <a:lnTo>
                        <a:pt x="42" y="350"/>
                      </a:lnTo>
                      <a:lnTo>
                        <a:pt x="44" y="312"/>
                      </a:lnTo>
                      <a:lnTo>
                        <a:pt x="45" y="271"/>
                      </a:lnTo>
                      <a:lnTo>
                        <a:pt x="45" y="232"/>
                      </a:lnTo>
                      <a:lnTo>
                        <a:pt x="44" y="192"/>
                      </a:lnTo>
                      <a:lnTo>
                        <a:pt x="38" y="153"/>
                      </a:lnTo>
                      <a:lnTo>
                        <a:pt x="32" y="116"/>
                      </a:lnTo>
                      <a:lnTo>
                        <a:pt x="24" y="79"/>
                      </a:lnTo>
                      <a:lnTo>
                        <a:pt x="12" y="41"/>
                      </a:lnTo>
                      <a:lnTo>
                        <a:pt x="27" y="53"/>
                      </a:lnTo>
                      <a:lnTo>
                        <a:pt x="40" y="62"/>
                      </a:lnTo>
                      <a:lnTo>
                        <a:pt x="53" y="71"/>
                      </a:lnTo>
                      <a:lnTo>
                        <a:pt x="65" y="77"/>
                      </a:lnTo>
                      <a:lnTo>
                        <a:pt x="79" y="84"/>
                      </a:lnTo>
                      <a:lnTo>
                        <a:pt x="92" y="87"/>
                      </a:lnTo>
                      <a:lnTo>
                        <a:pt x="105" y="88"/>
                      </a:lnTo>
                      <a:lnTo>
                        <a:pt x="116" y="90"/>
                      </a:lnTo>
                      <a:lnTo>
                        <a:pt x="129" y="90"/>
                      </a:lnTo>
                      <a:lnTo>
                        <a:pt x="142" y="90"/>
                      </a:lnTo>
                      <a:lnTo>
                        <a:pt x="154" y="88"/>
                      </a:lnTo>
                      <a:lnTo>
                        <a:pt x="168" y="85"/>
                      </a:lnTo>
                      <a:lnTo>
                        <a:pt x="192" y="79"/>
                      </a:lnTo>
                      <a:lnTo>
                        <a:pt x="218" y="70"/>
                      </a:lnTo>
                      <a:lnTo>
                        <a:pt x="268" y="47"/>
                      </a:lnTo>
                      <a:lnTo>
                        <a:pt x="319" y="26"/>
                      </a:lnTo>
                      <a:lnTo>
                        <a:pt x="346" y="16"/>
                      </a:lnTo>
                      <a:lnTo>
                        <a:pt x="372" y="9"/>
                      </a:lnTo>
                      <a:lnTo>
                        <a:pt x="387" y="8"/>
                      </a:lnTo>
                      <a:lnTo>
                        <a:pt x="399" y="6"/>
                      </a:lnTo>
                      <a:lnTo>
                        <a:pt x="414" y="6"/>
                      </a:lnTo>
                      <a:lnTo>
                        <a:pt x="428" y="6"/>
                      </a:lnTo>
                      <a:lnTo>
                        <a:pt x="458" y="2"/>
                      </a:lnTo>
                      <a:lnTo>
                        <a:pt x="489" y="0"/>
                      </a:lnTo>
                      <a:lnTo>
                        <a:pt x="517" y="0"/>
                      </a:lnTo>
                      <a:lnTo>
                        <a:pt x="548" y="3"/>
                      </a:lnTo>
                      <a:lnTo>
                        <a:pt x="578" y="8"/>
                      </a:lnTo>
                      <a:lnTo>
                        <a:pt x="606" y="14"/>
                      </a:lnTo>
                      <a:lnTo>
                        <a:pt x="635" y="23"/>
                      </a:lnTo>
                      <a:lnTo>
                        <a:pt x="663" y="32"/>
                      </a:lnTo>
                      <a:lnTo>
                        <a:pt x="719" y="56"/>
                      </a:lnTo>
                      <a:lnTo>
                        <a:pt x="776" y="80"/>
                      </a:lnTo>
                      <a:lnTo>
                        <a:pt x="830" y="108"/>
                      </a:lnTo>
                      <a:lnTo>
                        <a:pt x="885" y="132"/>
                      </a:lnTo>
                      <a:lnTo>
                        <a:pt x="911" y="144"/>
                      </a:lnTo>
                      <a:lnTo>
                        <a:pt x="938" y="153"/>
                      </a:lnTo>
                      <a:lnTo>
                        <a:pt x="964" y="162"/>
                      </a:lnTo>
                      <a:lnTo>
                        <a:pt x="989" y="170"/>
                      </a:lnTo>
                      <a:lnTo>
                        <a:pt x="1016" y="174"/>
                      </a:lnTo>
                      <a:lnTo>
                        <a:pt x="1042" y="177"/>
                      </a:lnTo>
                      <a:lnTo>
                        <a:pt x="1068" y="179"/>
                      </a:lnTo>
                      <a:lnTo>
                        <a:pt x="1092" y="177"/>
                      </a:lnTo>
                      <a:lnTo>
                        <a:pt x="1118" y="173"/>
                      </a:lnTo>
                      <a:lnTo>
                        <a:pt x="1142" y="166"/>
                      </a:lnTo>
                      <a:lnTo>
                        <a:pt x="1166" y="155"/>
                      </a:lnTo>
                      <a:lnTo>
                        <a:pt x="1190" y="141"/>
                      </a:lnTo>
                      <a:lnTo>
                        <a:pt x="1214" y="123"/>
                      </a:lnTo>
                      <a:lnTo>
                        <a:pt x="1239" y="100"/>
                      </a:lnTo>
                      <a:lnTo>
                        <a:pt x="1261" y="73"/>
                      </a:lnTo>
                      <a:lnTo>
                        <a:pt x="1285" y="41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81240" y="2711880"/>
                  <a:ext cx="100080" cy="144720"/>
                </a:xfrm>
                <a:custGeom>
                  <a:avLst/>
                  <a:gdLst/>
                  <a:ahLst/>
                  <a:rect l="l" t="t" r="r" b="b"/>
                  <a:pathLst>
                    <a:path w="1558" h="2249">
                      <a:moveTo>
                        <a:pt x="1276" y="129"/>
                      </a:moveTo>
                      <a:lnTo>
                        <a:pt x="1306" y="167"/>
                      </a:lnTo>
                      <a:lnTo>
                        <a:pt x="1336" y="209"/>
                      </a:lnTo>
                      <a:lnTo>
                        <a:pt x="1350" y="230"/>
                      </a:lnTo>
                      <a:lnTo>
                        <a:pt x="1363" y="251"/>
                      </a:lnTo>
                      <a:lnTo>
                        <a:pt x="1374" y="271"/>
                      </a:lnTo>
                      <a:lnTo>
                        <a:pt x="1386" y="294"/>
                      </a:lnTo>
                      <a:lnTo>
                        <a:pt x="1394" y="317"/>
                      </a:lnTo>
                      <a:lnTo>
                        <a:pt x="1401" y="341"/>
                      </a:lnTo>
                      <a:lnTo>
                        <a:pt x="1407" y="365"/>
                      </a:lnTo>
                      <a:lnTo>
                        <a:pt x="1408" y="389"/>
                      </a:lnTo>
                      <a:lnTo>
                        <a:pt x="1408" y="413"/>
                      </a:lnTo>
                      <a:lnTo>
                        <a:pt x="1407" y="439"/>
                      </a:lnTo>
                      <a:lnTo>
                        <a:pt x="1400" y="463"/>
                      </a:lnTo>
                      <a:lnTo>
                        <a:pt x="1392" y="492"/>
                      </a:lnTo>
                      <a:lnTo>
                        <a:pt x="1372" y="522"/>
                      </a:lnTo>
                      <a:lnTo>
                        <a:pt x="1353" y="552"/>
                      </a:lnTo>
                      <a:lnTo>
                        <a:pt x="1334" y="584"/>
                      </a:lnTo>
                      <a:lnTo>
                        <a:pt x="1313" y="614"/>
                      </a:lnTo>
                      <a:lnTo>
                        <a:pt x="1300" y="628"/>
                      </a:lnTo>
                      <a:lnTo>
                        <a:pt x="1289" y="641"/>
                      </a:lnTo>
                      <a:lnTo>
                        <a:pt x="1276" y="654"/>
                      </a:lnTo>
                      <a:lnTo>
                        <a:pt x="1262" y="666"/>
                      </a:lnTo>
                      <a:lnTo>
                        <a:pt x="1247" y="676"/>
                      </a:lnTo>
                      <a:lnTo>
                        <a:pt x="1230" y="684"/>
                      </a:lnTo>
                      <a:lnTo>
                        <a:pt x="1215" y="693"/>
                      </a:lnTo>
                      <a:lnTo>
                        <a:pt x="1197" y="697"/>
                      </a:lnTo>
                      <a:lnTo>
                        <a:pt x="1176" y="701"/>
                      </a:lnTo>
                      <a:lnTo>
                        <a:pt x="1153" y="702"/>
                      </a:lnTo>
                      <a:lnTo>
                        <a:pt x="1132" y="702"/>
                      </a:lnTo>
                      <a:lnTo>
                        <a:pt x="1111" y="702"/>
                      </a:lnTo>
                      <a:lnTo>
                        <a:pt x="1091" y="701"/>
                      </a:lnTo>
                      <a:lnTo>
                        <a:pt x="1070" y="697"/>
                      </a:lnTo>
                      <a:lnTo>
                        <a:pt x="1050" y="694"/>
                      </a:lnTo>
                      <a:lnTo>
                        <a:pt x="1031" y="690"/>
                      </a:lnTo>
                      <a:lnTo>
                        <a:pt x="1011" y="684"/>
                      </a:lnTo>
                      <a:lnTo>
                        <a:pt x="991" y="678"/>
                      </a:lnTo>
                      <a:lnTo>
                        <a:pt x="974" y="670"/>
                      </a:lnTo>
                      <a:lnTo>
                        <a:pt x="958" y="662"/>
                      </a:lnTo>
                      <a:lnTo>
                        <a:pt x="940" y="652"/>
                      </a:lnTo>
                      <a:lnTo>
                        <a:pt x="926" y="641"/>
                      </a:lnTo>
                      <a:lnTo>
                        <a:pt x="910" y="631"/>
                      </a:lnTo>
                      <a:lnTo>
                        <a:pt x="897" y="619"/>
                      </a:lnTo>
                      <a:lnTo>
                        <a:pt x="897" y="570"/>
                      </a:lnTo>
                      <a:lnTo>
                        <a:pt x="917" y="557"/>
                      </a:lnTo>
                      <a:lnTo>
                        <a:pt x="938" y="545"/>
                      </a:lnTo>
                      <a:lnTo>
                        <a:pt x="960" y="531"/>
                      </a:lnTo>
                      <a:lnTo>
                        <a:pt x="979" y="516"/>
                      </a:lnTo>
                      <a:lnTo>
                        <a:pt x="999" y="499"/>
                      </a:lnTo>
                      <a:lnTo>
                        <a:pt x="1018" y="481"/>
                      </a:lnTo>
                      <a:lnTo>
                        <a:pt x="1035" y="463"/>
                      </a:lnTo>
                      <a:lnTo>
                        <a:pt x="1052" y="445"/>
                      </a:lnTo>
                      <a:lnTo>
                        <a:pt x="1067" y="424"/>
                      </a:lnTo>
                      <a:lnTo>
                        <a:pt x="1079" y="402"/>
                      </a:lnTo>
                      <a:lnTo>
                        <a:pt x="1091" y="380"/>
                      </a:lnTo>
                      <a:lnTo>
                        <a:pt x="1099" y="357"/>
                      </a:lnTo>
                      <a:lnTo>
                        <a:pt x="1105" y="331"/>
                      </a:lnTo>
                      <a:lnTo>
                        <a:pt x="1108" y="307"/>
                      </a:lnTo>
                      <a:lnTo>
                        <a:pt x="1108" y="280"/>
                      </a:lnTo>
                      <a:lnTo>
                        <a:pt x="1105" y="253"/>
                      </a:lnTo>
                      <a:lnTo>
                        <a:pt x="1095" y="233"/>
                      </a:lnTo>
                      <a:lnTo>
                        <a:pt x="1084" y="214"/>
                      </a:lnTo>
                      <a:lnTo>
                        <a:pt x="1073" y="196"/>
                      </a:lnTo>
                      <a:lnTo>
                        <a:pt x="1058" y="182"/>
                      </a:lnTo>
                      <a:lnTo>
                        <a:pt x="1044" y="165"/>
                      </a:lnTo>
                      <a:lnTo>
                        <a:pt x="1029" y="153"/>
                      </a:lnTo>
                      <a:lnTo>
                        <a:pt x="1011" y="139"/>
                      </a:lnTo>
                      <a:lnTo>
                        <a:pt x="996" y="129"/>
                      </a:lnTo>
                      <a:lnTo>
                        <a:pt x="958" y="106"/>
                      </a:lnTo>
                      <a:lnTo>
                        <a:pt x="921" y="86"/>
                      </a:lnTo>
                      <a:lnTo>
                        <a:pt x="884" y="67"/>
                      </a:lnTo>
                      <a:lnTo>
                        <a:pt x="849" y="49"/>
                      </a:lnTo>
                      <a:lnTo>
                        <a:pt x="813" y="59"/>
                      </a:lnTo>
                      <a:lnTo>
                        <a:pt x="779" y="70"/>
                      </a:lnTo>
                      <a:lnTo>
                        <a:pt x="748" y="83"/>
                      </a:lnTo>
                      <a:lnTo>
                        <a:pt x="721" y="99"/>
                      </a:lnTo>
                      <a:lnTo>
                        <a:pt x="696" y="115"/>
                      </a:lnTo>
                      <a:lnTo>
                        <a:pt x="674" y="135"/>
                      </a:lnTo>
                      <a:lnTo>
                        <a:pt x="654" y="156"/>
                      </a:lnTo>
                      <a:lnTo>
                        <a:pt x="634" y="179"/>
                      </a:lnTo>
                      <a:lnTo>
                        <a:pt x="618" y="201"/>
                      </a:lnTo>
                      <a:lnTo>
                        <a:pt x="604" y="227"/>
                      </a:lnTo>
                      <a:lnTo>
                        <a:pt x="590" y="253"/>
                      </a:lnTo>
                      <a:lnTo>
                        <a:pt x="580" y="280"/>
                      </a:lnTo>
                      <a:lnTo>
                        <a:pt x="569" y="307"/>
                      </a:lnTo>
                      <a:lnTo>
                        <a:pt x="562" y="338"/>
                      </a:lnTo>
                      <a:lnTo>
                        <a:pt x="554" y="366"/>
                      </a:lnTo>
                      <a:lnTo>
                        <a:pt x="548" y="399"/>
                      </a:lnTo>
                      <a:lnTo>
                        <a:pt x="544" y="430"/>
                      </a:lnTo>
                      <a:lnTo>
                        <a:pt x="540" y="462"/>
                      </a:lnTo>
                      <a:lnTo>
                        <a:pt x="537" y="496"/>
                      </a:lnTo>
                      <a:lnTo>
                        <a:pt x="534" y="528"/>
                      </a:lnTo>
                      <a:lnTo>
                        <a:pt x="531" y="596"/>
                      </a:lnTo>
                      <a:lnTo>
                        <a:pt x="529" y="664"/>
                      </a:lnTo>
                      <a:lnTo>
                        <a:pt x="529" y="729"/>
                      </a:lnTo>
                      <a:lnTo>
                        <a:pt x="526" y="797"/>
                      </a:lnTo>
                      <a:lnTo>
                        <a:pt x="522" y="862"/>
                      </a:lnTo>
                      <a:lnTo>
                        <a:pt x="518" y="923"/>
                      </a:lnTo>
                      <a:lnTo>
                        <a:pt x="527" y="932"/>
                      </a:lnTo>
                      <a:lnTo>
                        <a:pt x="537" y="938"/>
                      </a:lnTo>
                      <a:lnTo>
                        <a:pt x="547" y="941"/>
                      </a:lnTo>
                      <a:lnTo>
                        <a:pt x="557" y="944"/>
                      </a:lnTo>
                      <a:lnTo>
                        <a:pt x="566" y="946"/>
                      </a:lnTo>
                      <a:lnTo>
                        <a:pt x="574" y="947"/>
                      </a:lnTo>
                      <a:lnTo>
                        <a:pt x="584" y="946"/>
                      </a:lnTo>
                      <a:lnTo>
                        <a:pt x="592" y="944"/>
                      </a:lnTo>
                      <a:lnTo>
                        <a:pt x="610" y="936"/>
                      </a:lnTo>
                      <a:lnTo>
                        <a:pt x="625" y="926"/>
                      </a:lnTo>
                      <a:lnTo>
                        <a:pt x="642" y="914"/>
                      </a:lnTo>
                      <a:lnTo>
                        <a:pt x="658" y="899"/>
                      </a:lnTo>
                      <a:lnTo>
                        <a:pt x="690" y="867"/>
                      </a:lnTo>
                      <a:lnTo>
                        <a:pt x="724" y="838"/>
                      </a:lnTo>
                      <a:lnTo>
                        <a:pt x="742" y="825"/>
                      </a:lnTo>
                      <a:lnTo>
                        <a:pt x="760" y="815"/>
                      </a:lnTo>
                      <a:lnTo>
                        <a:pt x="769" y="812"/>
                      </a:lnTo>
                      <a:lnTo>
                        <a:pt x="779" y="811"/>
                      </a:lnTo>
                      <a:lnTo>
                        <a:pt x="789" y="809"/>
                      </a:lnTo>
                      <a:lnTo>
                        <a:pt x="800" y="809"/>
                      </a:lnTo>
                      <a:lnTo>
                        <a:pt x="839" y="800"/>
                      </a:lnTo>
                      <a:lnTo>
                        <a:pt x="878" y="796"/>
                      </a:lnTo>
                      <a:lnTo>
                        <a:pt x="914" y="793"/>
                      </a:lnTo>
                      <a:lnTo>
                        <a:pt x="952" y="793"/>
                      </a:lnTo>
                      <a:lnTo>
                        <a:pt x="988" y="794"/>
                      </a:lnTo>
                      <a:lnTo>
                        <a:pt x="1026" y="797"/>
                      </a:lnTo>
                      <a:lnTo>
                        <a:pt x="1063" y="804"/>
                      </a:lnTo>
                      <a:lnTo>
                        <a:pt x="1099" y="812"/>
                      </a:lnTo>
                      <a:lnTo>
                        <a:pt x="1132" y="822"/>
                      </a:lnTo>
                      <a:lnTo>
                        <a:pt x="1167" y="833"/>
                      </a:lnTo>
                      <a:lnTo>
                        <a:pt x="1200" y="846"/>
                      </a:lnTo>
                      <a:lnTo>
                        <a:pt x="1232" y="862"/>
                      </a:lnTo>
                      <a:lnTo>
                        <a:pt x="1265" y="878"/>
                      </a:lnTo>
                      <a:lnTo>
                        <a:pt x="1297" y="896"/>
                      </a:lnTo>
                      <a:lnTo>
                        <a:pt x="1326" y="915"/>
                      </a:lnTo>
                      <a:lnTo>
                        <a:pt x="1356" y="936"/>
                      </a:lnTo>
                      <a:lnTo>
                        <a:pt x="1380" y="959"/>
                      </a:lnTo>
                      <a:lnTo>
                        <a:pt x="1404" y="983"/>
                      </a:lnTo>
                      <a:lnTo>
                        <a:pt x="1425" y="1007"/>
                      </a:lnTo>
                      <a:lnTo>
                        <a:pt x="1445" y="1032"/>
                      </a:lnTo>
                      <a:lnTo>
                        <a:pt x="1463" y="1059"/>
                      </a:lnTo>
                      <a:lnTo>
                        <a:pt x="1480" y="1085"/>
                      </a:lnTo>
                      <a:lnTo>
                        <a:pt x="1493" y="1112"/>
                      </a:lnTo>
                      <a:lnTo>
                        <a:pt x="1507" y="1141"/>
                      </a:lnTo>
                      <a:lnTo>
                        <a:pt x="1518" y="1170"/>
                      </a:lnTo>
                      <a:lnTo>
                        <a:pt x="1528" y="1199"/>
                      </a:lnTo>
                      <a:lnTo>
                        <a:pt x="1536" y="1228"/>
                      </a:lnTo>
                      <a:lnTo>
                        <a:pt x="1542" y="1259"/>
                      </a:lnTo>
                      <a:lnTo>
                        <a:pt x="1548" y="1289"/>
                      </a:lnTo>
                      <a:lnTo>
                        <a:pt x="1551" y="1320"/>
                      </a:lnTo>
                      <a:lnTo>
                        <a:pt x="1555" y="1352"/>
                      </a:lnTo>
                      <a:lnTo>
                        <a:pt x="1558" y="1383"/>
                      </a:lnTo>
                      <a:lnTo>
                        <a:pt x="1558" y="1415"/>
                      </a:lnTo>
                      <a:lnTo>
                        <a:pt x="1558" y="1448"/>
                      </a:lnTo>
                      <a:lnTo>
                        <a:pt x="1557" y="1479"/>
                      </a:lnTo>
                      <a:lnTo>
                        <a:pt x="1555" y="1510"/>
                      </a:lnTo>
                      <a:lnTo>
                        <a:pt x="1551" y="1543"/>
                      </a:lnTo>
                      <a:lnTo>
                        <a:pt x="1546" y="1575"/>
                      </a:lnTo>
                      <a:lnTo>
                        <a:pt x="1542" y="1607"/>
                      </a:lnTo>
                      <a:lnTo>
                        <a:pt x="1537" y="1638"/>
                      </a:lnTo>
                      <a:lnTo>
                        <a:pt x="1522" y="1700"/>
                      </a:lnTo>
                      <a:lnTo>
                        <a:pt x="1508" y="1761"/>
                      </a:lnTo>
                      <a:lnTo>
                        <a:pt x="1490" y="1820"/>
                      </a:lnTo>
                      <a:lnTo>
                        <a:pt x="1471" y="1876"/>
                      </a:lnTo>
                      <a:lnTo>
                        <a:pt x="1462" y="1894"/>
                      </a:lnTo>
                      <a:lnTo>
                        <a:pt x="1451" y="1912"/>
                      </a:lnTo>
                      <a:lnTo>
                        <a:pt x="1442" y="1928"/>
                      </a:lnTo>
                      <a:lnTo>
                        <a:pt x="1431" y="1942"/>
                      </a:lnTo>
                      <a:lnTo>
                        <a:pt x="1407" y="1973"/>
                      </a:lnTo>
                      <a:lnTo>
                        <a:pt x="1379" y="2001"/>
                      </a:lnTo>
                      <a:lnTo>
                        <a:pt x="1350" y="2027"/>
                      </a:lnTo>
                      <a:lnTo>
                        <a:pt x="1319" y="2052"/>
                      </a:lnTo>
                      <a:lnTo>
                        <a:pt x="1289" y="2075"/>
                      </a:lnTo>
                      <a:lnTo>
                        <a:pt x="1255" y="2095"/>
                      </a:lnTo>
                      <a:lnTo>
                        <a:pt x="1221" y="2116"/>
                      </a:lnTo>
                      <a:lnTo>
                        <a:pt x="1185" y="2136"/>
                      </a:lnTo>
                      <a:lnTo>
                        <a:pt x="1150" y="2154"/>
                      </a:lnTo>
                      <a:lnTo>
                        <a:pt x="1115" y="2172"/>
                      </a:lnTo>
                      <a:lnTo>
                        <a:pt x="1044" y="2205"/>
                      </a:lnTo>
                      <a:lnTo>
                        <a:pt x="976" y="2239"/>
                      </a:lnTo>
                      <a:lnTo>
                        <a:pt x="942" y="2243"/>
                      </a:lnTo>
                      <a:lnTo>
                        <a:pt x="910" y="2248"/>
                      </a:lnTo>
                      <a:lnTo>
                        <a:pt x="876" y="2249"/>
                      </a:lnTo>
                      <a:lnTo>
                        <a:pt x="843" y="2249"/>
                      </a:lnTo>
                      <a:lnTo>
                        <a:pt x="813" y="2248"/>
                      </a:lnTo>
                      <a:lnTo>
                        <a:pt x="781" y="2243"/>
                      </a:lnTo>
                      <a:lnTo>
                        <a:pt x="751" y="2239"/>
                      </a:lnTo>
                      <a:lnTo>
                        <a:pt x="719" y="2233"/>
                      </a:lnTo>
                      <a:lnTo>
                        <a:pt x="690" y="2226"/>
                      </a:lnTo>
                      <a:lnTo>
                        <a:pt x="661" y="2216"/>
                      </a:lnTo>
                      <a:lnTo>
                        <a:pt x="633" y="2207"/>
                      </a:lnTo>
                      <a:lnTo>
                        <a:pt x="605" y="2194"/>
                      </a:lnTo>
                      <a:lnTo>
                        <a:pt x="577" y="2181"/>
                      </a:lnTo>
                      <a:lnTo>
                        <a:pt x="550" y="2168"/>
                      </a:lnTo>
                      <a:lnTo>
                        <a:pt x="522" y="2152"/>
                      </a:lnTo>
                      <a:lnTo>
                        <a:pt x="497" y="2136"/>
                      </a:lnTo>
                      <a:lnTo>
                        <a:pt x="473" y="2119"/>
                      </a:lnTo>
                      <a:lnTo>
                        <a:pt x="447" y="2102"/>
                      </a:lnTo>
                      <a:lnTo>
                        <a:pt x="423" y="2083"/>
                      </a:lnTo>
                      <a:lnTo>
                        <a:pt x="398" y="2062"/>
                      </a:lnTo>
                      <a:lnTo>
                        <a:pt x="376" y="2042"/>
                      </a:lnTo>
                      <a:lnTo>
                        <a:pt x="353" y="2021"/>
                      </a:lnTo>
                      <a:lnTo>
                        <a:pt x="332" y="1998"/>
                      </a:lnTo>
                      <a:lnTo>
                        <a:pt x="312" y="1977"/>
                      </a:lnTo>
                      <a:lnTo>
                        <a:pt x="270" y="1930"/>
                      </a:lnTo>
                      <a:lnTo>
                        <a:pt x="232" y="1882"/>
                      </a:lnTo>
                      <a:lnTo>
                        <a:pt x="197" y="1832"/>
                      </a:lnTo>
                      <a:lnTo>
                        <a:pt x="164" y="1779"/>
                      </a:lnTo>
                      <a:lnTo>
                        <a:pt x="138" y="1739"/>
                      </a:lnTo>
                      <a:lnTo>
                        <a:pt x="116" y="1699"/>
                      </a:lnTo>
                      <a:lnTo>
                        <a:pt x="96" y="1655"/>
                      </a:lnTo>
                      <a:lnTo>
                        <a:pt x="78" y="1612"/>
                      </a:lnTo>
                      <a:lnTo>
                        <a:pt x="61" y="1569"/>
                      </a:lnTo>
                      <a:lnTo>
                        <a:pt x="47" y="1522"/>
                      </a:lnTo>
                      <a:lnTo>
                        <a:pt x="34" y="1476"/>
                      </a:lnTo>
                      <a:lnTo>
                        <a:pt x="25" y="1430"/>
                      </a:lnTo>
                      <a:lnTo>
                        <a:pt x="16" y="1381"/>
                      </a:lnTo>
                      <a:lnTo>
                        <a:pt x="8" y="1333"/>
                      </a:lnTo>
                      <a:lnTo>
                        <a:pt x="5" y="1284"/>
                      </a:lnTo>
                      <a:lnTo>
                        <a:pt x="2" y="1236"/>
                      </a:lnTo>
                      <a:lnTo>
                        <a:pt x="0" y="1186"/>
                      </a:lnTo>
                      <a:lnTo>
                        <a:pt x="2" y="1136"/>
                      </a:lnTo>
                      <a:lnTo>
                        <a:pt x="4" y="1088"/>
                      </a:lnTo>
                      <a:lnTo>
                        <a:pt x="7" y="1038"/>
                      </a:lnTo>
                      <a:lnTo>
                        <a:pt x="13" y="988"/>
                      </a:lnTo>
                      <a:lnTo>
                        <a:pt x="19" y="939"/>
                      </a:lnTo>
                      <a:lnTo>
                        <a:pt x="29" y="890"/>
                      </a:lnTo>
                      <a:lnTo>
                        <a:pt x="39" y="841"/>
                      </a:lnTo>
                      <a:lnTo>
                        <a:pt x="50" y="793"/>
                      </a:lnTo>
                      <a:lnTo>
                        <a:pt x="63" y="744"/>
                      </a:lnTo>
                      <a:lnTo>
                        <a:pt x="78" y="697"/>
                      </a:lnTo>
                      <a:lnTo>
                        <a:pt x="94" y="652"/>
                      </a:lnTo>
                      <a:lnTo>
                        <a:pt x="110" y="605"/>
                      </a:lnTo>
                      <a:lnTo>
                        <a:pt x="128" y="562"/>
                      </a:lnTo>
                      <a:lnTo>
                        <a:pt x="147" y="519"/>
                      </a:lnTo>
                      <a:lnTo>
                        <a:pt x="168" y="475"/>
                      </a:lnTo>
                      <a:lnTo>
                        <a:pt x="191" y="434"/>
                      </a:lnTo>
                      <a:lnTo>
                        <a:pt x="213" y="395"/>
                      </a:lnTo>
                      <a:lnTo>
                        <a:pt x="235" y="356"/>
                      </a:lnTo>
                      <a:lnTo>
                        <a:pt x="261" y="318"/>
                      </a:lnTo>
                      <a:lnTo>
                        <a:pt x="281" y="289"/>
                      </a:lnTo>
                      <a:lnTo>
                        <a:pt x="303" y="262"/>
                      </a:lnTo>
                      <a:lnTo>
                        <a:pt x="327" y="236"/>
                      </a:lnTo>
                      <a:lnTo>
                        <a:pt x="352" y="212"/>
                      </a:lnTo>
                      <a:lnTo>
                        <a:pt x="377" y="188"/>
                      </a:lnTo>
                      <a:lnTo>
                        <a:pt x="405" y="165"/>
                      </a:lnTo>
                      <a:lnTo>
                        <a:pt x="434" y="144"/>
                      </a:lnTo>
                      <a:lnTo>
                        <a:pt x="465" y="125"/>
                      </a:lnTo>
                      <a:lnTo>
                        <a:pt x="495" y="106"/>
                      </a:lnTo>
                      <a:lnTo>
                        <a:pt x="527" y="88"/>
                      </a:lnTo>
                      <a:lnTo>
                        <a:pt x="560" y="73"/>
                      </a:lnTo>
                      <a:lnTo>
                        <a:pt x="594" y="59"/>
                      </a:lnTo>
                      <a:lnTo>
                        <a:pt x="628" y="46"/>
                      </a:lnTo>
                      <a:lnTo>
                        <a:pt x="661" y="35"/>
                      </a:lnTo>
                      <a:lnTo>
                        <a:pt x="696" y="25"/>
                      </a:lnTo>
                      <a:lnTo>
                        <a:pt x="733" y="17"/>
                      </a:lnTo>
                      <a:lnTo>
                        <a:pt x="768" y="11"/>
                      </a:lnTo>
                      <a:lnTo>
                        <a:pt x="804" y="6"/>
                      </a:lnTo>
                      <a:lnTo>
                        <a:pt x="840" y="2"/>
                      </a:lnTo>
                      <a:lnTo>
                        <a:pt x="876" y="0"/>
                      </a:lnTo>
                      <a:lnTo>
                        <a:pt x="911" y="0"/>
                      </a:lnTo>
                      <a:lnTo>
                        <a:pt x="949" y="2"/>
                      </a:lnTo>
                      <a:lnTo>
                        <a:pt x="984" y="8"/>
                      </a:lnTo>
                      <a:lnTo>
                        <a:pt x="1018" y="12"/>
                      </a:lnTo>
                      <a:lnTo>
                        <a:pt x="1053" y="20"/>
                      </a:lnTo>
                      <a:lnTo>
                        <a:pt x="1087" y="30"/>
                      </a:lnTo>
                      <a:lnTo>
                        <a:pt x="1121" y="41"/>
                      </a:lnTo>
                      <a:lnTo>
                        <a:pt x="1153" y="54"/>
                      </a:lnTo>
                      <a:lnTo>
                        <a:pt x="1185" y="70"/>
                      </a:lnTo>
                      <a:lnTo>
                        <a:pt x="1218" y="88"/>
                      </a:lnTo>
                      <a:lnTo>
                        <a:pt x="1247" y="108"/>
                      </a:lnTo>
                      <a:lnTo>
                        <a:pt x="127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66280" y="2669760"/>
                  <a:ext cx="96480" cy="137880"/>
                </a:xfrm>
                <a:custGeom>
                  <a:avLst/>
                  <a:gdLst/>
                  <a:ahLst/>
                  <a:rect l="l" t="t" r="r" b="b"/>
                  <a:pathLst>
                    <a:path w="1495" h="2145">
                      <a:moveTo>
                        <a:pt x="211" y="869"/>
                      </a:moveTo>
                      <a:lnTo>
                        <a:pt x="208" y="877"/>
                      </a:lnTo>
                      <a:lnTo>
                        <a:pt x="205" y="885"/>
                      </a:lnTo>
                      <a:lnTo>
                        <a:pt x="203" y="894"/>
                      </a:lnTo>
                      <a:lnTo>
                        <a:pt x="202" y="905"/>
                      </a:lnTo>
                      <a:lnTo>
                        <a:pt x="200" y="927"/>
                      </a:lnTo>
                      <a:lnTo>
                        <a:pt x="200" y="952"/>
                      </a:lnTo>
                      <a:lnTo>
                        <a:pt x="203" y="974"/>
                      </a:lnTo>
                      <a:lnTo>
                        <a:pt x="208" y="996"/>
                      </a:lnTo>
                      <a:lnTo>
                        <a:pt x="211" y="1006"/>
                      </a:lnTo>
                      <a:lnTo>
                        <a:pt x="216" y="1015"/>
                      </a:lnTo>
                      <a:lnTo>
                        <a:pt x="220" y="1026"/>
                      </a:lnTo>
                      <a:lnTo>
                        <a:pt x="224" y="1032"/>
                      </a:lnTo>
                      <a:lnTo>
                        <a:pt x="274" y="1008"/>
                      </a:lnTo>
                      <a:lnTo>
                        <a:pt x="323" y="985"/>
                      </a:lnTo>
                      <a:lnTo>
                        <a:pt x="368" y="962"/>
                      </a:lnTo>
                      <a:lnTo>
                        <a:pt x="411" y="938"/>
                      </a:lnTo>
                      <a:lnTo>
                        <a:pt x="455" y="914"/>
                      </a:lnTo>
                      <a:lnTo>
                        <a:pt x="497" y="887"/>
                      </a:lnTo>
                      <a:lnTo>
                        <a:pt x="542" y="858"/>
                      </a:lnTo>
                      <a:lnTo>
                        <a:pt x="587" y="825"/>
                      </a:lnTo>
                      <a:lnTo>
                        <a:pt x="619" y="819"/>
                      </a:lnTo>
                      <a:lnTo>
                        <a:pt x="651" y="814"/>
                      </a:lnTo>
                      <a:lnTo>
                        <a:pt x="684" y="811"/>
                      </a:lnTo>
                      <a:lnTo>
                        <a:pt x="716" y="809"/>
                      </a:lnTo>
                      <a:lnTo>
                        <a:pt x="748" y="809"/>
                      </a:lnTo>
                      <a:lnTo>
                        <a:pt x="781" y="813"/>
                      </a:lnTo>
                      <a:lnTo>
                        <a:pt x="813" y="816"/>
                      </a:lnTo>
                      <a:lnTo>
                        <a:pt x="843" y="823"/>
                      </a:lnTo>
                      <a:lnTo>
                        <a:pt x="872" y="832"/>
                      </a:lnTo>
                      <a:lnTo>
                        <a:pt x="902" y="844"/>
                      </a:lnTo>
                      <a:lnTo>
                        <a:pt x="914" y="852"/>
                      </a:lnTo>
                      <a:lnTo>
                        <a:pt x="928" y="859"/>
                      </a:lnTo>
                      <a:lnTo>
                        <a:pt x="940" y="869"/>
                      </a:lnTo>
                      <a:lnTo>
                        <a:pt x="953" y="877"/>
                      </a:lnTo>
                      <a:lnTo>
                        <a:pt x="964" y="888"/>
                      </a:lnTo>
                      <a:lnTo>
                        <a:pt x="976" y="899"/>
                      </a:lnTo>
                      <a:lnTo>
                        <a:pt x="987" y="911"/>
                      </a:lnTo>
                      <a:lnTo>
                        <a:pt x="999" y="923"/>
                      </a:lnTo>
                      <a:lnTo>
                        <a:pt x="1008" y="937"/>
                      </a:lnTo>
                      <a:lnTo>
                        <a:pt x="1016" y="952"/>
                      </a:lnTo>
                      <a:lnTo>
                        <a:pt x="1026" y="967"/>
                      </a:lnTo>
                      <a:lnTo>
                        <a:pt x="1032" y="983"/>
                      </a:lnTo>
                      <a:lnTo>
                        <a:pt x="1053" y="1124"/>
                      </a:lnTo>
                      <a:lnTo>
                        <a:pt x="1073" y="1274"/>
                      </a:lnTo>
                      <a:lnTo>
                        <a:pt x="1081" y="1349"/>
                      </a:lnTo>
                      <a:lnTo>
                        <a:pt x="1085" y="1427"/>
                      </a:lnTo>
                      <a:lnTo>
                        <a:pt x="1085" y="1466"/>
                      </a:lnTo>
                      <a:lnTo>
                        <a:pt x="1085" y="1504"/>
                      </a:lnTo>
                      <a:lnTo>
                        <a:pt x="1085" y="1542"/>
                      </a:lnTo>
                      <a:lnTo>
                        <a:pt x="1082" y="1580"/>
                      </a:lnTo>
                      <a:lnTo>
                        <a:pt x="1079" y="1617"/>
                      </a:lnTo>
                      <a:lnTo>
                        <a:pt x="1076" y="1655"/>
                      </a:lnTo>
                      <a:lnTo>
                        <a:pt x="1070" y="1691"/>
                      </a:lnTo>
                      <a:lnTo>
                        <a:pt x="1061" y="1726"/>
                      </a:lnTo>
                      <a:lnTo>
                        <a:pt x="1053" y="1762"/>
                      </a:lnTo>
                      <a:lnTo>
                        <a:pt x="1041" y="1796"/>
                      </a:lnTo>
                      <a:lnTo>
                        <a:pt x="1031" y="1830"/>
                      </a:lnTo>
                      <a:lnTo>
                        <a:pt x="1016" y="1862"/>
                      </a:lnTo>
                      <a:lnTo>
                        <a:pt x="1000" y="1894"/>
                      </a:lnTo>
                      <a:lnTo>
                        <a:pt x="982" y="1926"/>
                      </a:lnTo>
                      <a:lnTo>
                        <a:pt x="961" y="1954"/>
                      </a:lnTo>
                      <a:lnTo>
                        <a:pt x="938" y="1983"/>
                      </a:lnTo>
                      <a:lnTo>
                        <a:pt x="914" y="2010"/>
                      </a:lnTo>
                      <a:lnTo>
                        <a:pt x="887" y="2036"/>
                      </a:lnTo>
                      <a:lnTo>
                        <a:pt x="858" y="2060"/>
                      </a:lnTo>
                      <a:lnTo>
                        <a:pt x="825" y="2083"/>
                      </a:lnTo>
                      <a:lnTo>
                        <a:pt x="808" y="2089"/>
                      </a:lnTo>
                      <a:lnTo>
                        <a:pt x="792" y="2095"/>
                      </a:lnTo>
                      <a:lnTo>
                        <a:pt x="775" y="2100"/>
                      </a:lnTo>
                      <a:lnTo>
                        <a:pt x="760" y="2103"/>
                      </a:lnTo>
                      <a:lnTo>
                        <a:pt x="745" y="2104"/>
                      </a:lnTo>
                      <a:lnTo>
                        <a:pt x="729" y="2106"/>
                      </a:lnTo>
                      <a:lnTo>
                        <a:pt x="713" y="2106"/>
                      </a:lnTo>
                      <a:lnTo>
                        <a:pt x="698" y="2104"/>
                      </a:lnTo>
                      <a:lnTo>
                        <a:pt x="683" y="2103"/>
                      </a:lnTo>
                      <a:lnTo>
                        <a:pt x="668" y="2100"/>
                      </a:lnTo>
                      <a:lnTo>
                        <a:pt x="653" y="2096"/>
                      </a:lnTo>
                      <a:lnTo>
                        <a:pt x="639" y="2093"/>
                      </a:lnTo>
                      <a:lnTo>
                        <a:pt x="612" y="2082"/>
                      </a:lnTo>
                      <a:lnTo>
                        <a:pt x="583" y="2069"/>
                      </a:lnTo>
                      <a:lnTo>
                        <a:pt x="556" y="2054"/>
                      </a:lnTo>
                      <a:lnTo>
                        <a:pt x="530" y="2036"/>
                      </a:lnTo>
                      <a:lnTo>
                        <a:pt x="506" y="2017"/>
                      </a:lnTo>
                      <a:lnTo>
                        <a:pt x="482" y="1997"/>
                      </a:lnTo>
                      <a:lnTo>
                        <a:pt x="459" y="1975"/>
                      </a:lnTo>
                      <a:lnTo>
                        <a:pt x="438" y="1953"/>
                      </a:lnTo>
                      <a:lnTo>
                        <a:pt x="416" y="1930"/>
                      </a:lnTo>
                      <a:lnTo>
                        <a:pt x="397" y="1906"/>
                      </a:lnTo>
                      <a:lnTo>
                        <a:pt x="385" y="1880"/>
                      </a:lnTo>
                      <a:lnTo>
                        <a:pt x="377" y="1853"/>
                      </a:lnTo>
                      <a:lnTo>
                        <a:pt x="370" y="1823"/>
                      </a:lnTo>
                      <a:lnTo>
                        <a:pt x="362" y="1794"/>
                      </a:lnTo>
                      <a:lnTo>
                        <a:pt x="359" y="1765"/>
                      </a:lnTo>
                      <a:lnTo>
                        <a:pt x="356" y="1737"/>
                      </a:lnTo>
                      <a:lnTo>
                        <a:pt x="355" y="1708"/>
                      </a:lnTo>
                      <a:lnTo>
                        <a:pt x="356" y="1678"/>
                      </a:lnTo>
                      <a:lnTo>
                        <a:pt x="358" y="1649"/>
                      </a:lnTo>
                      <a:lnTo>
                        <a:pt x="362" y="1620"/>
                      </a:lnTo>
                      <a:lnTo>
                        <a:pt x="370" y="1591"/>
                      </a:lnTo>
                      <a:lnTo>
                        <a:pt x="377" y="1564"/>
                      </a:lnTo>
                      <a:lnTo>
                        <a:pt x="387" y="1537"/>
                      </a:lnTo>
                      <a:lnTo>
                        <a:pt x="398" y="1511"/>
                      </a:lnTo>
                      <a:lnTo>
                        <a:pt x="413" y="1485"/>
                      </a:lnTo>
                      <a:lnTo>
                        <a:pt x="427" y="1461"/>
                      </a:lnTo>
                      <a:lnTo>
                        <a:pt x="438" y="1452"/>
                      </a:lnTo>
                      <a:lnTo>
                        <a:pt x="447" y="1445"/>
                      </a:lnTo>
                      <a:lnTo>
                        <a:pt x="458" y="1439"/>
                      </a:lnTo>
                      <a:lnTo>
                        <a:pt x="469" y="1431"/>
                      </a:lnTo>
                      <a:lnTo>
                        <a:pt x="492" y="1419"/>
                      </a:lnTo>
                      <a:lnTo>
                        <a:pt x="515" y="1404"/>
                      </a:lnTo>
                      <a:lnTo>
                        <a:pt x="526" y="1398"/>
                      </a:lnTo>
                      <a:lnTo>
                        <a:pt x="536" y="1390"/>
                      </a:lnTo>
                      <a:lnTo>
                        <a:pt x="544" y="1380"/>
                      </a:lnTo>
                      <a:lnTo>
                        <a:pt x="550" y="1371"/>
                      </a:lnTo>
                      <a:lnTo>
                        <a:pt x="554" y="1359"/>
                      </a:lnTo>
                      <a:lnTo>
                        <a:pt x="559" y="1348"/>
                      </a:lnTo>
                      <a:lnTo>
                        <a:pt x="559" y="1333"/>
                      </a:lnTo>
                      <a:lnTo>
                        <a:pt x="556" y="1319"/>
                      </a:lnTo>
                      <a:lnTo>
                        <a:pt x="542" y="1312"/>
                      </a:lnTo>
                      <a:lnTo>
                        <a:pt x="529" y="1307"/>
                      </a:lnTo>
                      <a:lnTo>
                        <a:pt x="516" y="1304"/>
                      </a:lnTo>
                      <a:lnTo>
                        <a:pt x="504" y="1301"/>
                      </a:lnTo>
                      <a:lnTo>
                        <a:pt x="480" y="1300"/>
                      </a:lnTo>
                      <a:lnTo>
                        <a:pt x="456" y="1301"/>
                      </a:lnTo>
                      <a:lnTo>
                        <a:pt x="433" y="1303"/>
                      </a:lnTo>
                      <a:lnTo>
                        <a:pt x="408" y="1304"/>
                      </a:lnTo>
                      <a:lnTo>
                        <a:pt x="379" y="1304"/>
                      </a:lnTo>
                      <a:lnTo>
                        <a:pt x="348" y="1301"/>
                      </a:lnTo>
                      <a:lnTo>
                        <a:pt x="299" y="1319"/>
                      </a:lnTo>
                      <a:lnTo>
                        <a:pt x="250" y="1336"/>
                      </a:lnTo>
                      <a:lnTo>
                        <a:pt x="226" y="1348"/>
                      </a:lnTo>
                      <a:lnTo>
                        <a:pt x="203" y="1359"/>
                      </a:lnTo>
                      <a:lnTo>
                        <a:pt x="181" y="1371"/>
                      </a:lnTo>
                      <a:lnTo>
                        <a:pt x="160" y="1383"/>
                      </a:lnTo>
                      <a:lnTo>
                        <a:pt x="138" y="1396"/>
                      </a:lnTo>
                      <a:lnTo>
                        <a:pt x="119" y="1410"/>
                      </a:lnTo>
                      <a:lnTo>
                        <a:pt x="100" y="1427"/>
                      </a:lnTo>
                      <a:lnTo>
                        <a:pt x="82" y="1443"/>
                      </a:lnTo>
                      <a:lnTo>
                        <a:pt x="64" y="1463"/>
                      </a:lnTo>
                      <a:lnTo>
                        <a:pt x="46" y="1481"/>
                      </a:lnTo>
                      <a:lnTo>
                        <a:pt x="32" y="1504"/>
                      </a:lnTo>
                      <a:lnTo>
                        <a:pt x="17" y="1527"/>
                      </a:lnTo>
                      <a:lnTo>
                        <a:pt x="10" y="1554"/>
                      </a:lnTo>
                      <a:lnTo>
                        <a:pt x="5" y="1582"/>
                      </a:lnTo>
                      <a:lnTo>
                        <a:pt x="2" y="1609"/>
                      </a:lnTo>
                      <a:lnTo>
                        <a:pt x="0" y="1637"/>
                      </a:lnTo>
                      <a:lnTo>
                        <a:pt x="2" y="1664"/>
                      </a:lnTo>
                      <a:lnTo>
                        <a:pt x="4" y="1690"/>
                      </a:lnTo>
                      <a:lnTo>
                        <a:pt x="7" y="1717"/>
                      </a:lnTo>
                      <a:lnTo>
                        <a:pt x="13" y="1743"/>
                      </a:lnTo>
                      <a:lnTo>
                        <a:pt x="19" y="1770"/>
                      </a:lnTo>
                      <a:lnTo>
                        <a:pt x="28" y="1794"/>
                      </a:lnTo>
                      <a:lnTo>
                        <a:pt x="35" y="1820"/>
                      </a:lnTo>
                      <a:lnTo>
                        <a:pt x="46" y="1844"/>
                      </a:lnTo>
                      <a:lnTo>
                        <a:pt x="58" y="1868"/>
                      </a:lnTo>
                      <a:lnTo>
                        <a:pt x="69" y="1893"/>
                      </a:lnTo>
                      <a:lnTo>
                        <a:pt x="82" y="1915"/>
                      </a:lnTo>
                      <a:lnTo>
                        <a:pt x="97" y="1936"/>
                      </a:lnTo>
                      <a:lnTo>
                        <a:pt x="125" y="1961"/>
                      </a:lnTo>
                      <a:lnTo>
                        <a:pt x="153" y="1982"/>
                      </a:lnTo>
                      <a:lnTo>
                        <a:pt x="181" y="2003"/>
                      </a:lnTo>
                      <a:lnTo>
                        <a:pt x="209" y="2022"/>
                      </a:lnTo>
                      <a:lnTo>
                        <a:pt x="240" y="2039"/>
                      </a:lnTo>
                      <a:lnTo>
                        <a:pt x="271" y="2056"/>
                      </a:lnTo>
                      <a:lnTo>
                        <a:pt x="302" y="2071"/>
                      </a:lnTo>
                      <a:lnTo>
                        <a:pt x="332" y="2083"/>
                      </a:lnTo>
                      <a:lnTo>
                        <a:pt x="365" y="2096"/>
                      </a:lnTo>
                      <a:lnTo>
                        <a:pt x="397" y="2107"/>
                      </a:lnTo>
                      <a:lnTo>
                        <a:pt x="430" y="2118"/>
                      </a:lnTo>
                      <a:lnTo>
                        <a:pt x="465" y="2125"/>
                      </a:lnTo>
                      <a:lnTo>
                        <a:pt x="498" y="2131"/>
                      </a:lnTo>
                      <a:lnTo>
                        <a:pt x="532" y="2136"/>
                      </a:lnTo>
                      <a:lnTo>
                        <a:pt x="568" y="2142"/>
                      </a:lnTo>
                      <a:lnTo>
                        <a:pt x="604" y="2145"/>
                      </a:lnTo>
                      <a:lnTo>
                        <a:pt x="657" y="2143"/>
                      </a:lnTo>
                      <a:lnTo>
                        <a:pt x="708" y="2139"/>
                      </a:lnTo>
                      <a:lnTo>
                        <a:pt x="760" y="2135"/>
                      </a:lnTo>
                      <a:lnTo>
                        <a:pt x="810" y="2127"/>
                      </a:lnTo>
                      <a:lnTo>
                        <a:pt x="858" y="2118"/>
                      </a:lnTo>
                      <a:lnTo>
                        <a:pt x="907" y="2106"/>
                      </a:lnTo>
                      <a:lnTo>
                        <a:pt x="953" y="2091"/>
                      </a:lnTo>
                      <a:lnTo>
                        <a:pt x="999" y="2074"/>
                      </a:lnTo>
                      <a:lnTo>
                        <a:pt x="1046" y="2056"/>
                      </a:lnTo>
                      <a:lnTo>
                        <a:pt x="1088" y="2033"/>
                      </a:lnTo>
                      <a:lnTo>
                        <a:pt x="1132" y="2010"/>
                      </a:lnTo>
                      <a:lnTo>
                        <a:pt x="1176" y="1985"/>
                      </a:lnTo>
                      <a:lnTo>
                        <a:pt x="1218" y="1956"/>
                      </a:lnTo>
                      <a:lnTo>
                        <a:pt x="1258" y="1926"/>
                      </a:lnTo>
                      <a:lnTo>
                        <a:pt x="1298" y="1893"/>
                      </a:lnTo>
                      <a:lnTo>
                        <a:pt x="1337" y="1858"/>
                      </a:lnTo>
                      <a:lnTo>
                        <a:pt x="1363" y="1823"/>
                      </a:lnTo>
                      <a:lnTo>
                        <a:pt x="1386" y="1787"/>
                      </a:lnTo>
                      <a:lnTo>
                        <a:pt x="1406" y="1749"/>
                      </a:lnTo>
                      <a:lnTo>
                        <a:pt x="1425" y="1711"/>
                      </a:lnTo>
                      <a:lnTo>
                        <a:pt x="1444" y="1670"/>
                      </a:lnTo>
                      <a:lnTo>
                        <a:pt x="1457" y="1628"/>
                      </a:lnTo>
                      <a:lnTo>
                        <a:pt x="1471" y="1587"/>
                      </a:lnTo>
                      <a:lnTo>
                        <a:pt x="1480" y="1545"/>
                      </a:lnTo>
                      <a:lnTo>
                        <a:pt x="1489" y="1501"/>
                      </a:lnTo>
                      <a:lnTo>
                        <a:pt x="1493" y="1457"/>
                      </a:lnTo>
                      <a:lnTo>
                        <a:pt x="1495" y="1413"/>
                      </a:lnTo>
                      <a:lnTo>
                        <a:pt x="1495" y="1369"/>
                      </a:lnTo>
                      <a:lnTo>
                        <a:pt x="1490" y="1324"/>
                      </a:lnTo>
                      <a:lnTo>
                        <a:pt x="1484" y="1280"/>
                      </a:lnTo>
                      <a:lnTo>
                        <a:pt x="1479" y="1257"/>
                      </a:lnTo>
                      <a:lnTo>
                        <a:pt x="1474" y="1235"/>
                      </a:lnTo>
                      <a:lnTo>
                        <a:pt x="1468" y="1212"/>
                      </a:lnTo>
                      <a:lnTo>
                        <a:pt x="1462" y="1191"/>
                      </a:lnTo>
                      <a:lnTo>
                        <a:pt x="1447" y="1157"/>
                      </a:lnTo>
                      <a:lnTo>
                        <a:pt x="1430" y="1127"/>
                      </a:lnTo>
                      <a:lnTo>
                        <a:pt x="1413" y="1097"/>
                      </a:lnTo>
                      <a:lnTo>
                        <a:pt x="1394" y="1067"/>
                      </a:lnTo>
                      <a:lnTo>
                        <a:pt x="1374" y="1038"/>
                      </a:lnTo>
                      <a:lnTo>
                        <a:pt x="1353" y="1012"/>
                      </a:lnTo>
                      <a:lnTo>
                        <a:pt x="1330" y="987"/>
                      </a:lnTo>
                      <a:lnTo>
                        <a:pt x="1306" y="962"/>
                      </a:lnTo>
                      <a:lnTo>
                        <a:pt x="1282" y="938"/>
                      </a:lnTo>
                      <a:lnTo>
                        <a:pt x="1256" y="917"/>
                      </a:lnTo>
                      <a:lnTo>
                        <a:pt x="1230" y="896"/>
                      </a:lnTo>
                      <a:lnTo>
                        <a:pt x="1203" y="877"/>
                      </a:lnTo>
                      <a:lnTo>
                        <a:pt x="1174" y="859"/>
                      </a:lnTo>
                      <a:lnTo>
                        <a:pt x="1145" y="843"/>
                      </a:lnTo>
                      <a:lnTo>
                        <a:pt x="1114" y="826"/>
                      </a:lnTo>
                      <a:lnTo>
                        <a:pt x="1084" y="814"/>
                      </a:lnTo>
                      <a:lnTo>
                        <a:pt x="1053" y="801"/>
                      </a:lnTo>
                      <a:lnTo>
                        <a:pt x="1021" y="790"/>
                      </a:lnTo>
                      <a:lnTo>
                        <a:pt x="987" y="781"/>
                      </a:lnTo>
                      <a:lnTo>
                        <a:pt x="955" y="772"/>
                      </a:lnTo>
                      <a:lnTo>
                        <a:pt x="920" y="764"/>
                      </a:lnTo>
                      <a:lnTo>
                        <a:pt x="885" y="760"/>
                      </a:lnTo>
                      <a:lnTo>
                        <a:pt x="852" y="755"/>
                      </a:lnTo>
                      <a:lnTo>
                        <a:pt x="816" y="751"/>
                      </a:lnTo>
                      <a:lnTo>
                        <a:pt x="781" y="749"/>
                      </a:lnTo>
                      <a:lnTo>
                        <a:pt x="745" y="749"/>
                      </a:lnTo>
                      <a:lnTo>
                        <a:pt x="708" y="751"/>
                      </a:lnTo>
                      <a:lnTo>
                        <a:pt x="672" y="755"/>
                      </a:lnTo>
                      <a:lnTo>
                        <a:pt x="636" y="760"/>
                      </a:lnTo>
                      <a:lnTo>
                        <a:pt x="598" y="764"/>
                      </a:lnTo>
                      <a:lnTo>
                        <a:pt x="562" y="772"/>
                      </a:lnTo>
                      <a:lnTo>
                        <a:pt x="526" y="781"/>
                      </a:lnTo>
                      <a:lnTo>
                        <a:pt x="508" y="782"/>
                      </a:lnTo>
                      <a:lnTo>
                        <a:pt x="492" y="785"/>
                      </a:lnTo>
                      <a:lnTo>
                        <a:pt x="476" y="793"/>
                      </a:lnTo>
                      <a:lnTo>
                        <a:pt x="462" y="801"/>
                      </a:lnTo>
                      <a:lnTo>
                        <a:pt x="432" y="823"/>
                      </a:lnTo>
                      <a:lnTo>
                        <a:pt x="405" y="849"/>
                      </a:lnTo>
                      <a:lnTo>
                        <a:pt x="392" y="861"/>
                      </a:lnTo>
                      <a:lnTo>
                        <a:pt x="377" y="872"/>
                      </a:lnTo>
                      <a:lnTo>
                        <a:pt x="365" y="884"/>
                      </a:lnTo>
                      <a:lnTo>
                        <a:pt x="350" y="891"/>
                      </a:lnTo>
                      <a:lnTo>
                        <a:pt x="335" y="896"/>
                      </a:lnTo>
                      <a:lnTo>
                        <a:pt x="321" y="899"/>
                      </a:lnTo>
                      <a:lnTo>
                        <a:pt x="314" y="902"/>
                      </a:lnTo>
                      <a:lnTo>
                        <a:pt x="306" y="899"/>
                      </a:lnTo>
                      <a:lnTo>
                        <a:pt x="299" y="897"/>
                      </a:lnTo>
                      <a:lnTo>
                        <a:pt x="290" y="896"/>
                      </a:lnTo>
                      <a:lnTo>
                        <a:pt x="311" y="571"/>
                      </a:lnTo>
                      <a:lnTo>
                        <a:pt x="332" y="545"/>
                      </a:lnTo>
                      <a:lnTo>
                        <a:pt x="355" y="524"/>
                      </a:lnTo>
                      <a:lnTo>
                        <a:pt x="377" y="506"/>
                      </a:lnTo>
                      <a:lnTo>
                        <a:pt x="400" y="492"/>
                      </a:lnTo>
                      <a:lnTo>
                        <a:pt x="424" y="480"/>
                      </a:lnTo>
                      <a:lnTo>
                        <a:pt x="450" y="472"/>
                      </a:lnTo>
                      <a:lnTo>
                        <a:pt x="474" y="466"/>
                      </a:lnTo>
                      <a:lnTo>
                        <a:pt x="500" y="463"/>
                      </a:lnTo>
                      <a:lnTo>
                        <a:pt x="526" y="460"/>
                      </a:lnTo>
                      <a:lnTo>
                        <a:pt x="551" y="463"/>
                      </a:lnTo>
                      <a:lnTo>
                        <a:pt x="579" y="466"/>
                      </a:lnTo>
                      <a:lnTo>
                        <a:pt x="606" y="469"/>
                      </a:lnTo>
                      <a:lnTo>
                        <a:pt x="661" y="482"/>
                      </a:lnTo>
                      <a:lnTo>
                        <a:pt x="718" y="496"/>
                      </a:lnTo>
                      <a:lnTo>
                        <a:pt x="775" y="514"/>
                      </a:lnTo>
                      <a:lnTo>
                        <a:pt x="834" y="530"/>
                      </a:lnTo>
                      <a:lnTo>
                        <a:pt x="863" y="537"/>
                      </a:lnTo>
                      <a:lnTo>
                        <a:pt x="892" y="543"/>
                      </a:lnTo>
                      <a:lnTo>
                        <a:pt x="920" y="548"/>
                      </a:lnTo>
                      <a:lnTo>
                        <a:pt x="950" y="553"/>
                      </a:lnTo>
                      <a:lnTo>
                        <a:pt x="979" y="554"/>
                      </a:lnTo>
                      <a:lnTo>
                        <a:pt x="1008" y="554"/>
                      </a:lnTo>
                      <a:lnTo>
                        <a:pt x="1037" y="553"/>
                      </a:lnTo>
                      <a:lnTo>
                        <a:pt x="1066" y="549"/>
                      </a:lnTo>
                      <a:lnTo>
                        <a:pt x="1094" y="543"/>
                      </a:lnTo>
                      <a:lnTo>
                        <a:pt x="1123" y="536"/>
                      </a:lnTo>
                      <a:lnTo>
                        <a:pt x="1150" y="522"/>
                      </a:lnTo>
                      <a:lnTo>
                        <a:pt x="1179" y="507"/>
                      </a:lnTo>
                      <a:lnTo>
                        <a:pt x="1197" y="498"/>
                      </a:lnTo>
                      <a:lnTo>
                        <a:pt x="1212" y="490"/>
                      </a:lnTo>
                      <a:lnTo>
                        <a:pt x="1230" y="480"/>
                      </a:lnTo>
                      <a:lnTo>
                        <a:pt x="1245" y="471"/>
                      </a:lnTo>
                      <a:lnTo>
                        <a:pt x="1259" y="459"/>
                      </a:lnTo>
                      <a:lnTo>
                        <a:pt x="1274" y="448"/>
                      </a:lnTo>
                      <a:lnTo>
                        <a:pt x="1289" y="435"/>
                      </a:lnTo>
                      <a:lnTo>
                        <a:pt x="1301" y="422"/>
                      </a:lnTo>
                      <a:lnTo>
                        <a:pt x="1313" y="409"/>
                      </a:lnTo>
                      <a:lnTo>
                        <a:pt x="1324" y="397"/>
                      </a:lnTo>
                      <a:lnTo>
                        <a:pt x="1333" y="382"/>
                      </a:lnTo>
                      <a:lnTo>
                        <a:pt x="1345" y="368"/>
                      </a:lnTo>
                      <a:lnTo>
                        <a:pt x="1353" y="353"/>
                      </a:lnTo>
                      <a:lnTo>
                        <a:pt x="1362" y="336"/>
                      </a:lnTo>
                      <a:lnTo>
                        <a:pt x="1369" y="321"/>
                      </a:lnTo>
                      <a:lnTo>
                        <a:pt x="1376" y="304"/>
                      </a:lnTo>
                      <a:lnTo>
                        <a:pt x="1387" y="273"/>
                      </a:lnTo>
                      <a:lnTo>
                        <a:pt x="1395" y="236"/>
                      </a:lnTo>
                      <a:lnTo>
                        <a:pt x="1401" y="201"/>
                      </a:lnTo>
                      <a:lnTo>
                        <a:pt x="1403" y="165"/>
                      </a:lnTo>
                      <a:lnTo>
                        <a:pt x="1403" y="129"/>
                      </a:lnTo>
                      <a:lnTo>
                        <a:pt x="1398" y="91"/>
                      </a:lnTo>
                      <a:lnTo>
                        <a:pt x="1392" y="55"/>
                      </a:lnTo>
                      <a:lnTo>
                        <a:pt x="1382" y="17"/>
                      </a:lnTo>
                      <a:lnTo>
                        <a:pt x="1365" y="20"/>
                      </a:lnTo>
                      <a:lnTo>
                        <a:pt x="1347" y="27"/>
                      </a:lnTo>
                      <a:lnTo>
                        <a:pt x="1330" y="35"/>
                      </a:lnTo>
                      <a:lnTo>
                        <a:pt x="1315" y="43"/>
                      </a:lnTo>
                      <a:lnTo>
                        <a:pt x="1300" y="55"/>
                      </a:lnTo>
                      <a:lnTo>
                        <a:pt x="1285" y="67"/>
                      </a:lnTo>
                      <a:lnTo>
                        <a:pt x="1271" y="80"/>
                      </a:lnTo>
                      <a:lnTo>
                        <a:pt x="1258" y="97"/>
                      </a:lnTo>
                      <a:lnTo>
                        <a:pt x="1235" y="105"/>
                      </a:lnTo>
                      <a:lnTo>
                        <a:pt x="1212" y="109"/>
                      </a:lnTo>
                      <a:lnTo>
                        <a:pt x="1191" y="112"/>
                      </a:lnTo>
                      <a:lnTo>
                        <a:pt x="1168" y="114"/>
                      </a:lnTo>
                      <a:lnTo>
                        <a:pt x="1145" y="112"/>
                      </a:lnTo>
                      <a:lnTo>
                        <a:pt x="1124" y="109"/>
                      </a:lnTo>
                      <a:lnTo>
                        <a:pt x="1103" y="106"/>
                      </a:lnTo>
                      <a:lnTo>
                        <a:pt x="1082" y="100"/>
                      </a:lnTo>
                      <a:lnTo>
                        <a:pt x="1040" y="85"/>
                      </a:lnTo>
                      <a:lnTo>
                        <a:pt x="1000" y="67"/>
                      </a:lnTo>
                      <a:lnTo>
                        <a:pt x="961" y="50"/>
                      </a:lnTo>
                      <a:lnTo>
                        <a:pt x="922" y="31"/>
                      </a:lnTo>
                      <a:lnTo>
                        <a:pt x="879" y="20"/>
                      </a:lnTo>
                      <a:lnTo>
                        <a:pt x="835" y="14"/>
                      </a:lnTo>
                      <a:lnTo>
                        <a:pt x="790" y="8"/>
                      </a:lnTo>
                      <a:lnTo>
                        <a:pt x="745" y="3"/>
                      </a:lnTo>
                      <a:lnTo>
                        <a:pt x="700" y="2"/>
                      </a:lnTo>
                      <a:lnTo>
                        <a:pt x="653" y="0"/>
                      </a:lnTo>
                      <a:lnTo>
                        <a:pt x="608" y="2"/>
                      </a:lnTo>
                      <a:lnTo>
                        <a:pt x="562" y="5"/>
                      </a:lnTo>
                      <a:lnTo>
                        <a:pt x="516" y="8"/>
                      </a:lnTo>
                      <a:lnTo>
                        <a:pt x="471" y="14"/>
                      </a:lnTo>
                      <a:lnTo>
                        <a:pt x="427" y="24"/>
                      </a:lnTo>
                      <a:lnTo>
                        <a:pt x="383" y="34"/>
                      </a:lnTo>
                      <a:lnTo>
                        <a:pt x="342" y="46"/>
                      </a:lnTo>
                      <a:lnTo>
                        <a:pt x="302" y="61"/>
                      </a:lnTo>
                      <a:lnTo>
                        <a:pt x="263" y="77"/>
                      </a:lnTo>
                      <a:lnTo>
                        <a:pt x="224" y="97"/>
                      </a:lnTo>
                      <a:lnTo>
                        <a:pt x="226" y="161"/>
                      </a:lnTo>
                      <a:lnTo>
                        <a:pt x="226" y="227"/>
                      </a:lnTo>
                      <a:lnTo>
                        <a:pt x="224" y="295"/>
                      </a:lnTo>
                      <a:lnTo>
                        <a:pt x="223" y="362"/>
                      </a:lnTo>
                      <a:lnTo>
                        <a:pt x="223" y="427"/>
                      </a:lnTo>
                      <a:lnTo>
                        <a:pt x="223" y="487"/>
                      </a:lnTo>
                      <a:lnTo>
                        <a:pt x="224" y="514"/>
                      </a:lnTo>
                      <a:lnTo>
                        <a:pt x="226" y="540"/>
                      </a:lnTo>
                      <a:lnTo>
                        <a:pt x="229" y="564"/>
                      </a:lnTo>
                      <a:lnTo>
                        <a:pt x="234" y="586"/>
                      </a:lnTo>
                      <a:lnTo>
                        <a:pt x="211" y="869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713280" y="2769120"/>
                  <a:ext cx="39960" cy="81000"/>
                </a:xfrm>
                <a:custGeom>
                  <a:avLst/>
                  <a:gdLst/>
                  <a:ahLst/>
                  <a:rect l="l" t="t" r="r" b="b"/>
                  <a:pathLst>
                    <a:path w="627" h="1260">
                      <a:moveTo>
                        <a:pt x="590" y="115"/>
                      </a:moveTo>
                      <a:lnTo>
                        <a:pt x="598" y="176"/>
                      </a:lnTo>
                      <a:lnTo>
                        <a:pt x="605" y="239"/>
                      </a:lnTo>
                      <a:lnTo>
                        <a:pt x="611" y="303"/>
                      </a:lnTo>
                      <a:lnTo>
                        <a:pt x="615" y="368"/>
                      </a:lnTo>
                      <a:lnTo>
                        <a:pt x="621" y="434"/>
                      </a:lnTo>
                      <a:lnTo>
                        <a:pt x="624" y="499"/>
                      </a:lnTo>
                      <a:lnTo>
                        <a:pt x="627" y="566"/>
                      </a:lnTo>
                      <a:lnTo>
                        <a:pt x="627" y="634"/>
                      </a:lnTo>
                      <a:lnTo>
                        <a:pt x="627" y="700"/>
                      </a:lnTo>
                      <a:lnTo>
                        <a:pt x="626" y="765"/>
                      </a:lnTo>
                      <a:lnTo>
                        <a:pt x="621" y="832"/>
                      </a:lnTo>
                      <a:lnTo>
                        <a:pt x="615" y="898"/>
                      </a:lnTo>
                      <a:lnTo>
                        <a:pt x="609" y="962"/>
                      </a:lnTo>
                      <a:lnTo>
                        <a:pt x="600" y="1025"/>
                      </a:lnTo>
                      <a:lnTo>
                        <a:pt x="590" y="1086"/>
                      </a:lnTo>
                      <a:lnTo>
                        <a:pt x="576" y="1148"/>
                      </a:lnTo>
                      <a:lnTo>
                        <a:pt x="558" y="1163"/>
                      </a:lnTo>
                      <a:lnTo>
                        <a:pt x="538" y="1177"/>
                      </a:lnTo>
                      <a:lnTo>
                        <a:pt x="519" y="1190"/>
                      </a:lnTo>
                      <a:lnTo>
                        <a:pt x="499" y="1203"/>
                      </a:lnTo>
                      <a:lnTo>
                        <a:pt x="479" y="1216"/>
                      </a:lnTo>
                      <a:lnTo>
                        <a:pt x="456" y="1225"/>
                      </a:lnTo>
                      <a:lnTo>
                        <a:pt x="435" y="1235"/>
                      </a:lnTo>
                      <a:lnTo>
                        <a:pt x="413" y="1243"/>
                      </a:lnTo>
                      <a:lnTo>
                        <a:pt x="390" y="1249"/>
                      </a:lnTo>
                      <a:lnTo>
                        <a:pt x="367" y="1256"/>
                      </a:lnTo>
                      <a:lnTo>
                        <a:pt x="345" y="1257"/>
                      </a:lnTo>
                      <a:lnTo>
                        <a:pt x="320" y="1260"/>
                      </a:lnTo>
                      <a:lnTo>
                        <a:pt x="296" y="1257"/>
                      </a:lnTo>
                      <a:lnTo>
                        <a:pt x="272" y="1254"/>
                      </a:lnTo>
                      <a:lnTo>
                        <a:pt x="248" y="1249"/>
                      </a:lnTo>
                      <a:lnTo>
                        <a:pt x="222" y="1240"/>
                      </a:lnTo>
                      <a:lnTo>
                        <a:pt x="196" y="1219"/>
                      </a:lnTo>
                      <a:lnTo>
                        <a:pt x="172" y="1196"/>
                      </a:lnTo>
                      <a:lnTo>
                        <a:pt x="150" y="1172"/>
                      </a:lnTo>
                      <a:lnTo>
                        <a:pt x="128" y="1148"/>
                      </a:lnTo>
                      <a:lnTo>
                        <a:pt x="110" y="1121"/>
                      </a:lnTo>
                      <a:lnTo>
                        <a:pt x="92" y="1093"/>
                      </a:lnTo>
                      <a:lnTo>
                        <a:pt x="77" y="1065"/>
                      </a:lnTo>
                      <a:lnTo>
                        <a:pt x="63" y="1035"/>
                      </a:lnTo>
                      <a:lnTo>
                        <a:pt x="50" y="1004"/>
                      </a:lnTo>
                      <a:lnTo>
                        <a:pt x="40" y="972"/>
                      </a:lnTo>
                      <a:lnTo>
                        <a:pt x="30" y="939"/>
                      </a:lnTo>
                      <a:lnTo>
                        <a:pt x="22" y="908"/>
                      </a:lnTo>
                      <a:lnTo>
                        <a:pt x="16" y="874"/>
                      </a:lnTo>
                      <a:lnTo>
                        <a:pt x="12" y="838"/>
                      </a:lnTo>
                      <a:lnTo>
                        <a:pt x="6" y="805"/>
                      </a:lnTo>
                      <a:lnTo>
                        <a:pt x="3" y="769"/>
                      </a:lnTo>
                      <a:lnTo>
                        <a:pt x="1" y="734"/>
                      </a:lnTo>
                      <a:lnTo>
                        <a:pt x="0" y="696"/>
                      </a:lnTo>
                      <a:lnTo>
                        <a:pt x="0" y="661"/>
                      </a:lnTo>
                      <a:lnTo>
                        <a:pt x="0" y="623"/>
                      </a:lnTo>
                      <a:lnTo>
                        <a:pt x="4" y="551"/>
                      </a:lnTo>
                      <a:lnTo>
                        <a:pt x="10" y="481"/>
                      </a:lnTo>
                      <a:lnTo>
                        <a:pt x="19" y="410"/>
                      </a:lnTo>
                      <a:lnTo>
                        <a:pt x="29" y="339"/>
                      </a:lnTo>
                      <a:lnTo>
                        <a:pt x="40" y="272"/>
                      </a:lnTo>
                      <a:lnTo>
                        <a:pt x="51" y="207"/>
                      </a:lnTo>
                      <a:lnTo>
                        <a:pt x="66" y="186"/>
                      </a:lnTo>
                      <a:lnTo>
                        <a:pt x="83" y="169"/>
                      </a:lnTo>
                      <a:lnTo>
                        <a:pt x="98" y="151"/>
                      </a:lnTo>
                      <a:lnTo>
                        <a:pt x="116" y="135"/>
                      </a:lnTo>
                      <a:lnTo>
                        <a:pt x="136" y="121"/>
                      </a:lnTo>
                      <a:lnTo>
                        <a:pt x="154" y="108"/>
                      </a:lnTo>
                      <a:lnTo>
                        <a:pt x="174" y="95"/>
                      </a:lnTo>
                      <a:lnTo>
                        <a:pt x="195" y="82"/>
                      </a:lnTo>
                      <a:lnTo>
                        <a:pt x="237" y="59"/>
                      </a:lnTo>
                      <a:lnTo>
                        <a:pt x="282" y="38"/>
                      </a:lnTo>
                      <a:lnTo>
                        <a:pt x="326" y="20"/>
                      </a:lnTo>
                      <a:lnTo>
                        <a:pt x="369" y="0"/>
                      </a:lnTo>
                      <a:lnTo>
                        <a:pt x="400" y="5"/>
                      </a:lnTo>
                      <a:lnTo>
                        <a:pt x="432" y="11"/>
                      </a:lnTo>
                      <a:lnTo>
                        <a:pt x="461" y="20"/>
                      </a:lnTo>
                      <a:lnTo>
                        <a:pt x="490" y="30"/>
                      </a:lnTo>
                      <a:lnTo>
                        <a:pt x="505" y="37"/>
                      </a:lnTo>
                      <a:lnTo>
                        <a:pt x="519" y="45"/>
                      </a:lnTo>
                      <a:lnTo>
                        <a:pt x="532" y="53"/>
                      </a:lnTo>
                      <a:lnTo>
                        <a:pt x="545" y="62"/>
                      </a:lnTo>
                      <a:lnTo>
                        <a:pt x="556" y="74"/>
                      </a:lnTo>
                      <a:lnTo>
                        <a:pt x="567" y="86"/>
                      </a:lnTo>
                      <a:lnTo>
                        <a:pt x="579" y="100"/>
                      </a:lnTo>
                      <a:lnTo>
                        <a:pt x="59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584760" y="2764440"/>
                  <a:ext cx="41760" cy="63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6353640" y="1960200"/>
                  <a:ext cx="335880" cy="202680"/>
                  <a:chOff x="6353640" y="1960200"/>
                  <a:chExt cx="335880" cy="2026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681600" y="1960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341">
                        <a:moveTo>
                          <a:pt x="115" y="336"/>
                        </a:moveTo>
                        <a:lnTo>
                          <a:pt x="103" y="339"/>
                        </a:lnTo>
                        <a:lnTo>
                          <a:pt x="92" y="341"/>
                        </a:lnTo>
                        <a:lnTo>
                          <a:pt x="82" y="341"/>
                        </a:lnTo>
                        <a:lnTo>
                          <a:pt x="74" y="339"/>
                        </a:lnTo>
                        <a:lnTo>
                          <a:pt x="66" y="338"/>
                        </a:lnTo>
                        <a:lnTo>
                          <a:pt x="58" y="336"/>
                        </a:lnTo>
                        <a:lnTo>
                          <a:pt x="52" y="332"/>
                        </a:lnTo>
                        <a:lnTo>
                          <a:pt x="47" y="327"/>
                        </a:lnTo>
                        <a:lnTo>
                          <a:pt x="42" y="323"/>
                        </a:lnTo>
                        <a:lnTo>
                          <a:pt x="37" y="318"/>
                        </a:lnTo>
                        <a:lnTo>
                          <a:pt x="34" y="313"/>
                        </a:lnTo>
                        <a:lnTo>
                          <a:pt x="30" y="306"/>
                        </a:lnTo>
                        <a:lnTo>
                          <a:pt x="26" y="292"/>
                        </a:lnTo>
                        <a:lnTo>
                          <a:pt x="23" y="276"/>
                        </a:lnTo>
                        <a:lnTo>
                          <a:pt x="20" y="242"/>
                        </a:lnTo>
                        <a:lnTo>
                          <a:pt x="17" y="206"/>
                        </a:lnTo>
                        <a:lnTo>
                          <a:pt x="14" y="189"/>
                        </a:lnTo>
                        <a:lnTo>
                          <a:pt x="11" y="173"/>
                        </a:lnTo>
                        <a:lnTo>
                          <a:pt x="6" y="158"/>
                        </a:lnTo>
                        <a:lnTo>
                          <a:pt x="0" y="147"/>
                        </a:lnTo>
                        <a:lnTo>
                          <a:pt x="3" y="128"/>
                        </a:lnTo>
                        <a:lnTo>
                          <a:pt x="3" y="106"/>
                        </a:lnTo>
                        <a:lnTo>
                          <a:pt x="0" y="85"/>
                        </a:lnTo>
                        <a:lnTo>
                          <a:pt x="0" y="64"/>
                        </a:lnTo>
                        <a:lnTo>
                          <a:pt x="0" y="55"/>
                        </a:lnTo>
                        <a:lnTo>
                          <a:pt x="0" y="46"/>
                        </a:lnTo>
                        <a:lnTo>
                          <a:pt x="3" y="35"/>
                        </a:lnTo>
                        <a:lnTo>
                          <a:pt x="5" y="28"/>
                        </a:lnTo>
                        <a:lnTo>
                          <a:pt x="9" y="20"/>
                        </a:lnTo>
                        <a:lnTo>
                          <a:pt x="17" y="13"/>
                        </a:lnTo>
                        <a:lnTo>
                          <a:pt x="24" y="7"/>
                        </a:lnTo>
                        <a:lnTo>
                          <a:pt x="35" y="0"/>
                        </a:lnTo>
                        <a:lnTo>
                          <a:pt x="47" y="5"/>
                        </a:lnTo>
                        <a:lnTo>
                          <a:pt x="56" y="10"/>
                        </a:lnTo>
                        <a:lnTo>
                          <a:pt x="65" y="16"/>
                        </a:lnTo>
                        <a:lnTo>
                          <a:pt x="74" y="23"/>
                        </a:lnTo>
                        <a:lnTo>
                          <a:pt x="80" y="31"/>
                        </a:lnTo>
                        <a:lnTo>
                          <a:pt x="89" y="39"/>
                        </a:lnTo>
                        <a:lnTo>
                          <a:pt x="95" y="47"/>
                        </a:lnTo>
                        <a:lnTo>
                          <a:pt x="100" y="57"/>
                        </a:lnTo>
                        <a:lnTo>
                          <a:pt x="109" y="76"/>
                        </a:lnTo>
                        <a:lnTo>
                          <a:pt x="118" y="97"/>
                        </a:lnTo>
                        <a:lnTo>
                          <a:pt x="123" y="120"/>
                        </a:lnTo>
                        <a:lnTo>
                          <a:pt x="126" y="144"/>
                        </a:lnTo>
                        <a:lnTo>
                          <a:pt x="129" y="168"/>
                        </a:lnTo>
                        <a:lnTo>
                          <a:pt x="129" y="194"/>
                        </a:lnTo>
                        <a:lnTo>
                          <a:pt x="129" y="218"/>
                        </a:lnTo>
                        <a:lnTo>
                          <a:pt x="127" y="244"/>
                        </a:lnTo>
                        <a:lnTo>
                          <a:pt x="121" y="292"/>
                        </a:lnTo>
                        <a:lnTo>
                          <a:pt x="115" y="3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634080" y="1968120"/>
                    <a:ext cx="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34">
                        <a:moveTo>
                          <a:pt x="143" y="318"/>
                        </a:moveTo>
                        <a:lnTo>
                          <a:pt x="139" y="324"/>
                        </a:lnTo>
                        <a:lnTo>
                          <a:pt x="130" y="330"/>
                        </a:lnTo>
                        <a:lnTo>
                          <a:pt x="122" y="333"/>
                        </a:lnTo>
                        <a:lnTo>
                          <a:pt x="113" y="334"/>
                        </a:lnTo>
                        <a:lnTo>
                          <a:pt x="103" y="333"/>
                        </a:lnTo>
                        <a:lnTo>
                          <a:pt x="93" y="330"/>
                        </a:lnTo>
                        <a:lnTo>
                          <a:pt x="90" y="328"/>
                        </a:lnTo>
                        <a:lnTo>
                          <a:pt x="86" y="324"/>
                        </a:lnTo>
                        <a:lnTo>
                          <a:pt x="83" y="321"/>
                        </a:lnTo>
                        <a:lnTo>
                          <a:pt x="81" y="318"/>
                        </a:lnTo>
                        <a:lnTo>
                          <a:pt x="62" y="281"/>
                        </a:lnTo>
                        <a:lnTo>
                          <a:pt x="45" y="242"/>
                        </a:lnTo>
                        <a:lnTo>
                          <a:pt x="27" y="206"/>
                        </a:lnTo>
                        <a:lnTo>
                          <a:pt x="13" y="165"/>
                        </a:lnTo>
                        <a:lnTo>
                          <a:pt x="7" y="145"/>
                        </a:lnTo>
                        <a:lnTo>
                          <a:pt x="4" y="124"/>
                        </a:lnTo>
                        <a:lnTo>
                          <a:pt x="1" y="105"/>
                        </a:lnTo>
                        <a:lnTo>
                          <a:pt x="0" y="85"/>
                        </a:lnTo>
                        <a:lnTo>
                          <a:pt x="1" y="63"/>
                        </a:lnTo>
                        <a:lnTo>
                          <a:pt x="3" y="42"/>
                        </a:lnTo>
                        <a:lnTo>
                          <a:pt x="7" y="21"/>
                        </a:lnTo>
                        <a:lnTo>
                          <a:pt x="16" y="0"/>
                        </a:lnTo>
                        <a:lnTo>
                          <a:pt x="35" y="9"/>
                        </a:lnTo>
                        <a:lnTo>
                          <a:pt x="51" y="23"/>
                        </a:lnTo>
                        <a:lnTo>
                          <a:pt x="67" y="38"/>
                        </a:lnTo>
                        <a:lnTo>
                          <a:pt x="80" y="53"/>
                        </a:lnTo>
                        <a:lnTo>
                          <a:pt x="92" y="71"/>
                        </a:lnTo>
                        <a:lnTo>
                          <a:pt x="101" y="91"/>
                        </a:lnTo>
                        <a:lnTo>
                          <a:pt x="110" y="110"/>
                        </a:lnTo>
                        <a:lnTo>
                          <a:pt x="117" y="133"/>
                        </a:lnTo>
                        <a:lnTo>
                          <a:pt x="124" y="155"/>
                        </a:lnTo>
                        <a:lnTo>
                          <a:pt x="127" y="177"/>
                        </a:lnTo>
                        <a:lnTo>
                          <a:pt x="131" y="200"/>
                        </a:lnTo>
                        <a:lnTo>
                          <a:pt x="134" y="224"/>
                        </a:lnTo>
                        <a:lnTo>
                          <a:pt x="140" y="271"/>
                        </a:lnTo>
                        <a:lnTo>
                          <a:pt x="143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585840" y="1980000"/>
                    <a:ext cx="1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49">
                        <a:moveTo>
                          <a:pt x="140" y="349"/>
                        </a:moveTo>
                        <a:lnTo>
                          <a:pt x="128" y="338"/>
                        </a:lnTo>
                        <a:lnTo>
                          <a:pt x="114" y="328"/>
                        </a:lnTo>
                        <a:lnTo>
                          <a:pt x="101" y="314"/>
                        </a:lnTo>
                        <a:lnTo>
                          <a:pt x="90" y="302"/>
                        </a:lnTo>
                        <a:lnTo>
                          <a:pt x="81" y="287"/>
                        </a:lnTo>
                        <a:lnTo>
                          <a:pt x="71" y="270"/>
                        </a:lnTo>
                        <a:lnTo>
                          <a:pt x="61" y="255"/>
                        </a:lnTo>
                        <a:lnTo>
                          <a:pt x="51" y="237"/>
                        </a:lnTo>
                        <a:lnTo>
                          <a:pt x="36" y="202"/>
                        </a:lnTo>
                        <a:lnTo>
                          <a:pt x="22" y="164"/>
                        </a:lnTo>
                        <a:lnTo>
                          <a:pt x="10" y="129"/>
                        </a:lnTo>
                        <a:lnTo>
                          <a:pt x="0" y="93"/>
                        </a:lnTo>
                        <a:lnTo>
                          <a:pt x="43" y="0"/>
                        </a:lnTo>
                        <a:lnTo>
                          <a:pt x="58" y="16"/>
                        </a:lnTo>
                        <a:lnTo>
                          <a:pt x="72" y="34"/>
                        </a:lnTo>
                        <a:lnTo>
                          <a:pt x="87" y="51"/>
                        </a:lnTo>
                        <a:lnTo>
                          <a:pt x="100" y="72"/>
                        </a:lnTo>
                        <a:lnTo>
                          <a:pt x="113" y="93"/>
                        </a:lnTo>
                        <a:lnTo>
                          <a:pt x="124" y="114"/>
                        </a:lnTo>
                        <a:lnTo>
                          <a:pt x="134" y="139"/>
                        </a:lnTo>
                        <a:lnTo>
                          <a:pt x="142" y="161"/>
                        </a:lnTo>
                        <a:lnTo>
                          <a:pt x="148" y="186"/>
                        </a:lnTo>
                        <a:lnTo>
                          <a:pt x="155" y="210"/>
                        </a:lnTo>
                        <a:lnTo>
                          <a:pt x="158" y="234"/>
                        </a:lnTo>
                        <a:lnTo>
                          <a:pt x="160" y="257"/>
                        </a:lnTo>
                        <a:lnTo>
                          <a:pt x="158" y="281"/>
                        </a:lnTo>
                        <a:lnTo>
                          <a:pt x="155" y="305"/>
                        </a:lnTo>
                        <a:lnTo>
                          <a:pt x="149" y="328"/>
                        </a:lnTo>
                        <a:lnTo>
                          <a:pt x="140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541560" y="1996920"/>
                    <a:ext cx="11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8">
                        <a:moveTo>
                          <a:pt x="191" y="269"/>
                        </a:moveTo>
                        <a:lnTo>
                          <a:pt x="161" y="318"/>
                        </a:lnTo>
                        <a:lnTo>
                          <a:pt x="142" y="305"/>
                        </a:lnTo>
                        <a:lnTo>
                          <a:pt x="126" y="290"/>
                        </a:lnTo>
                        <a:lnTo>
                          <a:pt x="111" y="276"/>
                        </a:lnTo>
                        <a:lnTo>
                          <a:pt x="94" y="258"/>
                        </a:lnTo>
                        <a:lnTo>
                          <a:pt x="79" y="239"/>
                        </a:lnTo>
                        <a:lnTo>
                          <a:pt x="65" y="219"/>
                        </a:lnTo>
                        <a:lnTo>
                          <a:pt x="52" y="198"/>
                        </a:lnTo>
                        <a:lnTo>
                          <a:pt x="41" y="178"/>
                        </a:lnTo>
                        <a:lnTo>
                          <a:pt x="31" y="155"/>
                        </a:lnTo>
                        <a:lnTo>
                          <a:pt x="22" y="133"/>
                        </a:lnTo>
                        <a:lnTo>
                          <a:pt x="14" y="110"/>
                        </a:lnTo>
                        <a:lnTo>
                          <a:pt x="7" y="87"/>
                        </a:lnTo>
                        <a:lnTo>
                          <a:pt x="3" y="65"/>
                        </a:lnTo>
                        <a:lnTo>
                          <a:pt x="0" y="44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lnTo>
                          <a:pt x="25" y="3"/>
                        </a:lnTo>
                        <a:lnTo>
                          <a:pt x="34" y="6"/>
                        </a:lnTo>
                        <a:lnTo>
                          <a:pt x="46" y="10"/>
                        </a:lnTo>
                        <a:lnTo>
                          <a:pt x="53" y="13"/>
                        </a:lnTo>
                        <a:lnTo>
                          <a:pt x="64" y="20"/>
                        </a:lnTo>
                        <a:lnTo>
                          <a:pt x="71" y="24"/>
                        </a:lnTo>
                        <a:lnTo>
                          <a:pt x="78" y="31"/>
                        </a:lnTo>
                        <a:lnTo>
                          <a:pt x="91" y="45"/>
                        </a:lnTo>
                        <a:lnTo>
                          <a:pt x="103" y="63"/>
                        </a:lnTo>
                        <a:lnTo>
                          <a:pt x="114" y="83"/>
                        </a:lnTo>
                        <a:lnTo>
                          <a:pt x="123" y="102"/>
                        </a:lnTo>
                        <a:lnTo>
                          <a:pt x="139" y="145"/>
                        </a:lnTo>
                        <a:lnTo>
                          <a:pt x="153" y="189"/>
                        </a:lnTo>
                        <a:lnTo>
                          <a:pt x="162" y="212"/>
                        </a:lnTo>
                        <a:lnTo>
                          <a:pt x="170" y="231"/>
                        </a:lnTo>
                        <a:lnTo>
                          <a:pt x="179" y="252"/>
                        </a:lnTo>
                        <a:lnTo>
                          <a:pt x="191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458400" y="2044080"/>
                    <a:ext cx="15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08">
                        <a:moveTo>
                          <a:pt x="239" y="305"/>
                        </a:moveTo>
                        <a:lnTo>
                          <a:pt x="227" y="307"/>
                        </a:lnTo>
                        <a:lnTo>
                          <a:pt x="218" y="308"/>
                        </a:lnTo>
                        <a:lnTo>
                          <a:pt x="208" y="307"/>
                        </a:lnTo>
                        <a:lnTo>
                          <a:pt x="198" y="307"/>
                        </a:lnTo>
                        <a:lnTo>
                          <a:pt x="189" y="304"/>
                        </a:lnTo>
                        <a:lnTo>
                          <a:pt x="181" y="301"/>
                        </a:lnTo>
                        <a:lnTo>
                          <a:pt x="171" y="295"/>
                        </a:lnTo>
                        <a:lnTo>
                          <a:pt x="163" y="290"/>
                        </a:lnTo>
                        <a:lnTo>
                          <a:pt x="148" y="278"/>
                        </a:lnTo>
                        <a:lnTo>
                          <a:pt x="134" y="261"/>
                        </a:lnTo>
                        <a:lnTo>
                          <a:pt x="121" y="243"/>
                        </a:lnTo>
                        <a:lnTo>
                          <a:pt x="108" y="225"/>
                        </a:lnTo>
                        <a:lnTo>
                          <a:pt x="84" y="184"/>
                        </a:lnTo>
                        <a:lnTo>
                          <a:pt x="57" y="142"/>
                        </a:lnTo>
                        <a:lnTo>
                          <a:pt x="45" y="124"/>
                        </a:lnTo>
                        <a:lnTo>
                          <a:pt x="30" y="107"/>
                        </a:lnTo>
                        <a:lnTo>
                          <a:pt x="16" y="92"/>
                        </a:lnTo>
                        <a:lnTo>
                          <a:pt x="0" y="80"/>
                        </a:lnTo>
                        <a:lnTo>
                          <a:pt x="0" y="55"/>
                        </a:lnTo>
                        <a:lnTo>
                          <a:pt x="1" y="31"/>
                        </a:lnTo>
                        <a:lnTo>
                          <a:pt x="3" y="21"/>
                        </a:lnTo>
                        <a:lnTo>
                          <a:pt x="8" y="12"/>
                        </a:lnTo>
                        <a:lnTo>
                          <a:pt x="13" y="9"/>
                        </a:lnTo>
                        <a:lnTo>
                          <a:pt x="18" y="6"/>
                        </a:lnTo>
                        <a:lnTo>
                          <a:pt x="24" y="1"/>
                        </a:lnTo>
                        <a:lnTo>
                          <a:pt x="30" y="0"/>
                        </a:lnTo>
                        <a:lnTo>
                          <a:pt x="53" y="13"/>
                        </a:lnTo>
                        <a:lnTo>
                          <a:pt x="72" y="27"/>
                        </a:lnTo>
                        <a:lnTo>
                          <a:pt x="90" y="44"/>
                        </a:lnTo>
                        <a:lnTo>
                          <a:pt x="106" y="60"/>
                        </a:lnTo>
                        <a:lnTo>
                          <a:pt x="122" y="77"/>
                        </a:lnTo>
                        <a:lnTo>
                          <a:pt x="137" y="95"/>
                        </a:lnTo>
                        <a:lnTo>
                          <a:pt x="150" y="115"/>
                        </a:lnTo>
                        <a:lnTo>
                          <a:pt x="161" y="136"/>
                        </a:lnTo>
                        <a:lnTo>
                          <a:pt x="184" y="178"/>
                        </a:lnTo>
                        <a:lnTo>
                          <a:pt x="203" y="219"/>
                        </a:lnTo>
                        <a:lnTo>
                          <a:pt x="221" y="263"/>
                        </a:lnTo>
                        <a:lnTo>
                          <a:pt x="239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419520" y="207612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69">
                        <a:moveTo>
                          <a:pt x="239" y="269"/>
                        </a:moveTo>
                        <a:lnTo>
                          <a:pt x="221" y="265"/>
                        </a:lnTo>
                        <a:lnTo>
                          <a:pt x="204" y="258"/>
                        </a:lnTo>
                        <a:lnTo>
                          <a:pt x="187" y="250"/>
                        </a:lnTo>
                        <a:lnTo>
                          <a:pt x="169" y="240"/>
                        </a:lnTo>
                        <a:lnTo>
                          <a:pt x="154" y="229"/>
                        </a:lnTo>
                        <a:lnTo>
                          <a:pt x="139" y="215"/>
                        </a:lnTo>
                        <a:lnTo>
                          <a:pt x="122" y="201"/>
                        </a:lnTo>
                        <a:lnTo>
                          <a:pt x="109" y="186"/>
                        </a:lnTo>
                        <a:lnTo>
                          <a:pt x="51" y="124"/>
                        </a:lnTo>
                        <a:lnTo>
                          <a:pt x="0" y="62"/>
                        </a:lnTo>
                        <a:lnTo>
                          <a:pt x="36" y="0"/>
                        </a:lnTo>
                        <a:lnTo>
                          <a:pt x="63" y="26"/>
                        </a:lnTo>
                        <a:lnTo>
                          <a:pt x="98" y="53"/>
                        </a:lnTo>
                        <a:lnTo>
                          <a:pt x="136" y="84"/>
                        </a:lnTo>
                        <a:lnTo>
                          <a:pt x="172" y="115"/>
                        </a:lnTo>
                        <a:lnTo>
                          <a:pt x="189" y="133"/>
                        </a:lnTo>
                        <a:lnTo>
                          <a:pt x="205" y="151"/>
                        </a:lnTo>
                        <a:lnTo>
                          <a:pt x="218" y="171"/>
                        </a:lnTo>
                        <a:lnTo>
                          <a:pt x="229" y="190"/>
                        </a:lnTo>
                        <a:lnTo>
                          <a:pt x="234" y="200"/>
                        </a:lnTo>
                        <a:lnTo>
                          <a:pt x="237" y="209"/>
                        </a:lnTo>
                        <a:lnTo>
                          <a:pt x="239" y="219"/>
                        </a:lnTo>
                        <a:lnTo>
                          <a:pt x="242" y="229"/>
                        </a:lnTo>
                        <a:lnTo>
                          <a:pt x="242" y="238"/>
                        </a:lnTo>
                        <a:lnTo>
                          <a:pt x="242" y="250"/>
                        </a:lnTo>
                        <a:lnTo>
                          <a:pt x="240" y="259"/>
                        </a:lnTo>
                        <a:lnTo>
                          <a:pt x="239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385680" y="21085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69">
                        <a:moveTo>
                          <a:pt x="286" y="269"/>
                        </a:moveTo>
                        <a:lnTo>
                          <a:pt x="263" y="269"/>
                        </a:lnTo>
                        <a:lnTo>
                          <a:pt x="243" y="266"/>
                        </a:lnTo>
                        <a:lnTo>
                          <a:pt x="224" y="262"/>
                        </a:lnTo>
                        <a:lnTo>
                          <a:pt x="204" y="256"/>
                        </a:lnTo>
                        <a:lnTo>
                          <a:pt x="185" y="245"/>
                        </a:lnTo>
                        <a:lnTo>
                          <a:pt x="168" y="234"/>
                        </a:lnTo>
                        <a:lnTo>
                          <a:pt x="151" y="222"/>
                        </a:lnTo>
                        <a:lnTo>
                          <a:pt x="135" y="209"/>
                        </a:lnTo>
                        <a:lnTo>
                          <a:pt x="103" y="180"/>
                        </a:lnTo>
                        <a:lnTo>
                          <a:pt x="71" y="151"/>
                        </a:lnTo>
                        <a:lnTo>
                          <a:pt x="54" y="136"/>
                        </a:lnTo>
                        <a:lnTo>
                          <a:pt x="38" y="121"/>
                        </a:lnTo>
                        <a:lnTo>
                          <a:pt x="22" y="109"/>
                        </a:lnTo>
                        <a:lnTo>
                          <a:pt x="4" y="97"/>
                        </a:lnTo>
                        <a:lnTo>
                          <a:pt x="6" y="85"/>
                        </a:lnTo>
                        <a:lnTo>
                          <a:pt x="4" y="70"/>
                        </a:lnTo>
                        <a:lnTo>
                          <a:pt x="3" y="54"/>
                        </a:lnTo>
                        <a:lnTo>
                          <a:pt x="0" y="38"/>
                        </a:lnTo>
                        <a:lnTo>
                          <a:pt x="0" y="30"/>
                        </a:lnTo>
                        <a:lnTo>
                          <a:pt x="1" y="23"/>
                        </a:lnTo>
                        <a:lnTo>
                          <a:pt x="3" y="17"/>
                        </a:lnTo>
                        <a:lnTo>
                          <a:pt x="6" y="12"/>
                        </a:lnTo>
                        <a:lnTo>
                          <a:pt x="11" y="7"/>
                        </a:lnTo>
                        <a:lnTo>
                          <a:pt x="17" y="4"/>
                        </a:lnTo>
                        <a:lnTo>
                          <a:pt x="26" y="3"/>
                        </a:lnTo>
                        <a:lnTo>
                          <a:pt x="35" y="0"/>
                        </a:lnTo>
                        <a:lnTo>
                          <a:pt x="75" y="32"/>
                        </a:lnTo>
                        <a:lnTo>
                          <a:pt x="117" y="60"/>
                        </a:lnTo>
                        <a:lnTo>
                          <a:pt x="157" y="88"/>
                        </a:lnTo>
                        <a:lnTo>
                          <a:pt x="196" y="117"/>
                        </a:lnTo>
                        <a:lnTo>
                          <a:pt x="213" y="133"/>
                        </a:lnTo>
                        <a:lnTo>
                          <a:pt x="230" y="149"/>
                        </a:lnTo>
                        <a:lnTo>
                          <a:pt x="245" y="165"/>
                        </a:lnTo>
                        <a:lnTo>
                          <a:pt x="259" y="184"/>
                        </a:lnTo>
                        <a:lnTo>
                          <a:pt x="269" y="204"/>
                        </a:lnTo>
                        <a:lnTo>
                          <a:pt x="278" y="224"/>
                        </a:lnTo>
                        <a:lnTo>
                          <a:pt x="283" y="245"/>
                        </a:lnTo>
                        <a:lnTo>
                          <a:pt x="286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53640" y="2149200"/>
                    <a:ext cx="187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17">
                        <a:moveTo>
                          <a:pt x="290" y="212"/>
                        </a:moveTo>
                        <a:lnTo>
                          <a:pt x="269" y="215"/>
                        </a:lnTo>
                        <a:lnTo>
                          <a:pt x="249" y="217"/>
                        </a:lnTo>
                        <a:lnTo>
                          <a:pt x="230" y="214"/>
                        </a:lnTo>
                        <a:lnTo>
                          <a:pt x="210" y="210"/>
                        </a:lnTo>
                        <a:lnTo>
                          <a:pt x="191" y="204"/>
                        </a:lnTo>
                        <a:lnTo>
                          <a:pt x="171" y="195"/>
                        </a:lnTo>
                        <a:lnTo>
                          <a:pt x="154" y="185"/>
                        </a:lnTo>
                        <a:lnTo>
                          <a:pt x="134" y="174"/>
                        </a:lnTo>
                        <a:lnTo>
                          <a:pt x="116" y="160"/>
                        </a:lnTo>
                        <a:lnTo>
                          <a:pt x="98" y="147"/>
                        </a:lnTo>
                        <a:lnTo>
                          <a:pt x="83" y="133"/>
                        </a:lnTo>
                        <a:lnTo>
                          <a:pt x="67" y="117"/>
                        </a:lnTo>
                        <a:lnTo>
                          <a:pt x="35" y="85"/>
                        </a:lnTo>
                        <a:lnTo>
                          <a:pt x="4" y="53"/>
                        </a:lnTo>
                        <a:lnTo>
                          <a:pt x="0" y="39"/>
                        </a:lnTo>
                        <a:lnTo>
                          <a:pt x="2" y="29"/>
                        </a:lnTo>
                        <a:lnTo>
                          <a:pt x="4" y="18"/>
                        </a:lnTo>
                        <a:lnTo>
                          <a:pt x="9" y="12"/>
                        </a:lnTo>
                        <a:lnTo>
                          <a:pt x="15" y="8"/>
                        </a:lnTo>
                        <a:lnTo>
                          <a:pt x="23" y="4"/>
                        </a:lnTo>
                        <a:lnTo>
                          <a:pt x="33" y="2"/>
                        </a:lnTo>
                        <a:lnTo>
                          <a:pt x="42" y="0"/>
                        </a:lnTo>
                        <a:lnTo>
                          <a:pt x="62" y="2"/>
                        </a:lnTo>
                        <a:lnTo>
                          <a:pt x="83" y="9"/>
                        </a:lnTo>
                        <a:lnTo>
                          <a:pt x="101" y="15"/>
                        </a:lnTo>
                        <a:lnTo>
                          <a:pt x="113" y="21"/>
                        </a:lnTo>
                        <a:lnTo>
                          <a:pt x="124" y="35"/>
                        </a:lnTo>
                        <a:lnTo>
                          <a:pt x="138" y="47"/>
                        </a:lnTo>
                        <a:lnTo>
                          <a:pt x="151" y="59"/>
                        </a:lnTo>
                        <a:lnTo>
                          <a:pt x="163" y="70"/>
                        </a:lnTo>
                        <a:lnTo>
                          <a:pt x="192" y="93"/>
                        </a:lnTo>
                        <a:lnTo>
                          <a:pt x="219" y="114"/>
                        </a:lnTo>
                        <a:lnTo>
                          <a:pt x="233" y="124"/>
                        </a:lnTo>
                        <a:lnTo>
                          <a:pt x="245" y="136"/>
                        </a:lnTo>
                        <a:lnTo>
                          <a:pt x="257" y="147"/>
                        </a:lnTo>
                        <a:lnTo>
                          <a:pt x="266" y="159"/>
                        </a:lnTo>
                        <a:lnTo>
                          <a:pt x="275" y="170"/>
                        </a:lnTo>
                        <a:lnTo>
                          <a:pt x="283" y="183"/>
                        </a:lnTo>
                        <a:lnTo>
                          <a:pt x="287" y="197"/>
                        </a:lnTo>
                        <a:lnTo>
                          <a:pt x="29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92960" y="200664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3">
                        <a:moveTo>
                          <a:pt x="214" y="479"/>
                        </a:moveTo>
                        <a:lnTo>
                          <a:pt x="227" y="475"/>
                        </a:lnTo>
                        <a:lnTo>
                          <a:pt x="237" y="469"/>
                        </a:lnTo>
                        <a:lnTo>
                          <a:pt x="246" y="458"/>
                        </a:lnTo>
                        <a:lnTo>
                          <a:pt x="255" y="448"/>
                        </a:lnTo>
                        <a:lnTo>
                          <a:pt x="263" y="434"/>
                        </a:lnTo>
                        <a:lnTo>
                          <a:pt x="269" y="419"/>
                        </a:lnTo>
                        <a:lnTo>
                          <a:pt x="273" y="402"/>
                        </a:lnTo>
                        <a:lnTo>
                          <a:pt x="277" y="384"/>
                        </a:lnTo>
                        <a:lnTo>
                          <a:pt x="280" y="365"/>
                        </a:lnTo>
                        <a:lnTo>
                          <a:pt x="280" y="345"/>
                        </a:lnTo>
                        <a:lnTo>
                          <a:pt x="280" y="323"/>
                        </a:lnTo>
                        <a:lnTo>
                          <a:pt x="278" y="301"/>
                        </a:lnTo>
                        <a:lnTo>
                          <a:pt x="277" y="278"/>
                        </a:lnTo>
                        <a:lnTo>
                          <a:pt x="272" y="254"/>
                        </a:lnTo>
                        <a:lnTo>
                          <a:pt x="267" y="230"/>
                        </a:lnTo>
                        <a:lnTo>
                          <a:pt x="260" y="206"/>
                        </a:lnTo>
                        <a:lnTo>
                          <a:pt x="251" y="181"/>
                        </a:lnTo>
                        <a:lnTo>
                          <a:pt x="242" y="157"/>
                        </a:lnTo>
                        <a:lnTo>
                          <a:pt x="231" y="136"/>
                        </a:lnTo>
                        <a:lnTo>
                          <a:pt x="220" y="115"/>
                        </a:lnTo>
                        <a:lnTo>
                          <a:pt x="210" y="95"/>
                        </a:lnTo>
                        <a:lnTo>
                          <a:pt x="198" y="78"/>
                        </a:lnTo>
                        <a:lnTo>
                          <a:pt x="185" y="62"/>
                        </a:lnTo>
                        <a:lnTo>
                          <a:pt x="172" y="47"/>
                        </a:lnTo>
                        <a:lnTo>
                          <a:pt x="160" y="35"/>
                        </a:lnTo>
                        <a:lnTo>
                          <a:pt x="145" y="23"/>
                        </a:lnTo>
                        <a:lnTo>
                          <a:pt x="131" y="15"/>
                        </a:lnTo>
                        <a:lnTo>
                          <a:pt x="119" y="9"/>
                        </a:lnTo>
                        <a:lnTo>
                          <a:pt x="104" y="4"/>
                        </a:lnTo>
                        <a:lnTo>
                          <a:pt x="92" y="0"/>
                        </a:lnTo>
                        <a:lnTo>
                          <a:pt x="78" y="0"/>
                        </a:lnTo>
                        <a:lnTo>
                          <a:pt x="66" y="4"/>
                        </a:lnTo>
                        <a:lnTo>
                          <a:pt x="54" y="9"/>
                        </a:lnTo>
                        <a:lnTo>
                          <a:pt x="43" y="17"/>
                        </a:lnTo>
                        <a:lnTo>
                          <a:pt x="33" y="24"/>
                        </a:lnTo>
                        <a:lnTo>
                          <a:pt x="25" y="36"/>
                        </a:lnTo>
                        <a:lnTo>
                          <a:pt x="18" y="50"/>
                        </a:lnTo>
                        <a:lnTo>
                          <a:pt x="12" y="65"/>
                        </a:lnTo>
                        <a:lnTo>
                          <a:pt x="7" y="82"/>
                        </a:lnTo>
                        <a:lnTo>
                          <a:pt x="3" y="100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62"/>
                        </a:lnTo>
                        <a:lnTo>
                          <a:pt x="1" y="183"/>
                        </a:lnTo>
                        <a:lnTo>
                          <a:pt x="4" y="207"/>
                        </a:lnTo>
                        <a:lnTo>
                          <a:pt x="9" y="231"/>
                        </a:lnTo>
                        <a:lnTo>
                          <a:pt x="15" y="256"/>
                        </a:lnTo>
                        <a:lnTo>
                          <a:pt x="21" y="280"/>
                        </a:lnTo>
                        <a:lnTo>
                          <a:pt x="30" y="304"/>
                        </a:lnTo>
                        <a:lnTo>
                          <a:pt x="39" y="327"/>
                        </a:lnTo>
                        <a:lnTo>
                          <a:pt x="48" y="349"/>
                        </a:lnTo>
                        <a:lnTo>
                          <a:pt x="59" y="369"/>
                        </a:lnTo>
                        <a:lnTo>
                          <a:pt x="71" y="387"/>
                        </a:lnTo>
                        <a:lnTo>
                          <a:pt x="83" y="405"/>
                        </a:lnTo>
                        <a:lnTo>
                          <a:pt x="96" y="423"/>
                        </a:lnTo>
                        <a:lnTo>
                          <a:pt x="109" y="437"/>
                        </a:lnTo>
                        <a:lnTo>
                          <a:pt x="122" y="449"/>
                        </a:lnTo>
                        <a:lnTo>
                          <a:pt x="134" y="460"/>
                        </a:lnTo>
                        <a:lnTo>
                          <a:pt x="149" y="470"/>
                        </a:lnTo>
                        <a:lnTo>
                          <a:pt x="163" y="476"/>
                        </a:lnTo>
                        <a:lnTo>
                          <a:pt x="175" y="481"/>
                        </a:lnTo>
                        <a:lnTo>
                          <a:pt x="190" y="483"/>
                        </a:lnTo>
                        <a:lnTo>
                          <a:pt x="202" y="483"/>
                        </a:lnTo>
                        <a:lnTo>
                          <a:pt x="214" y="4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6725520" y="2751120"/>
                  <a:ext cx="320040" cy="144720"/>
                  <a:chOff x="6725520" y="2751120"/>
                  <a:chExt cx="320040" cy="1447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7030800" y="27511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74">
                        <a:moveTo>
                          <a:pt x="237" y="221"/>
                        </a:moveTo>
                        <a:lnTo>
                          <a:pt x="233" y="224"/>
                        </a:lnTo>
                        <a:lnTo>
                          <a:pt x="227" y="230"/>
                        </a:lnTo>
                        <a:lnTo>
                          <a:pt x="226" y="236"/>
                        </a:lnTo>
                        <a:lnTo>
                          <a:pt x="224" y="242"/>
                        </a:lnTo>
                        <a:lnTo>
                          <a:pt x="224" y="256"/>
                        </a:lnTo>
                        <a:lnTo>
                          <a:pt x="224" y="270"/>
                        </a:lnTo>
                        <a:lnTo>
                          <a:pt x="213" y="271"/>
                        </a:lnTo>
                        <a:lnTo>
                          <a:pt x="201" y="273"/>
                        </a:lnTo>
                        <a:lnTo>
                          <a:pt x="191" y="274"/>
                        </a:lnTo>
                        <a:lnTo>
                          <a:pt x="181" y="273"/>
                        </a:lnTo>
                        <a:lnTo>
                          <a:pt x="171" y="271"/>
                        </a:lnTo>
                        <a:lnTo>
                          <a:pt x="163" y="270"/>
                        </a:lnTo>
                        <a:lnTo>
                          <a:pt x="153" y="266"/>
                        </a:lnTo>
                        <a:lnTo>
                          <a:pt x="145" y="263"/>
                        </a:lnTo>
                        <a:lnTo>
                          <a:pt x="130" y="256"/>
                        </a:lnTo>
                        <a:lnTo>
                          <a:pt x="117" y="244"/>
                        </a:lnTo>
                        <a:lnTo>
                          <a:pt x="103" y="231"/>
                        </a:lnTo>
                        <a:lnTo>
                          <a:pt x="92" y="217"/>
                        </a:lnTo>
                        <a:lnTo>
                          <a:pt x="70" y="185"/>
                        </a:lnTo>
                        <a:lnTo>
                          <a:pt x="49" y="150"/>
                        </a:lnTo>
                        <a:lnTo>
                          <a:pt x="38" y="135"/>
                        </a:lnTo>
                        <a:lnTo>
                          <a:pt x="26" y="120"/>
                        </a:lnTo>
                        <a:lnTo>
                          <a:pt x="14" y="106"/>
                        </a:lnTo>
                        <a:lnTo>
                          <a:pt x="0" y="92"/>
                        </a:lnTo>
                        <a:lnTo>
                          <a:pt x="0" y="0"/>
                        </a:lnTo>
                        <a:lnTo>
                          <a:pt x="21" y="3"/>
                        </a:lnTo>
                        <a:lnTo>
                          <a:pt x="41" y="11"/>
                        </a:lnTo>
                        <a:lnTo>
                          <a:pt x="59" y="20"/>
                        </a:lnTo>
                        <a:lnTo>
                          <a:pt x="76" y="29"/>
                        </a:lnTo>
                        <a:lnTo>
                          <a:pt x="92" y="43"/>
                        </a:lnTo>
                        <a:lnTo>
                          <a:pt x="107" y="57"/>
                        </a:lnTo>
                        <a:lnTo>
                          <a:pt x="120" y="71"/>
                        </a:lnTo>
                        <a:lnTo>
                          <a:pt x="135" y="88"/>
                        </a:lnTo>
                        <a:lnTo>
                          <a:pt x="159" y="121"/>
                        </a:lnTo>
                        <a:lnTo>
                          <a:pt x="184" y="157"/>
                        </a:lnTo>
                        <a:lnTo>
                          <a:pt x="197" y="174"/>
                        </a:lnTo>
                        <a:lnTo>
                          <a:pt x="210" y="191"/>
                        </a:lnTo>
                        <a:lnTo>
                          <a:pt x="223" y="207"/>
                        </a:lnTo>
                        <a:lnTo>
                          <a:pt x="237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992640" y="2780280"/>
                    <a:ext cx="13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00">
                        <a:moveTo>
                          <a:pt x="207" y="219"/>
                        </a:moveTo>
                        <a:lnTo>
                          <a:pt x="210" y="237"/>
                        </a:lnTo>
                        <a:lnTo>
                          <a:pt x="207" y="251"/>
                        </a:lnTo>
                        <a:lnTo>
                          <a:pt x="206" y="263"/>
                        </a:lnTo>
                        <a:lnTo>
                          <a:pt x="201" y="272"/>
                        </a:lnTo>
                        <a:lnTo>
                          <a:pt x="195" y="281"/>
                        </a:lnTo>
                        <a:lnTo>
                          <a:pt x="187" y="289"/>
                        </a:lnTo>
                        <a:lnTo>
                          <a:pt x="174" y="293"/>
                        </a:lnTo>
                        <a:lnTo>
                          <a:pt x="160" y="300"/>
                        </a:lnTo>
                        <a:lnTo>
                          <a:pt x="137" y="263"/>
                        </a:lnTo>
                        <a:lnTo>
                          <a:pt x="110" y="226"/>
                        </a:lnTo>
                        <a:lnTo>
                          <a:pt x="82" y="191"/>
                        </a:lnTo>
                        <a:lnTo>
                          <a:pt x="54" y="153"/>
                        </a:lnTo>
                        <a:lnTo>
                          <a:pt x="42" y="134"/>
                        </a:lnTo>
                        <a:lnTo>
                          <a:pt x="30" y="115"/>
                        </a:lnTo>
                        <a:lnTo>
                          <a:pt x="21" y="97"/>
                        </a:lnTo>
                        <a:lnTo>
                          <a:pt x="12" y="77"/>
                        </a:lnTo>
                        <a:lnTo>
                          <a:pt x="6" y="58"/>
                        </a:lnTo>
                        <a:lnTo>
                          <a:pt x="1" y="39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21" y="2"/>
                        </a:lnTo>
                        <a:lnTo>
                          <a:pt x="30" y="3"/>
                        </a:lnTo>
                        <a:lnTo>
                          <a:pt x="40" y="6"/>
                        </a:lnTo>
                        <a:lnTo>
                          <a:pt x="56" y="13"/>
                        </a:lnTo>
                        <a:lnTo>
                          <a:pt x="71" y="24"/>
                        </a:lnTo>
                        <a:lnTo>
                          <a:pt x="85" y="38"/>
                        </a:lnTo>
                        <a:lnTo>
                          <a:pt x="98" y="50"/>
                        </a:lnTo>
                        <a:lnTo>
                          <a:pt x="109" y="66"/>
                        </a:lnTo>
                        <a:lnTo>
                          <a:pt x="121" y="84"/>
                        </a:lnTo>
                        <a:lnTo>
                          <a:pt x="142" y="119"/>
                        </a:lnTo>
                        <a:lnTo>
                          <a:pt x="163" y="157"/>
                        </a:lnTo>
                        <a:lnTo>
                          <a:pt x="172" y="174"/>
                        </a:lnTo>
                        <a:lnTo>
                          <a:pt x="183" y="191"/>
                        </a:lnTo>
                        <a:lnTo>
                          <a:pt x="195" y="207"/>
                        </a:lnTo>
                        <a:lnTo>
                          <a:pt x="207" y="2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911280" y="2826360"/>
                    <a:ext cx="13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37">
                        <a:moveTo>
                          <a:pt x="204" y="301"/>
                        </a:moveTo>
                        <a:lnTo>
                          <a:pt x="197" y="312"/>
                        </a:lnTo>
                        <a:lnTo>
                          <a:pt x="189" y="320"/>
                        </a:lnTo>
                        <a:lnTo>
                          <a:pt x="180" y="326"/>
                        </a:lnTo>
                        <a:lnTo>
                          <a:pt x="170" y="331"/>
                        </a:lnTo>
                        <a:lnTo>
                          <a:pt x="160" y="334"/>
                        </a:lnTo>
                        <a:lnTo>
                          <a:pt x="148" y="336"/>
                        </a:lnTo>
                        <a:lnTo>
                          <a:pt x="138" y="337"/>
                        </a:lnTo>
                        <a:lnTo>
                          <a:pt x="124" y="336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2" y="36"/>
                        </a:lnTo>
                        <a:lnTo>
                          <a:pt x="6" y="30"/>
                        </a:lnTo>
                        <a:lnTo>
                          <a:pt x="9" y="23"/>
                        </a:lnTo>
                        <a:lnTo>
                          <a:pt x="14" y="18"/>
                        </a:lnTo>
                        <a:lnTo>
                          <a:pt x="18" y="13"/>
                        </a:lnTo>
                        <a:lnTo>
                          <a:pt x="24" y="9"/>
                        </a:lnTo>
                        <a:lnTo>
                          <a:pt x="32" y="6"/>
                        </a:lnTo>
                        <a:lnTo>
                          <a:pt x="36" y="3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7" y="0"/>
                        </a:lnTo>
                        <a:lnTo>
                          <a:pt x="63" y="4"/>
                        </a:lnTo>
                        <a:lnTo>
                          <a:pt x="68" y="7"/>
                        </a:lnTo>
                        <a:lnTo>
                          <a:pt x="74" y="12"/>
                        </a:lnTo>
                        <a:lnTo>
                          <a:pt x="80" y="18"/>
                        </a:lnTo>
                        <a:lnTo>
                          <a:pt x="86" y="38"/>
                        </a:lnTo>
                        <a:lnTo>
                          <a:pt x="94" y="56"/>
                        </a:lnTo>
                        <a:lnTo>
                          <a:pt x="103" y="71"/>
                        </a:lnTo>
                        <a:lnTo>
                          <a:pt x="112" y="89"/>
                        </a:lnTo>
                        <a:lnTo>
                          <a:pt x="133" y="121"/>
                        </a:lnTo>
                        <a:lnTo>
                          <a:pt x="156" y="154"/>
                        </a:lnTo>
                        <a:lnTo>
                          <a:pt x="165" y="171"/>
                        </a:lnTo>
                        <a:lnTo>
                          <a:pt x="175" y="187"/>
                        </a:lnTo>
                        <a:lnTo>
                          <a:pt x="184" y="205"/>
                        </a:lnTo>
                        <a:lnTo>
                          <a:pt x="192" y="224"/>
                        </a:lnTo>
                        <a:lnTo>
                          <a:pt x="197" y="241"/>
                        </a:lnTo>
                        <a:lnTo>
                          <a:pt x="202" y="260"/>
                        </a:lnTo>
                        <a:lnTo>
                          <a:pt x="204" y="280"/>
                        </a:lnTo>
                        <a:lnTo>
                          <a:pt x="204" y="3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868440" y="2844000"/>
                    <a:ext cx="11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338">
                        <a:moveTo>
                          <a:pt x="193" y="306"/>
                        </a:moveTo>
                        <a:lnTo>
                          <a:pt x="190" y="313"/>
                        </a:lnTo>
                        <a:lnTo>
                          <a:pt x="183" y="321"/>
                        </a:lnTo>
                        <a:lnTo>
                          <a:pt x="177" y="327"/>
                        </a:lnTo>
                        <a:lnTo>
                          <a:pt x="171" y="331"/>
                        </a:lnTo>
                        <a:lnTo>
                          <a:pt x="165" y="334"/>
                        </a:lnTo>
                        <a:lnTo>
                          <a:pt x="156" y="336"/>
                        </a:lnTo>
                        <a:lnTo>
                          <a:pt x="148" y="338"/>
                        </a:lnTo>
                        <a:lnTo>
                          <a:pt x="140" y="338"/>
                        </a:lnTo>
                        <a:lnTo>
                          <a:pt x="124" y="336"/>
                        </a:lnTo>
                        <a:lnTo>
                          <a:pt x="107" y="333"/>
                        </a:lnTo>
                        <a:lnTo>
                          <a:pt x="92" y="327"/>
                        </a:lnTo>
                        <a:lnTo>
                          <a:pt x="79" y="319"/>
                        </a:lnTo>
                        <a:lnTo>
                          <a:pt x="69" y="278"/>
                        </a:lnTo>
                        <a:lnTo>
                          <a:pt x="56" y="238"/>
                        </a:lnTo>
                        <a:lnTo>
                          <a:pt x="44" y="198"/>
                        </a:lnTo>
                        <a:lnTo>
                          <a:pt x="30" y="156"/>
                        </a:lnTo>
                        <a:lnTo>
                          <a:pt x="19" y="115"/>
                        </a:lnTo>
                        <a:lnTo>
                          <a:pt x="11" y="77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26" y="6"/>
                        </a:lnTo>
                        <a:lnTo>
                          <a:pt x="36" y="9"/>
                        </a:lnTo>
                        <a:lnTo>
                          <a:pt x="47" y="14"/>
                        </a:lnTo>
                        <a:lnTo>
                          <a:pt x="56" y="18"/>
                        </a:lnTo>
                        <a:lnTo>
                          <a:pt x="64" y="26"/>
                        </a:lnTo>
                        <a:lnTo>
                          <a:pt x="72" y="33"/>
                        </a:lnTo>
                        <a:lnTo>
                          <a:pt x="80" y="39"/>
                        </a:lnTo>
                        <a:lnTo>
                          <a:pt x="92" y="57"/>
                        </a:lnTo>
                        <a:lnTo>
                          <a:pt x="103" y="77"/>
                        </a:lnTo>
                        <a:lnTo>
                          <a:pt x="112" y="100"/>
                        </a:lnTo>
                        <a:lnTo>
                          <a:pt x="121" y="121"/>
                        </a:lnTo>
                        <a:lnTo>
                          <a:pt x="133" y="170"/>
                        </a:lnTo>
                        <a:lnTo>
                          <a:pt x="148" y="218"/>
                        </a:lnTo>
                        <a:lnTo>
                          <a:pt x="157" y="242"/>
                        </a:lnTo>
                        <a:lnTo>
                          <a:pt x="168" y="265"/>
                        </a:lnTo>
                        <a:lnTo>
                          <a:pt x="178" y="286"/>
                        </a:lnTo>
                        <a:lnTo>
                          <a:pt x="193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822360" y="2855880"/>
                    <a:ext cx="9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35">
                        <a:moveTo>
                          <a:pt x="144" y="305"/>
                        </a:moveTo>
                        <a:lnTo>
                          <a:pt x="135" y="308"/>
                        </a:lnTo>
                        <a:lnTo>
                          <a:pt x="125" y="314"/>
                        </a:lnTo>
                        <a:lnTo>
                          <a:pt x="114" y="323"/>
                        </a:lnTo>
                        <a:lnTo>
                          <a:pt x="104" y="329"/>
                        </a:lnTo>
                        <a:lnTo>
                          <a:pt x="100" y="332"/>
                        </a:lnTo>
                        <a:lnTo>
                          <a:pt x="94" y="334"/>
                        </a:lnTo>
                        <a:lnTo>
                          <a:pt x="89" y="335"/>
                        </a:lnTo>
                        <a:lnTo>
                          <a:pt x="85" y="334"/>
                        </a:lnTo>
                        <a:lnTo>
                          <a:pt x="80" y="332"/>
                        </a:lnTo>
                        <a:lnTo>
                          <a:pt x="75" y="329"/>
                        </a:lnTo>
                        <a:lnTo>
                          <a:pt x="70" y="325"/>
                        </a:lnTo>
                        <a:lnTo>
                          <a:pt x="65" y="317"/>
                        </a:lnTo>
                        <a:lnTo>
                          <a:pt x="61" y="296"/>
                        </a:lnTo>
                        <a:lnTo>
                          <a:pt x="56" y="278"/>
                        </a:lnTo>
                        <a:lnTo>
                          <a:pt x="50" y="257"/>
                        </a:lnTo>
                        <a:lnTo>
                          <a:pt x="43" y="236"/>
                        </a:lnTo>
                        <a:lnTo>
                          <a:pt x="27" y="195"/>
                        </a:lnTo>
                        <a:lnTo>
                          <a:pt x="12" y="154"/>
                        </a:lnTo>
                        <a:lnTo>
                          <a:pt x="7" y="134"/>
                        </a:lnTo>
                        <a:lnTo>
                          <a:pt x="3" y="113"/>
                        </a:lnTo>
                        <a:lnTo>
                          <a:pt x="0" y="94"/>
                        </a:lnTo>
                        <a:lnTo>
                          <a:pt x="0" y="72"/>
                        </a:lnTo>
                        <a:lnTo>
                          <a:pt x="4" y="55"/>
                        </a:lnTo>
                        <a:lnTo>
                          <a:pt x="11" y="36"/>
                        </a:lnTo>
                        <a:lnTo>
                          <a:pt x="15" y="26"/>
                        </a:lnTo>
                        <a:lnTo>
                          <a:pt x="20" y="18"/>
                        </a:lnTo>
                        <a:lnTo>
                          <a:pt x="27" y="9"/>
                        </a:lnTo>
                        <a:lnTo>
                          <a:pt x="33" y="0"/>
                        </a:lnTo>
                        <a:lnTo>
                          <a:pt x="46" y="1"/>
                        </a:lnTo>
                        <a:lnTo>
                          <a:pt x="57" y="4"/>
                        </a:lnTo>
                        <a:lnTo>
                          <a:pt x="67" y="9"/>
                        </a:lnTo>
                        <a:lnTo>
                          <a:pt x="75" y="13"/>
                        </a:lnTo>
                        <a:lnTo>
                          <a:pt x="83" y="19"/>
                        </a:lnTo>
                        <a:lnTo>
                          <a:pt x="89" y="26"/>
                        </a:lnTo>
                        <a:lnTo>
                          <a:pt x="96" y="33"/>
                        </a:lnTo>
                        <a:lnTo>
                          <a:pt x="101" y="40"/>
                        </a:lnTo>
                        <a:lnTo>
                          <a:pt x="109" y="58"/>
                        </a:lnTo>
                        <a:lnTo>
                          <a:pt x="115" y="77"/>
                        </a:lnTo>
                        <a:lnTo>
                          <a:pt x="118" y="100"/>
                        </a:lnTo>
                        <a:lnTo>
                          <a:pt x="120" y="122"/>
                        </a:lnTo>
                        <a:lnTo>
                          <a:pt x="121" y="169"/>
                        </a:lnTo>
                        <a:lnTo>
                          <a:pt x="124" y="218"/>
                        </a:lnTo>
                        <a:lnTo>
                          <a:pt x="127" y="242"/>
                        </a:lnTo>
                        <a:lnTo>
                          <a:pt x="130" y="264"/>
                        </a:lnTo>
                        <a:lnTo>
                          <a:pt x="136" y="286"/>
                        </a:lnTo>
                        <a:lnTo>
                          <a:pt x="144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775560" y="2862360"/>
                    <a:ext cx="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49">
                        <a:moveTo>
                          <a:pt x="85" y="48"/>
                        </a:moveTo>
                        <a:lnTo>
                          <a:pt x="85" y="349"/>
                        </a:lnTo>
                        <a:lnTo>
                          <a:pt x="19" y="349"/>
                        </a:lnTo>
                        <a:lnTo>
                          <a:pt x="12" y="306"/>
                        </a:lnTo>
                        <a:lnTo>
                          <a:pt x="7" y="260"/>
                        </a:lnTo>
                        <a:lnTo>
                          <a:pt x="1" y="210"/>
                        </a:lnTo>
                        <a:lnTo>
                          <a:pt x="0" y="161"/>
                        </a:lnTo>
                        <a:lnTo>
                          <a:pt x="0" y="137"/>
                        </a:lnTo>
                        <a:lnTo>
                          <a:pt x="1" y="113"/>
                        </a:lnTo>
                        <a:lnTo>
                          <a:pt x="4" y="90"/>
                        </a:lnTo>
                        <a:lnTo>
                          <a:pt x="9" y="69"/>
                        </a:lnTo>
                        <a:lnTo>
                          <a:pt x="16" y="50"/>
                        </a:lnTo>
                        <a:lnTo>
                          <a:pt x="25" y="31"/>
                        </a:lnTo>
                        <a:lnTo>
                          <a:pt x="30" y="22"/>
                        </a:lnTo>
                        <a:lnTo>
                          <a:pt x="36" y="15"/>
                        </a:lnTo>
                        <a:lnTo>
                          <a:pt x="43" y="7"/>
                        </a:lnTo>
                        <a:lnTo>
                          <a:pt x="50" y="0"/>
                        </a:lnTo>
                        <a:lnTo>
                          <a:pt x="8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725520" y="2864160"/>
                    <a:ext cx="16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501">
                        <a:moveTo>
                          <a:pt x="127" y="501"/>
                        </a:moveTo>
                        <a:lnTo>
                          <a:pt x="141" y="499"/>
                        </a:lnTo>
                        <a:lnTo>
                          <a:pt x="152" y="495"/>
                        </a:lnTo>
                        <a:lnTo>
                          <a:pt x="165" y="487"/>
                        </a:lnTo>
                        <a:lnTo>
                          <a:pt x="176" y="480"/>
                        </a:lnTo>
                        <a:lnTo>
                          <a:pt x="188" y="470"/>
                        </a:lnTo>
                        <a:lnTo>
                          <a:pt x="197" y="457"/>
                        </a:lnTo>
                        <a:lnTo>
                          <a:pt x="206" y="443"/>
                        </a:lnTo>
                        <a:lnTo>
                          <a:pt x="215" y="427"/>
                        </a:lnTo>
                        <a:lnTo>
                          <a:pt x="223" y="409"/>
                        </a:lnTo>
                        <a:lnTo>
                          <a:pt x="230" y="389"/>
                        </a:lnTo>
                        <a:lnTo>
                          <a:pt x="236" y="369"/>
                        </a:lnTo>
                        <a:lnTo>
                          <a:pt x="241" y="346"/>
                        </a:lnTo>
                        <a:lnTo>
                          <a:pt x="245" y="324"/>
                        </a:lnTo>
                        <a:lnTo>
                          <a:pt x="248" y="300"/>
                        </a:lnTo>
                        <a:lnTo>
                          <a:pt x="250" y="275"/>
                        </a:lnTo>
                        <a:lnTo>
                          <a:pt x="250" y="250"/>
                        </a:lnTo>
                        <a:lnTo>
                          <a:pt x="250" y="224"/>
                        </a:lnTo>
                        <a:lnTo>
                          <a:pt x="247" y="200"/>
                        </a:lnTo>
                        <a:lnTo>
                          <a:pt x="244" y="175"/>
                        </a:lnTo>
                        <a:lnTo>
                          <a:pt x="239" y="153"/>
                        </a:lnTo>
                        <a:lnTo>
                          <a:pt x="234" y="130"/>
                        </a:lnTo>
                        <a:lnTo>
                          <a:pt x="227" y="111"/>
                        </a:lnTo>
                        <a:lnTo>
                          <a:pt x="221" y="91"/>
                        </a:lnTo>
                        <a:lnTo>
                          <a:pt x="212" y="73"/>
                        </a:lnTo>
                        <a:lnTo>
                          <a:pt x="203" y="58"/>
                        </a:lnTo>
                        <a:lnTo>
                          <a:pt x="194" y="43"/>
                        </a:lnTo>
                        <a:lnTo>
                          <a:pt x="182" y="30"/>
                        </a:lnTo>
                        <a:lnTo>
                          <a:pt x="173" y="20"/>
                        </a:lnTo>
                        <a:lnTo>
                          <a:pt x="160" y="12"/>
                        </a:lnTo>
                        <a:lnTo>
                          <a:pt x="148" y="6"/>
                        </a:lnTo>
                        <a:lnTo>
                          <a:pt x="136" y="3"/>
                        </a:lnTo>
                        <a:lnTo>
                          <a:pt x="123" y="0"/>
                        </a:lnTo>
                        <a:lnTo>
                          <a:pt x="109" y="3"/>
                        </a:lnTo>
                        <a:lnTo>
                          <a:pt x="99" y="6"/>
                        </a:lnTo>
                        <a:lnTo>
                          <a:pt x="85" y="12"/>
                        </a:lnTo>
                        <a:lnTo>
                          <a:pt x="74" y="20"/>
                        </a:lnTo>
                        <a:lnTo>
                          <a:pt x="65" y="32"/>
                        </a:lnTo>
                        <a:lnTo>
                          <a:pt x="53" y="44"/>
                        </a:lnTo>
                        <a:lnTo>
                          <a:pt x="44" y="59"/>
                        </a:lnTo>
                        <a:lnTo>
                          <a:pt x="35" y="76"/>
                        </a:lnTo>
                        <a:lnTo>
                          <a:pt x="28" y="93"/>
                        </a:lnTo>
                        <a:lnTo>
                          <a:pt x="21" y="112"/>
                        </a:lnTo>
                        <a:lnTo>
                          <a:pt x="15" y="132"/>
                        </a:lnTo>
                        <a:lnTo>
                          <a:pt x="9" y="154"/>
                        </a:lnTo>
                        <a:lnTo>
                          <a:pt x="5" y="177"/>
                        </a:lnTo>
                        <a:lnTo>
                          <a:pt x="3" y="201"/>
                        </a:lnTo>
                        <a:lnTo>
                          <a:pt x="0" y="225"/>
                        </a:lnTo>
                        <a:lnTo>
                          <a:pt x="0" y="251"/>
                        </a:lnTo>
                        <a:lnTo>
                          <a:pt x="2" y="277"/>
                        </a:lnTo>
                        <a:lnTo>
                          <a:pt x="3" y="303"/>
                        </a:lnTo>
                        <a:lnTo>
                          <a:pt x="6" y="325"/>
                        </a:lnTo>
                        <a:lnTo>
                          <a:pt x="11" y="349"/>
                        </a:lnTo>
                        <a:lnTo>
                          <a:pt x="17" y="371"/>
                        </a:lnTo>
                        <a:lnTo>
                          <a:pt x="23" y="392"/>
                        </a:lnTo>
                        <a:lnTo>
                          <a:pt x="31" y="410"/>
                        </a:lnTo>
                        <a:lnTo>
                          <a:pt x="39" y="428"/>
                        </a:lnTo>
                        <a:lnTo>
                          <a:pt x="47" y="445"/>
                        </a:lnTo>
                        <a:lnTo>
                          <a:pt x="56" y="457"/>
                        </a:lnTo>
                        <a:lnTo>
                          <a:pt x="68" y="470"/>
                        </a:lnTo>
                        <a:lnTo>
                          <a:pt x="79" y="481"/>
                        </a:lnTo>
                        <a:lnTo>
                          <a:pt x="91" y="490"/>
                        </a:lnTo>
                        <a:lnTo>
                          <a:pt x="102" y="496"/>
                        </a:lnTo>
                        <a:lnTo>
                          <a:pt x="115" y="499"/>
                        </a:lnTo>
                        <a:lnTo>
                          <a:pt x="127" y="5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951600" y="2800440"/>
                    <a:ext cx="180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482">
                        <a:moveTo>
                          <a:pt x="216" y="478"/>
                        </a:moveTo>
                        <a:lnTo>
                          <a:pt x="227" y="474"/>
                        </a:lnTo>
                        <a:lnTo>
                          <a:pt x="239" y="467"/>
                        </a:lnTo>
                        <a:lnTo>
                          <a:pt x="248" y="458"/>
                        </a:lnTo>
                        <a:lnTo>
                          <a:pt x="256" y="446"/>
                        </a:lnTo>
                        <a:lnTo>
                          <a:pt x="263" y="432"/>
                        </a:lnTo>
                        <a:lnTo>
                          <a:pt x="269" y="417"/>
                        </a:lnTo>
                        <a:lnTo>
                          <a:pt x="274" y="401"/>
                        </a:lnTo>
                        <a:lnTo>
                          <a:pt x="277" y="384"/>
                        </a:lnTo>
                        <a:lnTo>
                          <a:pt x="280" y="364"/>
                        </a:lnTo>
                        <a:lnTo>
                          <a:pt x="282" y="343"/>
                        </a:lnTo>
                        <a:lnTo>
                          <a:pt x="280" y="322"/>
                        </a:lnTo>
                        <a:lnTo>
                          <a:pt x="280" y="300"/>
                        </a:lnTo>
                        <a:lnTo>
                          <a:pt x="277" y="275"/>
                        </a:lnTo>
                        <a:lnTo>
                          <a:pt x="272" y="253"/>
                        </a:lnTo>
                        <a:lnTo>
                          <a:pt x="268" y="229"/>
                        </a:lnTo>
                        <a:lnTo>
                          <a:pt x="259" y="203"/>
                        </a:lnTo>
                        <a:lnTo>
                          <a:pt x="251" y="179"/>
                        </a:lnTo>
                        <a:lnTo>
                          <a:pt x="243" y="156"/>
                        </a:lnTo>
                        <a:lnTo>
                          <a:pt x="232" y="133"/>
                        </a:lnTo>
                        <a:lnTo>
                          <a:pt x="222" y="115"/>
                        </a:lnTo>
                        <a:lnTo>
                          <a:pt x="209" y="95"/>
                        </a:lnTo>
                        <a:lnTo>
                          <a:pt x="198" y="77"/>
                        </a:lnTo>
                        <a:lnTo>
                          <a:pt x="185" y="61"/>
                        </a:lnTo>
                        <a:lnTo>
                          <a:pt x="172" y="47"/>
                        </a:lnTo>
                        <a:lnTo>
                          <a:pt x="159" y="33"/>
                        </a:lnTo>
                        <a:lnTo>
                          <a:pt x="147" y="23"/>
                        </a:lnTo>
                        <a:lnTo>
                          <a:pt x="132" y="12"/>
                        </a:lnTo>
                        <a:lnTo>
                          <a:pt x="119" y="6"/>
                        </a:lnTo>
                        <a:lnTo>
                          <a:pt x="104" y="2"/>
                        </a:lnTo>
                        <a:lnTo>
                          <a:pt x="92" y="0"/>
                        </a:lnTo>
                        <a:lnTo>
                          <a:pt x="79" y="0"/>
                        </a:lnTo>
                        <a:lnTo>
                          <a:pt x="65" y="3"/>
                        </a:lnTo>
                        <a:lnTo>
                          <a:pt x="54" y="8"/>
                        </a:lnTo>
                        <a:lnTo>
                          <a:pt x="44" y="14"/>
                        </a:lnTo>
                        <a:lnTo>
                          <a:pt x="33" y="24"/>
                        </a:lnTo>
                        <a:lnTo>
                          <a:pt x="26" y="35"/>
                        </a:lnTo>
                        <a:lnTo>
                          <a:pt x="19" y="48"/>
                        </a:lnTo>
                        <a:lnTo>
                          <a:pt x="12" y="64"/>
                        </a:lnTo>
                        <a:lnTo>
                          <a:pt x="8" y="80"/>
                        </a:lnTo>
                        <a:lnTo>
                          <a:pt x="5" y="98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59"/>
                        </a:lnTo>
                        <a:lnTo>
                          <a:pt x="1" y="182"/>
                        </a:lnTo>
                        <a:lnTo>
                          <a:pt x="5" y="204"/>
                        </a:lnTo>
                        <a:lnTo>
                          <a:pt x="9" y="229"/>
                        </a:lnTo>
                        <a:lnTo>
                          <a:pt x="14" y="253"/>
                        </a:lnTo>
                        <a:lnTo>
                          <a:pt x="23" y="277"/>
                        </a:lnTo>
                        <a:lnTo>
                          <a:pt x="30" y="301"/>
                        </a:lnTo>
                        <a:lnTo>
                          <a:pt x="38" y="325"/>
                        </a:lnTo>
                        <a:lnTo>
                          <a:pt x="50" y="346"/>
                        </a:lnTo>
                        <a:lnTo>
                          <a:pt x="59" y="368"/>
                        </a:lnTo>
                        <a:lnTo>
                          <a:pt x="72" y="387"/>
                        </a:lnTo>
                        <a:lnTo>
                          <a:pt x="83" y="404"/>
                        </a:lnTo>
                        <a:lnTo>
                          <a:pt x="97" y="421"/>
                        </a:lnTo>
                        <a:lnTo>
                          <a:pt x="109" y="435"/>
                        </a:lnTo>
                        <a:lnTo>
                          <a:pt x="122" y="448"/>
                        </a:lnTo>
                        <a:lnTo>
                          <a:pt x="135" y="460"/>
                        </a:lnTo>
                        <a:lnTo>
                          <a:pt x="150" y="467"/>
                        </a:lnTo>
                        <a:lnTo>
                          <a:pt x="162" y="475"/>
                        </a:lnTo>
                        <a:lnTo>
                          <a:pt x="177" y="478"/>
                        </a:lnTo>
                        <a:lnTo>
                          <a:pt x="190" y="482"/>
                        </a:lnTo>
                        <a:lnTo>
                          <a:pt x="203" y="482"/>
                        </a:lnTo>
                        <a:lnTo>
                          <a:pt x="216" y="4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246000" y="2184480"/>
                  <a:ext cx="212400" cy="549720"/>
                  <a:chOff x="6246000" y="2184480"/>
                  <a:chExt cx="212400" cy="549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428160" y="2196000"/>
                    <a:ext cx="302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1939">
                        <a:moveTo>
                          <a:pt x="471" y="158"/>
                        </a:moveTo>
                        <a:lnTo>
                          <a:pt x="458" y="1827"/>
                        </a:lnTo>
                        <a:lnTo>
                          <a:pt x="445" y="1847"/>
                        </a:lnTo>
                        <a:lnTo>
                          <a:pt x="430" y="1862"/>
                        </a:lnTo>
                        <a:lnTo>
                          <a:pt x="416" y="1879"/>
                        </a:lnTo>
                        <a:lnTo>
                          <a:pt x="400" y="1892"/>
                        </a:lnTo>
                        <a:lnTo>
                          <a:pt x="384" y="1903"/>
                        </a:lnTo>
                        <a:lnTo>
                          <a:pt x="366" y="1915"/>
                        </a:lnTo>
                        <a:lnTo>
                          <a:pt x="348" y="1922"/>
                        </a:lnTo>
                        <a:lnTo>
                          <a:pt x="329" y="1929"/>
                        </a:lnTo>
                        <a:lnTo>
                          <a:pt x="309" y="1933"/>
                        </a:lnTo>
                        <a:lnTo>
                          <a:pt x="291" y="1937"/>
                        </a:lnTo>
                        <a:lnTo>
                          <a:pt x="271" y="1939"/>
                        </a:lnTo>
                        <a:lnTo>
                          <a:pt x="251" y="1939"/>
                        </a:lnTo>
                        <a:lnTo>
                          <a:pt x="230" y="1937"/>
                        </a:lnTo>
                        <a:lnTo>
                          <a:pt x="211" y="1935"/>
                        </a:lnTo>
                        <a:lnTo>
                          <a:pt x="191" y="1930"/>
                        </a:lnTo>
                        <a:lnTo>
                          <a:pt x="171" y="1924"/>
                        </a:lnTo>
                        <a:lnTo>
                          <a:pt x="149" y="1898"/>
                        </a:lnTo>
                        <a:lnTo>
                          <a:pt x="129" y="1872"/>
                        </a:lnTo>
                        <a:lnTo>
                          <a:pt x="111" y="1845"/>
                        </a:lnTo>
                        <a:lnTo>
                          <a:pt x="95" y="1816"/>
                        </a:lnTo>
                        <a:lnTo>
                          <a:pt x="81" y="1786"/>
                        </a:lnTo>
                        <a:lnTo>
                          <a:pt x="68" y="1758"/>
                        </a:lnTo>
                        <a:lnTo>
                          <a:pt x="56" y="1727"/>
                        </a:lnTo>
                        <a:lnTo>
                          <a:pt x="47" y="1695"/>
                        </a:lnTo>
                        <a:lnTo>
                          <a:pt x="38" y="1662"/>
                        </a:lnTo>
                        <a:lnTo>
                          <a:pt x="32" y="1630"/>
                        </a:lnTo>
                        <a:lnTo>
                          <a:pt x="26" y="1597"/>
                        </a:lnTo>
                        <a:lnTo>
                          <a:pt x="21" y="1563"/>
                        </a:lnTo>
                        <a:lnTo>
                          <a:pt x="17" y="1527"/>
                        </a:lnTo>
                        <a:lnTo>
                          <a:pt x="14" y="1493"/>
                        </a:lnTo>
                        <a:lnTo>
                          <a:pt x="13" y="1458"/>
                        </a:lnTo>
                        <a:lnTo>
                          <a:pt x="13" y="1420"/>
                        </a:lnTo>
                        <a:lnTo>
                          <a:pt x="11" y="1349"/>
                        </a:lnTo>
                        <a:lnTo>
                          <a:pt x="13" y="1275"/>
                        </a:lnTo>
                        <a:lnTo>
                          <a:pt x="14" y="1203"/>
                        </a:lnTo>
                        <a:lnTo>
                          <a:pt x="17" y="1129"/>
                        </a:lnTo>
                        <a:lnTo>
                          <a:pt x="20" y="1056"/>
                        </a:lnTo>
                        <a:lnTo>
                          <a:pt x="20" y="983"/>
                        </a:lnTo>
                        <a:lnTo>
                          <a:pt x="17" y="912"/>
                        </a:lnTo>
                        <a:lnTo>
                          <a:pt x="13" y="842"/>
                        </a:lnTo>
                        <a:lnTo>
                          <a:pt x="14" y="814"/>
                        </a:lnTo>
                        <a:lnTo>
                          <a:pt x="14" y="785"/>
                        </a:lnTo>
                        <a:lnTo>
                          <a:pt x="16" y="755"/>
                        </a:lnTo>
                        <a:lnTo>
                          <a:pt x="14" y="724"/>
                        </a:lnTo>
                        <a:lnTo>
                          <a:pt x="13" y="663"/>
                        </a:lnTo>
                        <a:lnTo>
                          <a:pt x="8" y="600"/>
                        </a:lnTo>
                        <a:lnTo>
                          <a:pt x="5" y="539"/>
                        </a:lnTo>
                        <a:lnTo>
                          <a:pt x="2" y="475"/>
                        </a:lnTo>
                        <a:lnTo>
                          <a:pt x="0" y="414"/>
                        </a:lnTo>
                        <a:lnTo>
                          <a:pt x="2" y="355"/>
                        </a:lnTo>
                        <a:lnTo>
                          <a:pt x="3" y="324"/>
                        </a:lnTo>
                        <a:lnTo>
                          <a:pt x="6" y="297"/>
                        </a:lnTo>
                        <a:lnTo>
                          <a:pt x="11" y="268"/>
                        </a:lnTo>
                        <a:lnTo>
                          <a:pt x="16" y="240"/>
                        </a:lnTo>
                        <a:lnTo>
                          <a:pt x="24" y="215"/>
                        </a:lnTo>
                        <a:lnTo>
                          <a:pt x="32" y="189"/>
                        </a:lnTo>
                        <a:lnTo>
                          <a:pt x="44" y="165"/>
                        </a:lnTo>
                        <a:lnTo>
                          <a:pt x="55" y="141"/>
                        </a:lnTo>
                        <a:lnTo>
                          <a:pt x="70" y="118"/>
                        </a:lnTo>
                        <a:lnTo>
                          <a:pt x="85" y="97"/>
                        </a:lnTo>
                        <a:lnTo>
                          <a:pt x="103" y="77"/>
                        </a:lnTo>
                        <a:lnTo>
                          <a:pt x="124" y="58"/>
                        </a:lnTo>
                        <a:lnTo>
                          <a:pt x="147" y="42"/>
                        </a:lnTo>
                        <a:lnTo>
                          <a:pt x="173" y="26"/>
                        </a:lnTo>
                        <a:lnTo>
                          <a:pt x="202" y="11"/>
                        </a:lnTo>
                        <a:lnTo>
                          <a:pt x="232" y="0"/>
                        </a:lnTo>
                        <a:lnTo>
                          <a:pt x="253" y="0"/>
                        </a:lnTo>
                        <a:lnTo>
                          <a:pt x="273" y="2"/>
                        </a:lnTo>
                        <a:lnTo>
                          <a:pt x="292" y="5"/>
                        </a:lnTo>
                        <a:lnTo>
                          <a:pt x="312" y="8"/>
                        </a:lnTo>
                        <a:lnTo>
                          <a:pt x="330" y="15"/>
                        </a:lnTo>
                        <a:lnTo>
                          <a:pt x="348" y="21"/>
                        </a:lnTo>
                        <a:lnTo>
                          <a:pt x="366" y="29"/>
                        </a:lnTo>
                        <a:lnTo>
                          <a:pt x="384" y="37"/>
                        </a:lnTo>
                        <a:lnTo>
                          <a:pt x="400" y="48"/>
                        </a:lnTo>
                        <a:lnTo>
                          <a:pt x="415" y="59"/>
                        </a:lnTo>
                        <a:lnTo>
                          <a:pt x="427" y="73"/>
                        </a:lnTo>
                        <a:lnTo>
                          <a:pt x="440" y="88"/>
                        </a:lnTo>
                        <a:lnTo>
                          <a:pt x="450" y="103"/>
                        </a:lnTo>
                        <a:lnTo>
                          <a:pt x="460" y="120"/>
                        </a:lnTo>
                        <a:lnTo>
                          <a:pt x="466" y="139"/>
                        </a:lnTo>
                        <a:lnTo>
                          <a:pt x="471" y="1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07200" y="2233080"/>
                    <a:ext cx="19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198">
                        <a:moveTo>
                          <a:pt x="299" y="170"/>
                        </a:moveTo>
                        <a:lnTo>
                          <a:pt x="288" y="180"/>
                        </a:lnTo>
                        <a:lnTo>
                          <a:pt x="275" y="186"/>
                        </a:lnTo>
                        <a:lnTo>
                          <a:pt x="264" y="191"/>
                        </a:lnTo>
                        <a:lnTo>
                          <a:pt x="255" y="195"/>
                        </a:lnTo>
                        <a:lnTo>
                          <a:pt x="243" y="198"/>
                        </a:lnTo>
                        <a:lnTo>
                          <a:pt x="234" y="198"/>
                        </a:lnTo>
                        <a:lnTo>
                          <a:pt x="224" y="198"/>
                        </a:lnTo>
                        <a:lnTo>
                          <a:pt x="214" y="196"/>
                        </a:lnTo>
                        <a:lnTo>
                          <a:pt x="205" y="192"/>
                        </a:lnTo>
                        <a:lnTo>
                          <a:pt x="196" y="189"/>
                        </a:lnTo>
                        <a:lnTo>
                          <a:pt x="187" y="184"/>
                        </a:lnTo>
                        <a:lnTo>
                          <a:pt x="178" y="180"/>
                        </a:lnTo>
                        <a:lnTo>
                          <a:pt x="161" y="168"/>
                        </a:lnTo>
                        <a:lnTo>
                          <a:pt x="145" y="154"/>
                        </a:lnTo>
                        <a:lnTo>
                          <a:pt x="113" y="125"/>
                        </a:lnTo>
                        <a:lnTo>
                          <a:pt x="78" y="98"/>
                        </a:lnTo>
                        <a:lnTo>
                          <a:pt x="61" y="86"/>
                        </a:lnTo>
                        <a:lnTo>
                          <a:pt x="42" y="80"/>
                        </a:lnTo>
                        <a:lnTo>
                          <a:pt x="32" y="78"/>
                        </a:lnTo>
                        <a:lnTo>
                          <a:pt x="22" y="77"/>
                        </a:lnTo>
                        <a:lnTo>
                          <a:pt x="11" y="77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42" y="12"/>
                        </a:lnTo>
                        <a:lnTo>
                          <a:pt x="87" y="27"/>
                        </a:lnTo>
                        <a:lnTo>
                          <a:pt x="132" y="41"/>
                        </a:lnTo>
                        <a:lnTo>
                          <a:pt x="177" y="57"/>
                        </a:lnTo>
                        <a:lnTo>
                          <a:pt x="198" y="67"/>
                        </a:lnTo>
                        <a:lnTo>
                          <a:pt x="217" y="78"/>
                        </a:lnTo>
                        <a:lnTo>
                          <a:pt x="237" y="89"/>
                        </a:lnTo>
                        <a:lnTo>
                          <a:pt x="252" y="103"/>
                        </a:lnTo>
                        <a:lnTo>
                          <a:pt x="269" y="116"/>
                        </a:lnTo>
                        <a:lnTo>
                          <a:pt x="282" y="133"/>
                        </a:lnTo>
                        <a:lnTo>
                          <a:pt x="291" y="151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28812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8">
                        <a:moveTo>
                          <a:pt x="330" y="95"/>
                        </a:moveTo>
                        <a:lnTo>
                          <a:pt x="330" y="144"/>
                        </a:lnTo>
                        <a:lnTo>
                          <a:pt x="309" y="147"/>
                        </a:lnTo>
                        <a:lnTo>
                          <a:pt x="289" y="148"/>
                        </a:lnTo>
                        <a:lnTo>
                          <a:pt x="266" y="148"/>
                        </a:lnTo>
                        <a:lnTo>
                          <a:pt x="245" y="147"/>
                        </a:lnTo>
                        <a:lnTo>
                          <a:pt x="222" y="144"/>
                        </a:lnTo>
                        <a:lnTo>
                          <a:pt x="201" y="139"/>
                        </a:lnTo>
                        <a:lnTo>
                          <a:pt x="180" y="135"/>
                        </a:lnTo>
                        <a:lnTo>
                          <a:pt x="159" y="127"/>
                        </a:lnTo>
                        <a:lnTo>
                          <a:pt x="138" y="120"/>
                        </a:lnTo>
                        <a:lnTo>
                          <a:pt x="118" y="112"/>
                        </a:lnTo>
                        <a:lnTo>
                          <a:pt x="97" y="102"/>
                        </a:lnTo>
                        <a:lnTo>
                          <a:pt x="76" y="92"/>
                        </a:lnTo>
                        <a:lnTo>
                          <a:pt x="37" y="70"/>
                        </a:lnTo>
                        <a:lnTo>
                          <a:pt x="0" y="47"/>
                        </a:lnTo>
                        <a:lnTo>
                          <a:pt x="5" y="39"/>
                        </a:lnTo>
                        <a:lnTo>
                          <a:pt x="11" y="32"/>
                        </a:lnTo>
                        <a:lnTo>
                          <a:pt x="15" y="23"/>
                        </a:lnTo>
                        <a:lnTo>
                          <a:pt x="23" y="18"/>
                        </a:lnTo>
                        <a:lnTo>
                          <a:pt x="29" y="14"/>
                        </a:lnTo>
                        <a:lnTo>
                          <a:pt x="35" y="9"/>
                        </a:lnTo>
                        <a:lnTo>
                          <a:pt x="44" y="5"/>
                        </a:lnTo>
                        <a:lnTo>
                          <a:pt x="50" y="3"/>
                        </a:lnTo>
                        <a:lnTo>
                          <a:pt x="65" y="0"/>
                        </a:lnTo>
                        <a:lnTo>
                          <a:pt x="82" y="0"/>
                        </a:lnTo>
                        <a:lnTo>
                          <a:pt x="98" y="2"/>
                        </a:lnTo>
                        <a:lnTo>
                          <a:pt x="116" y="5"/>
                        </a:lnTo>
                        <a:lnTo>
                          <a:pt x="151" y="17"/>
                        </a:lnTo>
                        <a:lnTo>
                          <a:pt x="185" y="29"/>
                        </a:lnTo>
                        <a:lnTo>
                          <a:pt x="203" y="36"/>
                        </a:lnTo>
                        <a:lnTo>
                          <a:pt x="221" y="41"/>
                        </a:lnTo>
                        <a:lnTo>
                          <a:pt x="236" y="45"/>
                        </a:lnTo>
                        <a:lnTo>
                          <a:pt x="251" y="47"/>
                        </a:lnTo>
                        <a:lnTo>
                          <a:pt x="263" y="55"/>
                        </a:lnTo>
                        <a:lnTo>
                          <a:pt x="274" y="60"/>
                        </a:lnTo>
                        <a:lnTo>
                          <a:pt x="285" y="65"/>
                        </a:lnTo>
                        <a:lnTo>
                          <a:pt x="298" y="70"/>
                        </a:lnTo>
                        <a:lnTo>
                          <a:pt x="309" y="74"/>
                        </a:lnTo>
                        <a:lnTo>
                          <a:pt x="319" y="81"/>
                        </a:lnTo>
                        <a:lnTo>
                          <a:pt x="322" y="85"/>
                        </a:lnTo>
                        <a:lnTo>
                          <a:pt x="325" y="88"/>
                        </a:lnTo>
                        <a:lnTo>
                          <a:pt x="328" y="91"/>
                        </a:lnTo>
                        <a:lnTo>
                          <a:pt x="33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76600" y="2324160"/>
                    <a:ext cx="19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39">
                        <a:moveTo>
                          <a:pt x="301" y="80"/>
                        </a:moveTo>
                        <a:lnTo>
                          <a:pt x="301" y="128"/>
                        </a:lnTo>
                        <a:lnTo>
                          <a:pt x="281" y="133"/>
                        </a:lnTo>
                        <a:lnTo>
                          <a:pt x="262" y="138"/>
                        </a:lnTo>
                        <a:lnTo>
                          <a:pt x="242" y="139"/>
                        </a:lnTo>
                        <a:lnTo>
                          <a:pt x="224" y="139"/>
                        </a:lnTo>
                        <a:lnTo>
                          <a:pt x="206" y="138"/>
                        </a:lnTo>
                        <a:lnTo>
                          <a:pt x="186" y="135"/>
                        </a:lnTo>
                        <a:lnTo>
                          <a:pt x="167" y="131"/>
                        </a:lnTo>
                        <a:lnTo>
                          <a:pt x="150" y="127"/>
                        </a:lnTo>
                        <a:lnTo>
                          <a:pt x="111" y="115"/>
                        </a:lnTo>
                        <a:lnTo>
                          <a:pt x="74" y="103"/>
                        </a:lnTo>
                        <a:lnTo>
                          <a:pt x="36" y="91"/>
                        </a:lnTo>
                        <a:lnTo>
                          <a:pt x="0" y="80"/>
                        </a:lnTo>
                        <a:lnTo>
                          <a:pt x="3" y="65"/>
                        </a:lnTo>
                        <a:lnTo>
                          <a:pt x="8" y="54"/>
                        </a:lnTo>
                        <a:lnTo>
                          <a:pt x="12" y="42"/>
                        </a:lnTo>
                        <a:lnTo>
                          <a:pt x="18" y="33"/>
                        </a:lnTo>
                        <a:lnTo>
                          <a:pt x="26" y="25"/>
                        </a:lnTo>
                        <a:lnTo>
                          <a:pt x="32" y="18"/>
                        </a:lnTo>
                        <a:lnTo>
                          <a:pt x="39" y="12"/>
                        </a:lnTo>
                        <a:lnTo>
                          <a:pt x="50" y="7"/>
                        </a:lnTo>
                        <a:lnTo>
                          <a:pt x="59" y="4"/>
                        </a:lnTo>
                        <a:lnTo>
                          <a:pt x="68" y="3"/>
                        </a:lnTo>
                        <a:lnTo>
                          <a:pt x="79" y="1"/>
                        </a:lnTo>
                        <a:lnTo>
                          <a:pt x="89" y="0"/>
                        </a:lnTo>
                        <a:lnTo>
                          <a:pt x="112" y="1"/>
                        </a:lnTo>
                        <a:lnTo>
                          <a:pt x="135" y="6"/>
                        </a:lnTo>
                        <a:lnTo>
                          <a:pt x="159" y="10"/>
                        </a:lnTo>
                        <a:lnTo>
                          <a:pt x="183" y="18"/>
                        </a:lnTo>
                        <a:lnTo>
                          <a:pt x="207" y="28"/>
                        </a:lnTo>
                        <a:lnTo>
                          <a:pt x="230" y="39"/>
                        </a:lnTo>
                        <a:lnTo>
                          <a:pt x="271" y="60"/>
                        </a:lnTo>
                        <a:lnTo>
                          <a:pt x="301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327720" y="2364840"/>
                    <a:ext cx="39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1193">
                        <a:moveTo>
                          <a:pt x="499" y="105"/>
                        </a:moveTo>
                        <a:lnTo>
                          <a:pt x="518" y="143"/>
                        </a:lnTo>
                        <a:lnTo>
                          <a:pt x="536" y="182"/>
                        </a:lnTo>
                        <a:lnTo>
                          <a:pt x="550" y="219"/>
                        </a:lnTo>
                        <a:lnTo>
                          <a:pt x="564" y="255"/>
                        </a:lnTo>
                        <a:lnTo>
                          <a:pt x="576" y="292"/>
                        </a:lnTo>
                        <a:lnTo>
                          <a:pt x="585" y="328"/>
                        </a:lnTo>
                        <a:lnTo>
                          <a:pt x="593" y="366"/>
                        </a:lnTo>
                        <a:lnTo>
                          <a:pt x="602" y="405"/>
                        </a:lnTo>
                        <a:lnTo>
                          <a:pt x="607" y="447"/>
                        </a:lnTo>
                        <a:lnTo>
                          <a:pt x="611" y="492"/>
                        </a:lnTo>
                        <a:lnTo>
                          <a:pt x="613" y="541"/>
                        </a:lnTo>
                        <a:lnTo>
                          <a:pt x="614" y="592"/>
                        </a:lnTo>
                        <a:lnTo>
                          <a:pt x="614" y="648"/>
                        </a:lnTo>
                        <a:lnTo>
                          <a:pt x="614" y="709"/>
                        </a:lnTo>
                        <a:lnTo>
                          <a:pt x="611" y="777"/>
                        </a:lnTo>
                        <a:lnTo>
                          <a:pt x="608" y="850"/>
                        </a:lnTo>
                        <a:lnTo>
                          <a:pt x="589" y="910"/>
                        </a:lnTo>
                        <a:lnTo>
                          <a:pt x="569" y="966"/>
                        </a:lnTo>
                        <a:lnTo>
                          <a:pt x="558" y="993"/>
                        </a:lnTo>
                        <a:lnTo>
                          <a:pt x="546" y="1021"/>
                        </a:lnTo>
                        <a:lnTo>
                          <a:pt x="532" y="1046"/>
                        </a:lnTo>
                        <a:lnTo>
                          <a:pt x="518" y="1071"/>
                        </a:lnTo>
                        <a:lnTo>
                          <a:pt x="499" y="1095"/>
                        </a:lnTo>
                        <a:lnTo>
                          <a:pt x="478" y="1116"/>
                        </a:lnTo>
                        <a:lnTo>
                          <a:pt x="466" y="1126"/>
                        </a:lnTo>
                        <a:lnTo>
                          <a:pt x="455" y="1135"/>
                        </a:lnTo>
                        <a:lnTo>
                          <a:pt x="440" y="1143"/>
                        </a:lnTo>
                        <a:lnTo>
                          <a:pt x="428" y="1152"/>
                        </a:lnTo>
                        <a:lnTo>
                          <a:pt x="411" y="1160"/>
                        </a:lnTo>
                        <a:lnTo>
                          <a:pt x="395" y="1166"/>
                        </a:lnTo>
                        <a:lnTo>
                          <a:pt x="380" y="1173"/>
                        </a:lnTo>
                        <a:lnTo>
                          <a:pt x="360" y="1178"/>
                        </a:lnTo>
                        <a:lnTo>
                          <a:pt x="340" y="1182"/>
                        </a:lnTo>
                        <a:lnTo>
                          <a:pt x="319" y="1187"/>
                        </a:lnTo>
                        <a:lnTo>
                          <a:pt x="298" y="1190"/>
                        </a:lnTo>
                        <a:lnTo>
                          <a:pt x="276" y="1193"/>
                        </a:lnTo>
                        <a:lnTo>
                          <a:pt x="237" y="1181"/>
                        </a:lnTo>
                        <a:lnTo>
                          <a:pt x="203" y="1166"/>
                        </a:lnTo>
                        <a:lnTo>
                          <a:pt x="173" y="1150"/>
                        </a:lnTo>
                        <a:lnTo>
                          <a:pt x="145" y="1131"/>
                        </a:lnTo>
                        <a:lnTo>
                          <a:pt x="121" y="1111"/>
                        </a:lnTo>
                        <a:lnTo>
                          <a:pt x="98" y="1089"/>
                        </a:lnTo>
                        <a:lnTo>
                          <a:pt x="79" y="1064"/>
                        </a:lnTo>
                        <a:lnTo>
                          <a:pt x="63" y="1039"/>
                        </a:lnTo>
                        <a:lnTo>
                          <a:pt x="49" y="1013"/>
                        </a:lnTo>
                        <a:lnTo>
                          <a:pt x="35" y="984"/>
                        </a:lnTo>
                        <a:lnTo>
                          <a:pt x="26" y="955"/>
                        </a:lnTo>
                        <a:lnTo>
                          <a:pt x="18" y="924"/>
                        </a:lnTo>
                        <a:lnTo>
                          <a:pt x="9" y="893"/>
                        </a:lnTo>
                        <a:lnTo>
                          <a:pt x="6" y="862"/>
                        </a:lnTo>
                        <a:lnTo>
                          <a:pt x="2" y="827"/>
                        </a:lnTo>
                        <a:lnTo>
                          <a:pt x="0" y="794"/>
                        </a:lnTo>
                        <a:lnTo>
                          <a:pt x="0" y="760"/>
                        </a:lnTo>
                        <a:lnTo>
                          <a:pt x="0" y="724"/>
                        </a:lnTo>
                        <a:lnTo>
                          <a:pt x="2" y="689"/>
                        </a:lnTo>
                        <a:lnTo>
                          <a:pt x="5" y="653"/>
                        </a:lnTo>
                        <a:lnTo>
                          <a:pt x="11" y="582"/>
                        </a:lnTo>
                        <a:lnTo>
                          <a:pt x="21" y="511"/>
                        </a:lnTo>
                        <a:lnTo>
                          <a:pt x="29" y="440"/>
                        </a:lnTo>
                        <a:lnTo>
                          <a:pt x="39" y="373"/>
                        </a:lnTo>
                        <a:lnTo>
                          <a:pt x="47" y="308"/>
                        </a:lnTo>
                        <a:lnTo>
                          <a:pt x="52" y="245"/>
                        </a:lnTo>
                        <a:lnTo>
                          <a:pt x="56" y="226"/>
                        </a:lnTo>
                        <a:lnTo>
                          <a:pt x="62" y="208"/>
                        </a:lnTo>
                        <a:lnTo>
                          <a:pt x="67" y="189"/>
                        </a:lnTo>
                        <a:lnTo>
                          <a:pt x="74" y="172"/>
                        </a:lnTo>
                        <a:lnTo>
                          <a:pt x="80" y="155"/>
                        </a:lnTo>
                        <a:lnTo>
                          <a:pt x="91" y="139"/>
                        </a:lnTo>
                        <a:lnTo>
                          <a:pt x="100" y="124"/>
                        </a:lnTo>
                        <a:lnTo>
                          <a:pt x="110" y="108"/>
                        </a:lnTo>
                        <a:lnTo>
                          <a:pt x="121" y="93"/>
                        </a:lnTo>
                        <a:lnTo>
                          <a:pt x="133" y="81"/>
                        </a:lnTo>
                        <a:lnTo>
                          <a:pt x="147" y="66"/>
                        </a:lnTo>
                        <a:lnTo>
                          <a:pt x="162" y="54"/>
                        </a:lnTo>
                        <a:lnTo>
                          <a:pt x="176" y="42"/>
                        </a:lnTo>
                        <a:lnTo>
                          <a:pt x="191" y="31"/>
                        </a:lnTo>
                        <a:lnTo>
                          <a:pt x="209" y="18"/>
                        </a:lnTo>
                        <a:lnTo>
                          <a:pt x="224" y="8"/>
                        </a:lnTo>
                        <a:lnTo>
                          <a:pt x="247" y="1"/>
                        </a:lnTo>
                        <a:lnTo>
                          <a:pt x="266" y="0"/>
                        </a:lnTo>
                        <a:lnTo>
                          <a:pt x="287" y="0"/>
                        </a:lnTo>
                        <a:lnTo>
                          <a:pt x="305" y="1"/>
                        </a:lnTo>
                        <a:lnTo>
                          <a:pt x="322" y="5"/>
                        </a:lnTo>
                        <a:lnTo>
                          <a:pt x="340" y="12"/>
                        </a:lnTo>
                        <a:lnTo>
                          <a:pt x="357" y="18"/>
                        </a:lnTo>
                        <a:lnTo>
                          <a:pt x="372" y="25"/>
                        </a:lnTo>
                        <a:lnTo>
                          <a:pt x="405" y="45"/>
                        </a:lnTo>
                        <a:lnTo>
                          <a:pt x="436" y="66"/>
                        </a:lnTo>
                        <a:lnTo>
                          <a:pt x="466" y="87"/>
                        </a:lnTo>
                        <a:lnTo>
                          <a:pt x="499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268320" y="2372400"/>
                    <a:ext cx="223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10">
                        <a:moveTo>
                          <a:pt x="349" y="77"/>
                        </a:moveTo>
                        <a:lnTo>
                          <a:pt x="329" y="89"/>
                        </a:lnTo>
                        <a:lnTo>
                          <a:pt x="308" y="97"/>
                        </a:lnTo>
                        <a:lnTo>
                          <a:pt x="287" y="103"/>
                        </a:lnTo>
                        <a:lnTo>
                          <a:pt x="264" y="109"/>
                        </a:lnTo>
                        <a:lnTo>
                          <a:pt x="242" y="110"/>
                        </a:lnTo>
                        <a:lnTo>
                          <a:pt x="219" y="110"/>
                        </a:lnTo>
                        <a:lnTo>
                          <a:pt x="196" y="109"/>
                        </a:lnTo>
                        <a:lnTo>
                          <a:pt x="174" y="107"/>
                        </a:lnTo>
                        <a:lnTo>
                          <a:pt x="128" y="99"/>
                        </a:lnTo>
                        <a:lnTo>
                          <a:pt x="84" y="88"/>
                        </a:lnTo>
                        <a:lnTo>
                          <a:pt x="42" y="76"/>
                        </a:lnTo>
                        <a:lnTo>
                          <a:pt x="0" y="65"/>
                        </a:lnTo>
                        <a:lnTo>
                          <a:pt x="4" y="53"/>
                        </a:lnTo>
                        <a:lnTo>
                          <a:pt x="11" y="42"/>
                        </a:lnTo>
                        <a:lnTo>
                          <a:pt x="16" y="33"/>
                        </a:lnTo>
                        <a:lnTo>
                          <a:pt x="22" y="24"/>
                        </a:lnTo>
                        <a:lnTo>
                          <a:pt x="30" y="18"/>
                        </a:lnTo>
                        <a:lnTo>
                          <a:pt x="37" y="14"/>
                        </a:lnTo>
                        <a:lnTo>
                          <a:pt x="45" y="9"/>
                        </a:lnTo>
                        <a:lnTo>
                          <a:pt x="54" y="5"/>
                        </a:lnTo>
                        <a:lnTo>
                          <a:pt x="72" y="2"/>
                        </a:lnTo>
                        <a:lnTo>
                          <a:pt x="92" y="0"/>
                        </a:lnTo>
                        <a:lnTo>
                          <a:pt x="113" y="2"/>
                        </a:lnTo>
                        <a:lnTo>
                          <a:pt x="134" y="3"/>
                        </a:lnTo>
                        <a:lnTo>
                          <a:pt x="181" y="14"/>
                        </a:lnTo>
                        <a:lnTo>
                          <a:pt x="228" y="21"/>
                        </a:lnTo>
                        <a:lnTo>
                          <a:pt x="249" y="24"/>
                        </a:lnTo>
                        <a:lnTo>
                          <a:pt x="275" y="24"/>
                        </a:lnTo>
                        <a:lnTo>
                          <a:pt x="285" y="23"/>
                        </a:lnTo>
                        <a:lnTo>
                          <a:pt x="296" y="21"/>
                        </a:lnTo>
                        <a:lnTo>
                          <a:pt x="306" y="20"/>
                        </a:lnTo>
                        <a:lnTo>
                          <a:pt x="317" y="17"/>
                        </a:lnTo>
                        <a:lnTo>
                          <a:pt x="332" y="29"/>
                        </a:lnTo>
                        <a:lnTo>
                          <a:pt x="345" y="44"/>
                        </a:lnTo>
                        <a:lnTo>
                          <a:pt x="350" y="52"/>
                        </a:lnTo>
                        <a:lnTo>
                          <a:pt x="352" y="60"/>
                        </a:lnTo>
                        <a:lnTo>
                          <a:pt x="352" y="68"/>
                        </a:lnTo>
                        <a:lnTo>
                          <a:pt x="34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268320" y="2467080"/>
                    <a:ext cx="21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11">
                        <a:moveTo>
                          <a:pt x="337" y="75"/>
                        </a:moveTo>
                        <a:lnTo>
                          <a:pt x="20" y="111"/>
                        </a:lnTo>
                        <a:lnTo>
                          <a:pt x="15" y="108"/>
                        </a:lnTo>
                        <a:lnTo>
                          <a:pt x="10" y="105"/>
                        </a:lnTo>
                        <a:lnTo>
                          <a:pt x="6" y="100"/>
                        </a:lnTo>
                        <a:lnTo>
                          <a:pt x="5" y="95"/>
                        </a:lnTo>
                        <a:lnTo>
                          <a:pt x="2" y="86"/>
                        </a:lnTo>
                        <a:lnTo>
                          <a:pt x="0" y="75"/>
                        </a:lnTo>
                        <a:lnTo>
                          <a:pt x="2" y="54"/>
                        </a:lnTo>
                        <a:lnTo>
                          <a:pt x="2" y="33"/>
                        </a:lnTo>
                        <a:lnTo>
                          <a:pt x="24" y="33"/>
                        </a:lnTo>
                        <a:lnTo>
                          <a:pt x="47" y="31"/>
                        </a:lnTo>
                        <a:lnTo>
                          <a:pt x="73" y="27"/>
                        </a:lnTo>
                        <a:lnTo>
                          <a:pt x="98" y="22"/>
                        </a:lnTo>
                        <a:lnTo>
                          <a:pt x="153" y="12"/>
                        </a:lnTo>
                        <a:lnTo>
                          <a:pt x="207" y="3"/>
                        </a:lnTo>
                        <a:lnTo>
                          <a:pt x="231" y="0"/>
                        </a:lnTo>
                        <a:lnTo>
                          <a:pt x="255" y="0"/>
                        </a:lnTo>
                        <a:lnTo>
                          <a:pt x="266" y="1"/>
                        </a:lnTo>
                        <a:lnTo>
                          <a:pt x="277" y="3"/>
                        </a:lnTo>
                        <a:lnTo>
                          <a:pt x="286" y="7"/>
                        </a:lnTo>
                        <a:lnTo>
                          <a:pt x="295" y="10"/>
                        </a:lnTo>
                        <a:lnTo>
                          <a:pt x="304" y="13"/>
                        </a:lnTo>
                        <a:lnTo>
                          <a:pt x="312" y="19"/>
                        </a:lnTo>
                        <a:lnTo>
                          <a:pt x="318" y="25"/>
                        </a:lnTo>
                        <a:lnTo>
                          <a:pt x="324" y="33"/>
                        </a:lnTo>
                        <a:lnTo>
                          <a:pt x="330" y="42"/>
                        </a:lnTo>
                        <a:lnTo>
                          <a:pt x="333" y="51"/>
                        </a:lnTo>
                        <a:lnTo>
                          <a:pt x="336" y="63"/>
                        </a:lnTo>
                        <a:lnTo>
                          <a:pt x="33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275520" y="2511720"/>
                    <a:ext cx="205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45">
                        <a:moveTo>
                          <a:pt x="318" y="16"/>
                        </a:moveTo>
                        <a:lnTo>
                          <a:pt x="323" y="33"/>
                        </a:lnTo>
                        <a:lnTo>
                          <a:pt x="326" y="48"/>
                        </a:lnTo>
                        <a:lnTo>
                          <a:pt x="324" y="61"/>
                        </a:lnTo>
                        <a:lnTo>
                          <a:pt x="321" y="72"/>
                        </a:lnTo>
                        <a:lnTo>
                          <a:pt x="316" y="82"/>
                        </a:lnTo>
                        <a:lnTo>
                          <a:pt x="308" y="90"/>
                        </a:lnTo>
                        <a:lnTo>
                          <a:pt x="298" y="97"/>
                        </a:lnTo>
                        <a:lnTo>
                          <a:pt x="289" y="103"/>
                        </a:lnTo>
                        <a:lnTo>
                          <a:pt x="239" y="118"/>
                        </a:lnTo>
                        <a:lnTo>
                          <a:pt x="194" y="130"/>
                        </a:lnTo>
                        <a:lnTo>
                          <a:pt x="181" y="127"/>
                        </a:lnTo>
                        <a:lnTo>
                          <a:pt x="168" y="127"/>
                        </a:lnTo>
                        <a:lnTo>
                          <a:pt x="153" y="127"/>
                        </a:lnTo>
                        <a:lnTo>
                          <a:pt x="141" y="130"/>
                        </a:lnTo>
                        <a:lnTo>
                          <a:pt x="114" y="136"/>
                        </a:lnTo>
                        <a:lnTo>
                          <a:pt x="91" y="142"/>
                        </a:lnTo>
                        <a:lnTo>
                          <a:pt x="78" y="143"/>
                        </a:lnTo>
                        <a:lnTo>
                          <a:pt x="67" y="145"/>
                        </a:lnTo>
                        <a:lnTo>
                          <a:pt x="53" y="143"/>
                        </a:lnTo>
                        <a:lnTo>
                          <a:pt x="43" y="142"/>
                        </a:lnTo>
                        <a:lnTo>
                          <a:pt x="31" y="139"/>
                        </a:lnTo>
                        <a:lnTo>
                          <a:pt x="20" y="132"/>
                        </a:lnTo>
                        <a:lnTo>
                          <a:pt x="10" y="124"/>
                        </a:lnTo>
                        <a:lnTo>
                          <a:pt x="0" y="113"/>
                        </a:lnTo>
                        <a:lnTo>
                          <a:pt x="3" y="103"/>
                        </a:lnTo>
                        <a:lnTo>
                          <a:pt x="8" y="93"/>
                        </a:lnTo>
                        <a:lnTo>
                          <a:pt x="13" y="85"/>
                        </a:lnTo>
                        <a:lnTo>
                          <a:pt x="20" y="77"/>
                        </a:lnTo>
                        <a:lnTo>
                          <a:pt x="34" y="63"/>
                        </a:lnTo>
                        <a:lnTo>
                          <a:pt x="52" y="48"/>
                        </a:lnTo>
                        <a:lnTo>
                          <a:pt x="70" y="36"/>
                        </a:lnTo>
                        <a:lnTo>
                          <a:pt x="91" y="27"/>
                        </a:lnTo>
                        <a:lnTo>
                          <a:pt x="113" y="18"/>
                        </a:lnTo>
                        <a:lnTo>
                          <a:pt x="137" y="11"/>
                        </a:lnTo>
                        <a:lnTo>
                          <a:pt x="161" y="4"/>
                        </a:lnTo>
                        <a:lnTo>
                          <a:pt x="185" y="1"/>
                        </a:lnTo>
                        <a:lnTo>
                          <a:pt x="209" y="0"/>
                        </a:lnTo>
                        <a:lnTo>
                          <a:pt x="234" y="0"/>
                        </a:lnTo>
                        <a:lnTo>
                          <a:pt x="256" y="1"/>
                        </a:lnTo>
                        <a:lnTo>
                          <a:pt x="279" y="3"/>
                        </a:lnTo>
                        <a:lnTo>
                          <a:pt x="298" y="8"/>
                        </a:lnTo>
                        <a:lnTo>
                          <a:pt x="318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387480" y="2540880"/>
                    <a:ext cx="56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770">
                        <a:moveTo>
                          <a:pt x="810" y="151"/>
                        </a:moveTo>
                        <a:lnTo>
                          <a:pt x="821" y="159"/>
                        </a:lnTo>
                        <a:lnTo>
                          <a:pt x="829" y="169"/>
                        </a:lnTo>
                        <a:lnTo>
                          <a:pt x="838" y="177"/>
                        </a:lnTo>
                        <a:lnTo>
                          <a:pt x="846" y="186"/>
                        </a:lnTo>
                        <a:lnTo>
                          <a:pt x="852" y="198"/>
                        </a:lnTo>
                        <a:lnTo>
                          <a:pt x="858" y="207"/>
                        </a:lnTo>
                        <a:lnTo>
                          <a:pt x="864" y="219"/>
                        </a:lnTo>
                        <a:lnTo>
                          <a:pt x="868" y="230"/>
                        </a:lnTo>
                        <a:lnTo>
                          <a:pt x="874" y="254"/>
                        </a:lnTo>
                        <a:lnTo>
                          <a:pt x="877" y="278"/>
                        </a:lnTo>
                        <a:lnTo>
                          <a:pt x="881" y="304"/>
                        </a:lnTo>
                        <a:lnTo>
                          <a:pt x="881" y="330"/>
                        </a:lnTo>
                        <a:lnTo>
                          <a:pt x="877" y="383"/>
                        </a:lnTo>
                        <a:lnTo>
                          <a:pt x="871" y="435"/>
                        </a:lnTo>
                        <a:lnTo>
                          <a:pt x="865" y="485"/>
                        </a:lnTo>
                        <a:lnTo>
                          <a:pt x="858" y="531"/>
                        </a:lnTo>
                        <a:lnTo>
                          <a:pt x="853" y="548"/>
                        </a:lnTo>
                        <a:lnTo>
                          <a:pt x="849" y="566"/>
                        </a:lnTo>
                        <a:lnTo>
                          <a:pt x="841" y="582"/>
                        </a:lnTo>
                        <a:lnTo>
                          <a:pt x="832" y="598"/>
                        </a:lnTo>
                        <a:lnTo>
                          <a:pt x="814" y="628"/>
                        </a:lnTo>
                        <a:lnTo>
                          <a:pt x="793" y="659"/>
                        </a:lnTo>
                        <a:lnTo>
                          <a:pt x="768" y="688"/>
                        </a:lnTo>
                        <a:lnTo>
                          <a:pt x="743" y="715"/>
                        </a:lnTo>
                        <a:lnTo>
                          <a:pt x="714" y="743"/>
                        </a:lnTo>
                        <a:lnTo>
                          <a:pt x="687" y="770"/>
                        </a:lnTo>
                        <a:lnTo>
                          <a:pt x="642" y="755"/>
                        </a:lnTo>
                        <a:lnTo>
                          <a:pt x="595" y="741"/>
                        </a:lnTo>
                        <a:lnTo>
                          <a:pt x="546" y="730"/>
                        </a:lnTo>
                        <a:lnTo>
                          <a:pt x="499" y="719"/>
                        </a:lnTo>
                        <a:lnTo>
                          <a:pt x="451" y="709"/>
                        </a:lnTo>
                        <a:lnTo>
                          <a:pt x="402" y="697"/>
                        </a:lnTo>
                        <a:lnTo>
                          <a:pt x="354" y="687"/>
                        </a:lnTo>
                        <a:lnTo>
                          <a:pt x="307" y="673"/>
                        </a:lnTo>
                        <a:lnTo>
                          <a:pt x="284" y="666"/>
                        </a:lnTo>
                        <a:lnTo>
                          <a:pt x="260" y="658"/>
                        </a:lnTo>
                        <a:lnTo>
                          <a:pt x="239" y="649"/>
                        </a:lnTo>
                        <a:lnTo>
                          <a:pt x="216" y="640"/>
                        </a:lnTo>
                        <a:lnTo>
                          <a:pt x="195" y="628"/>
                        </a:lnTo>
                        <a:lnTo>
                          <a:pt x="174" y="617"/>
                        </a:lnTo>
                        <a:lnTo>
                          <a:pt x="155" y="604"/>
                        </a:lnTo>
                        <a:lnTo>
                          <a:pt x="136" y="591"/>
                        </a:lnTo>
                        <a:lnTo>
                          <a:pt x="118" y="576"/>
                        </a:lnTo>
                        <a:lnTo>
                          <a:pt x="100" y="561"/>
                        </a:lnTo>
                        <a:lnTo>
                          <a:pt x="84" y="543"/>
                        </a:lnTo>
                        <a:lnTo>
                          <a:pt x="68" y="525"/>
                        </a:lnTo>
                        <a:lnTo>
                          <a:pt x="53" y="504"/>
                        </a:lnTo>
                        <a:lnTo>
                          <a:pt x="39" y="484"/>
                        </a:lnTo>
                        <a:lnTo>
                          <a:pt x="28" y="460"/>
                        </a:lnTo>
                        <a:lnTo>
                          <a:pt x="17" y="435"/>
                        </a:lnTo>
                        <a:lnTo>
                          <a:pt x="8" y="398"/>
                        </a:lnTo>
                        <a:lnTo>
                          <a:pt x="3" y="357"/>
                        </a:lnTo>
                        <a:lnTo>
                          <a:pt x="2" y="339"/>
                        </a:lnTo>
                        <a:lnTo>
                          <a:pt x="0" y="317"/>
                        </a:lnTo>
                        <a:lnTo>
                          <a:pt x="0" y="296"/>
                        </a:lnTo>
                        <a:lnTo>
                          <a:pt x="0" y="275"/>
                        </a:lnTo>
                        <a:lnTo>
                          <a:pt x="2" y="256"/>
                        </a:lnTo>
                        <a:lnTo>
                          <a:pt x="5" y="235"/>
                        </a:lnTo>
                        <a:lnTo>
                          <a:pt x="10" y="216"/>
                        </a:lnTo>
                        <a:lnTo>
                          <a:pt x="17" y="198"/>
                        </a:lnTo>
                        <a:lnTo>
                          <a:pt x="26" y="180"/>
                        </a:lnTo>
                        <a:lnTo>
                          <a:pt x="35" y="164"/>
                        </a:lnTo>
                        <a:lnTo>
                          <a:pt x="49" y="148"/>
                        </a:lnTo>
                        <a:lnTo>
                          <a:pt x="65" y="133"/>
                        </a:lnTo>
                        <a:lnTo>
                          <a:pt x="82" y="115"/>
                        </a:lnTo>
                        <a:lnTo>
                          <a:pt x="100" y="98"/>
                        </a:lnTo>
                        <a:lnTo>
                          <a:pt x="120" y="82"/>
                        </a:lnTo>
                        <a:lnTo>
                          <a:pt x="141" y="68"/>
                        </a:lnTo>
                        <a:lnTo>
                          <a:pt x="163" y="56"/>
                        </a:lnTo>
                        <a:lnTo>
                          <a:pt x="186" y="43"/>
                        </a:lnTo>
                        <a:lnTo>
                          <a:pt x="209" y="33"/>
                        </a:lnTo>
                        <a:lnTo>
                          <a:pt x="233" y="26"/>
                        </a:lnTo>
                        <a:lnTo>
                          <a:pt x="257" y="17"/>
                        </a:lnTo>
                        <a:lnTo>
                          <a:pt x="283" y="11"/>
                        </a:lnTo>
                        <a:lnTo>
                          <a:pt x="307" y="6"/>
                        </a:lnTo>
                        <a:lnTo>
                          <a:pt x="333" y="3"/>
                        </a:lnTo>
                        <a:lnTo>
                          <a:pt x="360" y="1"/>
                        </a:lnTo>
                        <a:lnTo>
                          <a:pt x="386" y="0"/>
                        </a:lnTo>
                        <a:lnTo>
                          <a:pt x="412" y="0"/>
                        </a:lnTo>
                        <a:lnTo>
                          <a:pt x="439" y="1"/>
                        </a:lnTo>
                        <a:lnTo>
                          <a:pt x="465" y="3"/>
                        </a:lnTo>
                        <a:lnTo>
                          <a:pt x="492" y="6"/>
                        </a:lnTo>
                        <a:lnTo>
                          <a:pt x="518" y="11"/>
                        </a:lnTo>
                        <a:lnTo>
                          <a:pt x="543" y="15"/>
                        </a:lnTo>
                        <a:lnTo>
                          <a:pt x="569" y="22"/>
                        </a:lnTo>
                        <a:lnTo>
                          <a:pt x="595" y="30"/>
                        </a:lnTo>
                        <a:lnTo>
                          <a:pt x="619" y="38"/>
                        </a:lnTo>
                        <a:lnTo>
                          <a:pt x="646" y="47"/>
                        </a:lnTo>
                        <a:lnTo>
                          <a:pt x="667" y="58"/>
                        </a:lnTo>
                        <a:lnTo>
                          <a:pt x="692" y="68"/>
                        </a:lnTo>
                        <a:lnTo>
                          <a:pt x="713" y="80"/>
                        </a:lnTo>
                        <a:lnTo>
                          <a:pt x="735" y="94"/>
                        </a:lnTo>
                        <a:lnTo>
                          <a:pt x="755" y="106"/>
                        </a:lnTo>
                        <a:lnTo>
                          <a:pt x="775" y="121"/>
                        </a:lnTo>
                        <a:lnTo>
                          <a:pt x="794" y="136"/>
                        </a:lnTo>
                        <a:lnTo>
                          <a:pt x="810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288120" y="255852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6">
                        <a:moveTo>
                          <a:pt x="330" y="19"/>
                        </a:moveTo>
                        <a:lnTo>
                          <a:pt x="300" y="43"/>
                        </a:lnTo>
                        <a:lnTo>
                          <a:pt x="266" y="68"/>
                        </a:lnTo>
                        <a:lnTo>
                          <a:pt x="248" y="79"/>
                        </a:lnTo>
                        <a:lnTo>
                          <a:pt x="229" y="90"/>
                        </a:lnTo>
                        <a:lnTo>
                          <a:pt x="209" y="100"/>
                        </a:lnTo>
                        <a:lnTo>
                          <a:pt x="190" y="109"/>
                        </a:lnTo>
                        <a:lnTo>
                          <a:pt x="169" y="118"/>
                        </a:lnTo>
                        <a:lnTo>
                          <a:pt x="148" y="125"/>
                        </a:lnTo>
                        <a:lnTo>
                          <a:pt x="127" y="132"/>
                        </a:lnTo>
                        <a:lnTo>
                          <a:pt x="106" y="139"/>
                        </a:lnTo>
                        <a:lnTo>
                          <a:pt x="83" y="143"/>
                        </a:lnTo>
                        <a:lnTo>
                          <a:pt x="59" y="145"/>
                        </a:lnTo>
                        <a:lnTo>
                          <a:pt x="37" y="146"/>
                        </a:lnTo>
                        <a:lnTo>
                          <a:pt x="12" y="146"/>
                        </a:lnTo>
                        <a:lnTo>
                          <a:pt x="0" y="98"/>
                        </a:lnTo>
                        <a:lnTo>
                          <a:pt x="21" y="92"/>
                        </a:lnTo>
                        <a:lnTo>
                          <a:pt x="41" y="85"/>
                        </a:lnTo>
                        <a:lnTo>
                          <a:pt x="61" y="75"/>
                        </a:lnTo>
                        <a:lnTo>
                          <a:pt x="82" y="66"/>
                        </a:lnTo>
                        <a:lnTo>
                          <a:pt x="124" y="45"/>
                        </a:lnTo>
                        <a:lnTo>
                          <a:pt x="166" y="24"/>
                        </a:lnTo>
                        <a:lnTo>
                          <a:pt x="185" y="16"/>
                        </a:lnTo>
                        <a:lnTo>
                          <a:pt x="206" y="7"/>
                        </a:lnTo>
                        <a:lnTo>
                          <a:pt x="227" y="3"/>
                        </a:lnTo>
                        <a:lnTo>
                          <a:pt x="248" y="0"/>
                        </a:lnTo>
                        <a:lnTo>
                          <a:pt x="269" y="0"/>
                        </a:lnTo>
                        <a:lnTo>
                          <a:pt x="290" y="3"/>
                        </a:lnTo>
                        <a:lnTo>
                          <a:pt x="300" y="4"/>
                        </a:lnTo>
                        <a:lnTo>
                          <a:pt x="309" y="9"/>
                        </a:lnTo>
                        <a:lnTo>
                          <a:pt x="321" y="12"/>
                        </a:lnTo>
                        <a:lnTo>
                          <a:pt x="33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06480" y="2599560"/>
                    <a:ext cx="20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8">
                        <a:moveTo>
                          <a:pt x="314" y="48"/>
                        </a:moveTo>
                        <a:lnTo>
                          <a:pt x="299" y="63"/>
                        </a:lnTo>
                        <a:lnTo>
                          <a:pt x="281" y="75"/>
                        </a:lnTo>
                        <a:lnTo>
                          <a:pt x="263" y="89"/>
                        </a:lnTo>
                        <a:lnTo>
                          <a:pt x="246" y="99"/>
                        </a:lnTo>
                        <a:lnTo>
                          <a:pt x="208" y="119"/>
                        </a:lnTo>
                        <a:lnTo>
                          <a:pt x="169" y="139"/>
                        </a:lnTo>
                        <a:lnTo>
                          <a:pt x="131" y="154"/>
                        </a:lnTo>
                        <a:lnTo>
                          <a:pt x="92" y="170"/>
                        </a:lnTo>
                        <a:lnTo>
                          <a:pt x="54" y="188"/>
                        </a:lnTo>
                        <a:lnTo>
                          <a:pt x="15" y="208"/>
                        </a:lnTo>
                        <a:lnTo>
                          <a:pt x="8" y="192"/>
                        </a:lnTo>
                        <a:lnTo>
                          <a:pt x="4" y="177"/>
                        </a:lnTo>
                        <a:lnTo>
                          <a:pt x="0" y="164"/>
                        </a:lnTo>
                        <a:lnTo>
                          <a:pt x="0" y="152"/>
                        </a:lnTo>
                        <a:lnTo>
                          <a:pt x="0" y="142"/>
                        </a:lnTo>
                        <a:lnTo>
                          <a:pt x="2" y="134"/>
                        </a:lnTo>
                        <a:lnTo>
                          <a:pt x="4" y="125"/>
                        </a:lnTo>
                        <a:lnTo>
                          <a:pt x="8" y="117"/>
                        </a:lnTo>
                        <a:lnTo>
                          <a:pt x="13" y="113"/>
                        </a:lnTo>
                        <a:lnTo>
                          <a:pt x="19" y="106"/>
                        </a:lnTo>
                        <a:lnTo>
                          <a:pt x="28" y="103"/>
                        </a:lnTo>
                        <a:lnTo>
                          <a:pt x="36" y="98"/>
                        </a:lnTo>
                        <a:lnTo>
                          <a:pt x="54" y="92"/>
                        </a:lnTo>
                        <a:lnTo>
                          <a:pt x="75" y="87"/>
                        </a:lnTo>
                        <a:lnTo>
                          <a:pt x="95" y="81"/>
                        </a:lnTo>
                        <a:lnTo>
                          <a:pt x="118" y="78"/>
                        </a:lnTo>
                        <a:lnTo>
                          <a:pt x="140" y="72"/>
                        </a:lnTo>
                        <a:lnTo>
                          <a:pt x="161" y="64"/>
                        </a:lnTo>
                        <a:lnTo>
                          <a:pt x="173" y="60"/>
                        </a:lnTo>
                        <a:lnTo>
                          <a:pt x="182" y="54"/>
                        </a:lnTo>
                        <a:lnTo>
                          <a:pt x="190" y="48"/>
                        </a:lnTo>
                        <a:lnTo>
                          <a:pt x="199" y="40"/>
                        </a:lnTo>
                        <a:lnTo>
                          <a:pt x="207" y="31"/>
                        </a:lnTo>
                        <a:lnTo>
                          <a:pt x="213" y="22"/>
                        </a:lnTo>
                        <a:lnTo>
                          <a:pt x="217" y="13"/>
                        </a:lnTo>
                        <a:lnTo>
                          <a:pt x="223" y="0"/>
                        </a:lnTo>
                        <a:lnTo>
                          <a:pt x="237" y="0"/>
                        </a:lnTo>
                        <a:lnTo>
                          <a:pt x="253" y="0"/>
                        </a:lnTo>
                        <a:lnTo>
                          <a:pt x="267" y="1"/>
                        </a:lnTo>
                        <a:lnTo>
                          <a:pt x="282" y="6"/>
                        </a:lnTo>
                        <a:lnTo>
                          <a:pt x="288" y="9"/>
                        </a:lnTo>
                        <a:lnTo>
                          <a:pt x="294" y="13"/>
                        </a:lnTo>
                        <a:lnTo>
                          <a:pt x="300" y="18"/>
                        </a:lnTo>
                        <a:lnTo>
                          <a:pt x="305" y="22"/>
                        </a:lnTo>
                        <a:lnTo>
                          <a:pt x="308" y="27"/>
                        </a:lnTo>
                        <a:lnTo>
                          <a:pt x="311" y="33"/>
                        </a:lnTo>
                        <a:lnTo>
                          <a:pt x="313" y="40"/>
                        </a:lnTo>
                        <a:lnTo>
                          <a:pt x="31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72000" y="2610000"/>
                    <a:ext cx="658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2" h="957">
                        <a:moveTo>
                          <a:pt x="986" y="369"/>
                        </a:moveTo>
                        <a:lnTo>
                          <a:pt x="994" y="387"/>
                        </a:lnTo>
                        <a:lnTo>
                          <a:pt x="1001" y="408"/>
                        </a:lnTo>
                        <a:lnTo>
                          <a:pt x="1008" y="431"/>
                        </a:lnTo>
                        <a:lnTo>
                          <a:pt x="1013" y="454"/>
                        </a:lnTo>
                        <a:lnTo>
                          <a:pt x="1016" y="478"/>
                        </a:lnTo>
                        <a:lnTo>
                          <a:pt x="1019" y="502"/>
                        </a:lnTo>
                        <a:lnTo>
                          <a:pt x="1021" y="526"/>
                        </a:lnTo>
                        <a:lnTo>
                          <a:pt x="1022" y="550"/>
                        </a:lnTo>
                        <a:lnTo>
                          <a:pt x="1021" y="576"/>
                        </a:lnTo>
                        <a:lnTo>
                          <a:pt x="1019" y="600"/>
                        </a:lnTo>
                        <a:lnTo>
                          <a:pt x="1016" y="625"/>
                        </a:lnTo>
                        <a:lnTo>
                          <a:pt x="1013" y="649"/>
                        </a:lnTo>
                        <a:lnTo>
                          <a:pt x="1008" y="671"/>
                        </a:lnTo>
                        <a:lnTo>
                          <a:pt x="1001" y="694"/>
                        </a:lnTo>
                        <a:lnTo>
                          <a:pt x="994" y="715"/>
                        </a:lnTo>
                        <a:lnTo>
                          <a:pt x="986" y="735"/>
                        </a:lnTo>
                        <a:lnTo>
                          <a:pt x="966" y="765"/>
                        </a:lnTo>
                        <a:lnTo>
                          <a:pt x="945" y="792"/>
                        </a:lnTo>
                        <a:lnTo>
                          <a:pt x="924" y="818"/>
                        </a:lnTo>
                        <a:lnTo>
                          <a:pt x="901" y="841"/>
                        </a:lnTo>
                        <a:lnTo>
                          <a:pt x="876" y="863"/>
                        </a:lnTo>
                        <a:lnTo>
                          <a:pt x="850" y="881"/>
                        </a:lnTo>
                        <a:lnTo>
                          <a:pt x="824" y="898"/>
                        </a:lnTo>
                        <a:lnTo>
                          <a:pt x="795" y="913"/>
                        </a:lnTo>
                        <a:lnTo>
                          <a:pt x="766" y="925"/>
                        </a:lnTo>
                        <a:lnTo>
                          <a:pt x="738" y="936"/>
                        </a:lnTo>
                        <a:lnTo>
                          <a:pt x="705" y="944"/>
                        </a:lnTo>
                        <a:lnTo>
                          <a:pt x="674" y="951"/>
                        </a:lnTo>
                        <a:lnTo>
                          <a:pt x="642" y="954"/>
                        </a:lnTo>
                        <a:lnTo>
                          <a:pt x="608" y="957"/>
                        </a:lnTo>
                        <a:lnTo>
                          <a:pt x="574" y="957"/>
                        </a:lnTo>
                        <a:lnTo>
                          <a:pt x="538" y="956"/>
                        </a:lnTo>
                        <a:lnTo>
                          <a:pt x="500" y="954"/>
                        </a:lnTo>
                        <a:lnTo>
                          <a:pt x="461" y="947"/>
                        </a:lnTo>
                        <a:lnTo>
                          <a:pt x="423" y="939"/>
                        </a:lnTo>
                        <a:lnTo>
                          <a:pt x="384" y="930"/>
                        </a:lnTo>
                        <a:lnTo>
                          <a:pt x="347" y="916"/>
                        </a:lnTo>
                        <a:lnTo>
                          <a:pt x="311" y="901"/>
                        </a:lnTo>
                        <a:lnTo>
                          <a:pt x="276" y="883"/>
                        </a:lnTo>
                        <a:lnTo>
                          <a:pt x="242" y="862"/>
                        </a:lnTo>
                        <a:lnTo>
                          <a:pt x="210" y="841"/>
                        </a:lnTo>
                        <a:lnTo>
                          <a:pt x="180" y="817"/>
                        </a:lnTo>
                        <a:lnTo>
                          <a:pt x="150" y="791"/>
                        </a:lnTo>
                        <a:lnTo>
                          <a:pt x="122" y="764"/>
                        </a:lnTo>
                        <a:lnTo>
                          <a:pt x="97" y="733"/>
                        </a:lnTo>
                        <a:lnTo>
                          <a:pt x="72" y="702"/>
                        </a:lnTo>
                        <a:lnTo>
                          <a:pt x="51" y="671"/>
                        </a:lnTo>
                        <a:lnTo>
                          <a:pt x="33" y="638"/>
                        </a:lnTo>
                        <a:lnTo>
                          <a:pt x="19" y="614"/>
                        </a:lnTo>
                        <a:lnTo>
                          <a:pt x="12" y="590"/>
                        </a:lnTo>
                        <a:lnTo>
                          <a:pt x="5" y="564"/>
                        </a:lnTo>
                        <a:lnTo>
                          <a:pt x="1" y="540"/>
                        </a:lnTo>
                        <a:lnTo>
                          <a:pt x="0" y="514"/>
                        </a:lnTo>
                        <a:lnTo>
                          <a:pt x="0" y="488"/>
                        </a:lnTo>
                        <a:lnTo>
                          <a:pt x="1" y="461"/>
                        </a:lnTo>
                        <a:lnTo>
                          <a:pt x="5" y="436"/>
                        </a:lnTo>
                        <a:lnTo>
                          <a:pt x="13" y="383"/>
                        </a:lnTo>
                        <a:lnTo>
                          <a:pt x="23" y="331"/>
                        </a:lnTo>
                        <a:lnTo>
                          <a:pt x="26" y="304"/>
                        </a:lnTo>
                        <a:lnTo>
                          <a:pt x="29" y="278"/>
                        </a:lnTo>
                        <a:lnTo>
                          <a:pt x="31" y="252"/>
                        </a:lnTo>
                        <a:lnTo>
                          <a:pt x="33" y="227"/>
                        </a:lnTo>
                        <a:lnTo>
                          <a:pt x="48" y="189"/>
                        </a:lnTo>
                        <a:lnTo>
                          <a:pt x="66" y="156"/>
                        </a:lnTo>
                        <a:lnTo>
                          <a:pt x="84" y="125"/>
                        </a:lnTo>
                        <a:lnTo>
                          <a:pt x="104" y="99"/>
                        </a:lnTo>
                        <a:lnTo>
                          <a:pt x="124" y="75"/>
                        </a:lnTo>
                        <a:lnTo>
                          <a:pt x="145" y="56"/>
                        </a:lnTo>
                        <a:lnTo>
                          <a:pt x="168" y="39"/>
                        </a:lnTo>
                        <a:lnTo>
                          <a:pt x="190" y="27"/>
                        </a:lnTo>
                        <a:lnTo>
                          <a:pt x="213" y="17"/>
                        </a:lnTo>
                        <a:lnTo>
                          <a:pt x="237" y="9"/>
                        </a:lnTo>
                        <a:lnTo>
                          <a:pt x="261" y="4"/>
                        </a:lnTo>
                        <a:lnTo>
                          <a:pt x="287" y="1"/>
                        </a:lnTo>
                        <a:lnTo>
                          <a:pt x="313" y="0"/>
                        </a:lnTo>
                        <a:lnTo>
                          <a:pt x="337" y="1"/>
                        </a:lnTo>
                        <a:lnTo>
                          <a:pt x="364" y="4"/>
                        </a:lnTo>
                        <a:lnTo>
                          <a:pt x="390" y="9"/>
                        </a:lnTo>
                        <a:lnTo>
                          <a:pt x="416" y="15"/>
                        </a:lnTo>
                        <a:lnTo>
                          <a:pt x="442" y="21"/>
                        </a:lnTo>
                        <a:lnTo>
                          <a:pt x="470" y="30"/>
                        </a:lnTo>
                        <a:lnTo>
                          <a:pt x="496" y="39"/>
                        </a:lnTo>
                        <a:lnTo>
                          <a:pt x="547" y="60"/>
                        </a:lnTo>
                        <a:lnTo>
                          <a:pt x="597" y="83"/>
                        </a:lnTo>
                        <a:lnTo>
                          <a:pt x="647" y="106"/>
                        </a:lnTo>
                        <a:lnTo>
                          <a:pt x="694" y="127"/>
                        </a:lnTo>
                        <a:lnTo>
                          <a:pt x="738" y="146"/>
                        </a:lnTo>
                        <a:lnTo>
                          <a:pt x="777" y="160"/>
                        </a:lnTo>
                        <a:lnTo>
                          <a:pt x="986" y="3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326640" y="2640240"/>
                    <a:ext cx="230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296">
                        <a:moveTo>
                          <a:pt x="358" y="138"/>
                        </a:moveTo>
                        <a:lnTo>
                          <a:pt x="327" y="162"/>
                        </a:lnTo>
                        <a:lnTo>
                          <a:pt x="296" y="188"/>
                        </a:lnTo>
                        <a:lnTo>
                          <a:pt x="263" y="216"/>
                        </a:lnTo>
                        <a:lnTo>
                          <a:pt x="229" y="240"/>
                        </a:lnTo>
                        <a:lnTo>
                          <a:pt x="210" y="252"/>
                        </a:lnTo>
                        <a:lnTo>
                          <a:pt x="192" y="263"/>
                        </a:lnTo>
                        <a:lnTo>
                          <a:pt x="172" y="272"/>
                        </a:lnTo>
                        <a:lnTo>
                          <a:pt x="152" y="280"/>
                        </a:lnTo>
                        <a:lnTo>
                          <a:pt x="134" y="287"/>
                        </a:lnTo>
                        <a:lnTo>
                          <a:pt x="113" y="293"/>
                        </a:lnTo>
                        <a:lnTo>
                          <a:pt x="93" y="296"/>
                        </a:lnTo>
                        <a:lnTo>
                          <a:pt x="71" y="296"/>
                        </a:lnTo>
                        <a:lnTo>
                          <a:pt x="61" y="280"/>
                        </a:lnTo>
                        <a:lnTo>
                          <a:pt x="48" y="264"/>
                        </a:lnTo>
                        <a:lnTo>
                          <a:pt x="34" y="248"/>
                        </a:lnTo>
                        <a:lnTo>
                          <a:pt x="21" y="233"/>
                        </a:lnTo>
                        <a:lnTo>
                          <a:pt x="14" y="225"/>
                        </a:lnTo>
                        <a:lnTo>
                          <a:pt x="8" y="216"/>
                        </a:lnTo>
                        <a:lnTo>
                          <a:pt x="4" y="207"/>
                        </a:lnTo>
                        <a:lnTo>
                          <a:pt x="1" y="198"/>
                        </a:lnTo>
                        <a:lnTo>
                          <a:pt x="0" y="188"/>
                        </a:lnTo>
                        <a:lnTo>
                          <a:pt x="0" y="178"/>
                        </a:lnTo>
                        <a:lnTo>
                          <a:pt x="1" y="167"/>
                        </a:lnTo>
                        <a:lnTo>
                          <a:pt x="4" y="156"/>
                        </a:lnTo>
                        <a:lnTo>
                          <a:pt x="27" y="146"/>
                        </a:lnTo>
                        <a:lnTo>
                          <a:pt x="51" y="131"/>
                        </a:lnTo>
                        <a:lnTo>
                          <a:pt x="77" y="113"/>
                        </a:lnTo>
                        <a:lnTo>
                          <a:pt x="103" y="95"/>
                        </a:lnTo>
                        <a:lnTo>
                          <a:pt x="132" y="74"/>
                        </a:lnTo>
                        <a:lnTo>
                          <a:pt x="160" y="54"/>
                        </a:lnTo>
                        <a:lnTo>
                          <a:pt x="187" y="35"/>
                        </a:lnTo>
                        <a:lnTo>
                          <a:pt x="214" y="19"/>
                        </a:lnTo>
                        <a:lnTo>
                          <a:pt x="229" y="12"/>
                        </a:lnTo>
                        <a:lnTo>
                          <a:pt x="242" y="7"/>
                        </a:lnTo>
                        <a:lnTo>
                          <a:pt x="253" y="3"/>
                        </a:lnTo>
                        <a:lnTo>
                          <a:pt x="266" y="0"/>
                        </a:lnTo>
                        <a:lnTo>
                          <a:pt x="278" y="0"/>
                        </a:lnTo>
                        <a:lnTo>
                          <a:pt x="288" y="0"/>
                        </a:lnTo>
                        <a:lnTo>
                          <a:pt x="300" y="3"/>
                        </a:lnTo>
                        <a:lnTo>
                          <a:pt x="309" y="7"/>
                        </a:lnTo>
                        <a:lnTo>
                          <a:pt x="319" y="13"/>
                        </a:lnTo>
                        <a:lnTo>
                          <a:pt x="327" y="24"/>
                        </a:lnTo>
                        <a:lnTo>
                          <a:pt x="335" y="35"/>
                        </a:lnTo>
                        <a:lnTo>
                          <a:pt x="341" y="49"/>
                        </a:lnTo>
                        <a:lnTo>
                          <a:pt x="346" y="67"/>
                        </a:lnTo>
                        <a:lnTo>
                          <a:pt x="352" y="86"/>
                        </a:lnTo>
                        <a:lnTo>
                          <a:pt x="356" y="110"/>
                        </a:lnTo>
                        <a:lnTo>
                          <a:pt x="358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353280" y="268200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290" y="0"/>
                        </a:moveTo>
                        <a:lnTo>
                          <a:pt x="292" y="15"/>
                        </a:lnTo>
                        <a:lnTo>
                          <a:pt x="292" y="27"/>
                        </a:lnTo>
                        <a:lnTo>
                          <a:pt x="292" y="39"/>
                        </a:lnTo>
                        <a:lnTo>
                          <a:pt x="290" y="50"/>
                        </a:lnTo>
                        <a:lnTo>
                          <a:pt x="287" y="62"/>
                        </a:lnTo>
                        <a:lnTo>
                          <a:pt x="283" y="73"/>
                        </a:lnTo>
                        <a:lnTo>
                          <a:pt x="278" y="83"/>
                        </a:lnTo>
                        <a:lnTo>
                          <a:pt x="273" y="92"/>
                        </a:lnTo>
                        <a:lnTo>
                          <a:pt x="259" y="110"/>
                        </a:lnTo>
                        <a:lnTo>
                          <a:pt x="242" y="128"/>
                        </a:lnTo>
                        <a:lnTo>
                          <a:pt x="225" y="142"/>
                        </a:lnTo>
                        <a:lnTo>
                          <a:pt x="204" y="159"/>
                        </a:lnTo>
                        <a:lnTo>
                          <a:pt x="159" y="186"/>
                        </a:lnTo>
                        <a:lnTo>
                          <a:pt x="113" y="213"/>
                        </a:lnTo>
                        <a:lnTo>
                          <a:pt x="91" y="228"/>
                        </a:lnTo>
                        <a:lnTo>
                          <a:pt x="70" y="242"/>
                        </a:lnTo>
                        <a:lnTo>
                          <a:pt x="50" y="259"/>
                        </a:lnTo>
                        <a:lnTo>
                          <a:pt x="35" y="275"/>
                        </a:lnTo>
                        <a:lnTo>
                          <a:pt x="28" y="266"/>
                        </a:lnTo>
                        <a:lnTo>
                          <a:pt x="21" y="262"/>
                        </a:lnTo>
                        <a:lnTo>
                          <a:pt x="15" y="259"/>
                        </a:lnTo>
                        <a:lnTo>
                          <a:pt x="9" y="255"/>
                        </a:lnTo>
                        <a:lnTo>
                          <a:pt x="4" y="252"/>
                        </a:lnTo>
                        <a:lnTo>
                          <a:pt x="0" y="247"/>
                        </a:lnTo>
                        <a:lnTo>
                          <a:pt x="0" y="239"/>
                        </a:lnTo>
                        <a:lnTo>
                          <a:pt x="4" y="227"/>
                        </a:lnTo>
                        <a:lnTo>
                          <a:pt x="9" y="210"/>
                        </a:lnTo>
                        <a:lnTo>
                          <a:pt x="17" y="195"/>
                        </a:lnTo>
                        <a:lnTo>
                          <a:pt x="26" y="181"/>
                        </a:lnTo>
                        <a:lnTo>
                          <a:pt x="38" y="165"/>
                        </a:lnTo>
                        <a:lnTo>
                          <a:pt x="50" y="150"/>
                        </a:lnTo>
                        <a:lnTo>
                          <a:pt x="65" y="138"/>
                        </a:lnTo>
                        <a:lnTo>
                          <a:pt x="80" y="123"/>
                        </a:lnTo>
                        <a:lnTo>
                          <a:pt x="95" y="109"/>
                        </a:lnTo>
                        <a:lnTo>
                          <a:pt x="162" y="53"/>
                        </a:lnTo>
                        <a:lnTo>
                          <a:pt x="224" y="0"/>
                        </a:lnTo>
                        <a:lnTo>
                          <a:pt x="2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246000" y="27054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0"/>
                        </a:moveTo>
                        <a:lnTo>
                          <a:pt x="18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84600" y="2719440"/>
                    <a:ext cx="16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31">
                        <a:moveTo>
                          <a:pt x="270" y="11"/>
                        </a:moveTo>
                        <a:lnTo>
                          <a:pt x="263" y="31"/>
                        </a:lnTo>
                        <a:lnTo>
                          <a:pt x="256" y="50"/>
                        </a:lnTo>
                        <a:lnTo>
                          <a:pt x="245" y="71"/>
                        </a:lnTo>
                        <a:lnTo>
                          <a:pt x="233" y="89"/>
                        </a:lnTo>
                        <a:lnTo>
                          <a:pt x="218" y="109"/>
                        </a:lnTo>
                        <a:lnTo>
                          <a:pt x="203" y="124"/>
                        </a:lnTo>
                        <a:lnTo>
                          <a:pt x="186" y="142"/>
                        </a:lnTo>
                        <a:lnTo>
                          <a:pt x="170" y="157"/>
                        </a:lnTo>
                        <a:lnTo>
                          <a:pt x="150" y="171"/>
                        </a:lnTo>
                        <a:lnTo>
                          <a:pt x="131" y="185"/>
                        </a:lnTo>
                        <a:lnTo>
                          <a:pt x="114" y="197"/>
                        </a:lnTo>
                        <a:lnTo>
                          <a:pt x="93" y="207"/>
                        </a:lnTo>
                        <a:lnTo>
                          <a:pt x="73" y="215"/>
                        </a:lnTo>
                        <a:lnTo>
                          <a:pt x="55" y="223"/>
                        </a:lnTo>
                        <a:lnTo>
                          <a:pt x="36" y="228"/>
                        </a:lnTo>
                        <a:lnTo>
                          <a:pt x="18" y="231"/>
                        </a:lnTo>
                        <a:lnTo>
                          <a:pt x="0" y="213"/>
                        </a:lnTo>
                        <a:lnTo>
                          <a:pt x="15" y="202"/>
                        </a:lnTo>
                        <a:lnTo>
                          <a:pt x="29" y="186"/>
                        </a:lnTo>
                        <a:lnTo>
                          <a:pt x="44" y="168"/>
                        </a:lnTo>
                        <a:lnTo>
                          <a:pt x="58" y="149"/>
                        </a:lnTo>
                        <a:lnTo>
                          <a:pt x="86" y="109"/>
                        </a:lnTo>
                        <a:lnTo>
                          <a:pt x="115" y="70"/>
                        </a:lnTo>
                        <a:lnTo>
                          <a:pt x="131" y="50"/>
                        </a:lnTo>
                        <a:lnTo>
                          <a:pt x="147" y="35"/>
                        </a:lnTo>
                        <a:lnTo>
                          <a:pt x="165" y="21"/>
                        </a:lnTo>
                        <a:lnTo>
                          <a:pt x="183" y="11"/>
                        </a:lnTo>
                        <a:lnTo>
                          <a:pt x="192" y="5"/>
                        </a:lnTo>
                        <a:lnTo>
                          <a:pt x="203" y="3"/>
                        </a:lnTo>
                        <a:lnTo>
                          <a:pt x="214" y="0"/>
                        </a:lnTo>
                        <a:lnTo>
                          <a:pt x="223" y="0"/>
                        </a:lnTo>
                        <a:lnTo>
                          <a:pt x="235" y="0"/>
                        </a:lnTo>
                        <a:lnTo>
                          <a:pt x="245" y="2"/>
                        </a:lnTo>
                        <a:lnTo>
                          <a:pt x="259" y="5"/>
                        </a:lnTo>
                        <a:lnTo>
                          <a:pt x="27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260040" y="2414880"/>
                    <a:ext cx="32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49">
                        <a:moveTo>
                          <a:pt x="499" y="123"/>
                        </a:moveTo>
                        <a:lnTo>
                          <a:pt x="498" y="110"/>
                        </a:lnTo>
                        <a:lnTo>
                          <a:pt x="495" y="97"/>
                        </a:lnTo>
                        <a:lnTo>
                          <a:pt x="488" y="86"/>
                        </a:lnTo>
                        <a:lnTo>
                          <a:pt x="478" y="74"/>
                        </a:lnTo>
                        <a:lnTo>
                          <a:pt x="469" y="63"/>
                        </a:lnTo>
                        <a:lnTo>
                          <a:pt x="455" y="54"/>
                        </a:lnTo>
                        <a:lnTo>
                          <a:pt x="441" y="44"/>
                        </a:lnTo>
                        <a:lnTo>
                          <a:pt x="425" y="35"/>
                        </a:lnTo>
                        <a:lnTo>
                          <a:pt x="407" y="26"/>
                        </a:lnTo>
                        <a:lnTo>
                          <a:pt x="388" y="20"/>
                        </a:lnTo>
                        <a:lnTo>
                          <a:pt x="367" y="14"/>
                        </a:lnTo>
                        <a:lnTo>
                          <a:pt x="346" y="9"/>
                        </a:lnTo>
                        <a:lnTo>
                          <a:pt x="322" y="6"/>
                        </a:lnTo>
                        <a:lnTo>
                          <a:pt x="299" y="2"/>
                        </a:lnTo>
                        <a:lnTo>
                          <a:pt x="274" y="0"/>
                        </a:lnTo>
                        <a:lnTo>
                          <a:pt x="248" y="0"/>
                        </a:lnTo>
                        <a:lnTo>
                          <a:pt x="224" y="0"/>
                        </a:lnTo>
                        <a:lnTo>
                          <a:pt x="198" y="2"/>
                        </a:lnTo>
                        <a:lnTo>
                          <a:pt x="174" y="6"/>
                        </a:lnTo>
                        <a:lnTo>
                          <a:pt x="151" y="10"/>
                        </a:lnTo>
                        <a:lnTo>
                          <a:pt x="130" y="17"/>
                        </a:lnTo>
                        <a:lnTo>
                          <a:pt x="109" y="21"/>
                        </a:lnTo>
                        <a:lnTo>
                          <a:pt x="89" y="30"/>
                        </a:lnTo>
                        <a:lnTo>
                          <a:pt x="72" y="38"/>
                        </a:lnTo>
                        <a:lnTo>
                          <a:pt x="56" y="47"/>
                        </a:lnTo>
                        <a:lnTo>
                          <a:pt x="41" y="57"/>
                        </a:lnTo>
                        <a:lnTo>
                          <a:pt x="29" y="67"/>
                        </a:lnTo>
                        <a:lnTo>
                          <a:pt x="18" y="78"/>
                        </a:lnTo>
                        <a:lnTo>
                          <a:pt x="11" y="89"/>
                        </a:lnTo>
                        <a:lnTo>
                          <a:pt x="4" y="103"/>
                        </a:lnTo>
                        <a:lnTo>
                          <a:pt x="1" y="113"/>
                        </a:lnTo>
                        <a:lnTo>
                          <a:pt x="0" y="127"/>
                        </a:lnTo>
                        <a:lnTo>
                          <a:pt x="1" y="139"/>
                        </a:lnTo>
                        <a:lnTo>
                          <a:pt x="4" y="153"/>
                        </a:lnTo>
                        <a:lnTo>
                          <a:pt x="11" y="163"/>
                        </a:lnTo>
                        <a:lnTo>
                          <a:pt x="21" y="175"/>
                        </a:lnTo>
                        <a:lnTo>
                          <a:pt x="30" y="186"/>
                        </a:lnTo>
                        <a:lnTo>
                          <a:pt x="43" y="195"/>
                        </a:lnTo>
                        <a:lnTo>
                          <a:pt x="57" y="206"/>
                        </a:lnTo>
                        <a:lnTo>
                          <a:pt x="74" y="215"/>
                        </a:lnTo>
                        <a:lnTo>
                          <a:pt x="91" y="224"/>
                        </a:lnTo>
                        <a:lnTo>
                          <a:pt x="110" y="230"/>
                        </a:lnTo>
                        <a:lnTo>
                          <a:pt x="132" y="236"/>
                        </a:lnTo>
                        <a:lnTo>
                          <a:pt x="153" y="241"/>
                        </a:lnTo>
                        <a:lnTo>
                          <a:pt x="175" y="244"/>
                        </a:lnTo>
                        <a:lnTo>
                          <a:pt x="200" y="248"/>
                        </a:lnTo>
                        <a:lnTo>
                          <a:pt x="225" y="249"/>
                        </a:lnTo>
                        <a:lnTo>
                          <a:pt x="251" y="249"/>
                        </a:lnTo>
                        <a:lnTo>
                          <a:pt x="275" y="249"/>
                        </a:lnTo>
                        <a:lnTo>
                          <a:pt x="301" y="248"/>
                        </a:lnTo>
                        <a:lnTo>
                          <a:pt x="325" y="244"/>
                        </a:lnTo>
                        <a:lnTo>
                          <a:pt x="348" y="239"/>
                        </a:lnTo>
                        <a:lnTo>
                          <a:pt x="369" y="233"/>
                        </a:lnTo>
                        <a:lnTo>
                          <a:pt x="390" y="227"/>
                        </a:lnTo>
                        <a:lnTo>
                          <a:pt x="410" y="219"/>
                        </a:lnTo>
                        <a:lnTo>
                          <a:pt x="427" y="212"/>
                        </a:lnTo>
                        <a:lnTo>
                          <a:pt x="443" y="202"/>
                        </a:lnTo>
                        <a:lnTo>
                          <a:pt x="457" y="192"/>
                        </a:lnTo>
                        <a:lnTo>
                          <a:pt x="469" y="183"/>
                        </a:lnTo>
                        <a:lnTo>
                          <a:pt x="480" y="171"/>
                        </a:lnTo>
                        <a:lnTo>
                          <a:pt x="488" y="160"/>
                        </a:lnTo>
                        <a:lnTo>
                          <a:pt x="495" y="147"/>
                        </a:lnTo>
                        <a:lnTo>
                          <a:pt x="498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322680" y="2184480"/>
                    <a:ext cx="295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0">
                        <a:moveTo>
                          <a:pt x="459" y="262"/>
                        </a:moveTo>
                        <a:lnTo>
                          <a:pt x="463" y="249"/>
                        </a:lnTo>
                        <a:lnTo>
                          <a:pt x="465" y="236"/>
                        </a:lnTo>
                        <a:lnTo>
                          <a:pt x="465" y="223"/>
                        </a:lnTo>
                        <a:lnTo>
                          <a:pt x="462" y="209"/>
                        </a:lnTo>
                        <a:lnTo>
                          <a:pt x="457" y="194"/>
                        </a:lnTo>
                        <a:lnTo>
                          <a:pt x="450" y="180"/>
                        </a:lnTo>
                        <a:lnTo>
                          <a:pt x="441" y="165"/>
                        </a:lnTo>
                        <a:lnTo>
                          <a:pt x="430" y="150"/>
                        </a:lnTo>
                        <a:lnTo>
                          <a:pt x="418" y="136"/>
                        </a:lnTo>
                        <a:lnTo>
                          <a:pt x="403" y="121"/>
                        </a:lnTo>
                        <a:lnTo>
                          <a:pt x="387" y="107"/>
                        </a:lnTo>
                        <a:lnTo>
                          <a:pt x="369" y="92"/>
                        </a:lnTo>
                        <a:lnTo>
                          <a:pt x="350" y="80"/>
                        </a:lnTo>
                        <a:lnTo>
                          <a:pt x="330" y="67"/>
                        </a:lnTo>
                        <a:lnTo>
                          <a:pt x="308" y="54"/>
                        </a:lnTo>
                        <a:lnTo>
                          <a:pt x="285" y="42"/>
                        </a:lnTo>
                        <a:lnTo>
                          <a:pt x="263" y="32"/>
                        </a:lnTo>
                        <a:lnTo>
                          <a:pt x="239" y="23"/>
                        </a:lnTo>
                        <a:lnTo>
                          <a:pt x="217" y="15"/>
                        </a:lnTo>
                        <a:lnTo>
                          <a:pt x="194" y="11"/>
                        </a:lnTo>
                        <a:lnTo>
                          <a:pt x="171" y="6"/>
                        </a:lnTo>
                        <a:lnTo>
                          <a:pt x="150" y="2"/>
                        </a:lnTo>
                        <a:lnTo>
                          <a:pt x="131" y="0"/>
                        </a:lnTo>
                        <a:lnTo>
                          <a:pt x="111" y="0"/>
                        </a:lnTo>
                        <a:lnTo>
                          <a:pt x="92" y="0"/>
                        </a:lnTo>
                        <a:lnTo>
                          <a:pt x="76" y="3"/>
                        </a:lnTo>
                        <a:lnTo>
                          <a:pt x="60" y="9"/>
                        </a:lnTo>
                        <a:lnTo>
                          <a:pt x="46" y="14"/>
                        </a:lnTo>
                        <a:lnTo>
                          <a:pt x="32" y="20"/>
                        </a:lnTo>
                        <a:lnTo>
                          <a:pt x="23" y="28"/>
                        </a:lnTo>
                        <a:lnTo>
                          <a:pt x="13" y="38"/>
                        </a:lnTo>
                        <a:lnTo>
                          <a:pt x="7" y="49"/>
                        </a:lnTo>
                        <a:lnTo>
                          <a:pt x="3" y="60"/>
                        </a:lnTo>
                        <a:lnTo>
                          <a:pt x="0" y="73"/>
                        </a:lnTo>
                        <a:lnTo>
                          <a:pt x="2" y="88"/>
                        </a:lnTo>
                        <a:lnTo>
                          <a:pt x="3" y="100"/>
                        </a:lnTo>
                        <a:lnTo>
                          <a:pt x="8" y="115"/>
                        </a:lnTo>
                        <a:lnTo>
                          <a:pt x="16" y="130"/>
                        </a:lnTo>
                        <a:lnTo>
                          <a:pt x="25" y="145"/>
                        </a:lnTo>
                        <a:lnTo>
                          <a:pt x="35" y="160"/>
                        </a:lnTo>
                        <a:lnTo>
                          <a:pt x="49" y="174"/>
                        </a:lnTo>
                        <a:lnTo>
                          <a:pt x="63" y="189"/>
                        </a:lnTo>
                        <a:lnTo>
                          <a:pt x="79" y="204"/>
                        </a:lnTo>
                        <a:lnTo>
                          <a:pt x="96" y="218"/>
                        </a:lnTo>
                        <a:lnTo>
                          <a:pt x="114" y="231"/>
                        </a:lnTo>
                        <a:lnTo>
                          <a:pt x="135" y="244"/>
                        </a:lnTo>
                        <a:lnTo>
                          <a:pt x="156" y="257"/>
                        </a:lnTo>
                        <a:lnTo>
                          <a:pt x="179" y="268"/>
                        </a:lnTo>
                        <a:lnTo>
                          <a:pt x="203" y="278"/>
                        </a:lnTo>
                        <a:lnTo>
                          <a:pt x="226" y="287"/>
                        </a:lnTo>
                        <a:lnTo>
                          <a:pt x="249" y="294"/>
                        </a:lnTo>
                        <a:lnTo>
                          <a:pt x="271" y="301"/>
                        </a:lnTo>
                        <a:lnTo>
                          <a:pt x="294" y="306"/>
                        </a:lnTo>
                        <a:lnTo>
                          <a:pt x="315" y="309"/>
                        </a:lnTo>
                        <a:lnTo>
                          <a:pt x="336" y="310"/>
                        </a:lnTo>
                        <a:lnTo>
                          <a:pt x="355" y="310"/>
                        </a:lnTo>
                        <a:lnTo>
                          <a:pt x="373" y="309"/>
                        </a:lnTo>
                        <a:lnTo>
                          <a:pt x="391" y="307"/>
                        </a:lnTo>
                        <a:lnTo>
                          <a:pt x="406" y="302"/>
                        </a:lnTo>
                        <a:lnTo>
                          <a:pt x="421" y="298"/>
                        </a:lnTo>
                        <a:lnTo>
                          <a:pt x="433" y="291"/>
                        </a:lnTo>
                        <a:lnTo>
                          <a:pt x="444" y="283"/>
                        </a:lnTo>
                        <a:lnTo>
                          <a:pt x="451" y="274"/>
                        </a:lnTo>
                        <a:lnTo>
                          <a:pt x="459" y="2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726960" y="1950840"/>
                  <a:ext cx="349920" cy="174960"/>
                  <a:chOff x="6726960" y="1950840"/>
                  <a:chExt cx="349920" cy="1749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6776640" y="1960920"/>
                    <a:ext cx="8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32">
                        <a:moveTo>
                          <a:pt x="116" y="1"/>
                        </a:moveTo>
                        <a:lnTo>
                          <a:pt x="125" y="23"/>
                        </a:lnTo>
                        <a:lnTo>
                          <a:pt x="130" y="45"/>
                        </a:lnTo>
                        <a:lnTo>
                          <a:pt x="133" y="66"/>
                        </a:lnTo>
                        <a:lnTo>
                          <a:pt x="133" y="87"/>
                        </a:lnTo>
                        <a:lnTo>
                          <a:pt x="133" y="109"/>
                        </a:lnTo>
                        <a:lnTo>
                          <a:pt x="130" y="130"/>
                        </a:lnTo>
                        <a:lnTo>
                          <a:pt x="125" y="151"/>
                        </a:lnTo>
                        <a:lnTo>
                          <a:pt x="119" y="171"/>
                        </a:lnTo>
                        <a:lnTo>
                          <a:pt x="107" y="211"/>
                        </a:lnTo>
                        <a:lnTo>
                          <a:pt x="94" y="254"/>
                        </a:lnTo>
                        <a:lnTo>
                          <a:pt x="83" y="293"/>
                        </a:lnTo>
                        <a:lnTo>
                          <a:pt x="73" y="332"/>
                        </a:lnTo>
                        <a:lnTo>
                          <a:pt x="24" y="332"/>
                        </a:lnTo>
                        <a:lnTo>
                          <a:pt x="24" y="313"/>
                        </a:lnTo>
                        <a:lnTo>
                          <a:pt x="23" y="289"/>
                        </a:lnTo>
                        <a:lnTo>
                          <a:pt x="20" y="261"/>
                        </a:lnTo>
                        <a:lnTo>
                          <a:pt x="15" y="234"/>
                        </a:lnTo>
                        <a:lnTo>
                          <a:pt x="10" y="205"/>
                        </a:lnTo>
                        <a:lnTo>
                          <a:pt x="6" y="176"/>
                        </a:lnTo>
                        <a:lnTo>
                          <a:pt x="3" y="147"/>
                        </a:lnTo>
                        <a:lnTo>
                          <a:pt x="0" y="118"/>
                        </a:lnTo>
                        <a:lnTo>
                          <a:pt x="0" y="90"/>
                        </a:lnTo>
                        <a:lnTo>
                          <a:pt x="4" y="66"/>
                        </a:lnTo>
                        <a:lnTo>
                          <a:pt x="6" y="55"/>
                        </a:lnTo>
                        <a:lnTo>
                          <a:pt x="10" y="45"/>
                        </a:lnTo>
                        <a:lnTo>
                          <a:pt x="15" y="36"/>
                        </a:lnTo>
                        <a:lnTo>
                          <a:pt x="20" y="27"/>
                        </a:lnTo>
                        <a:lnTo>
                          <a:pt x="28" y="19"/>
                        </a:lnTo>
                        <a:lnTo>
                          <a:pt x="36" y="13"/>
                        </a:lnTo>
                        <a:lnTo>
                          <a:pt x="45" y="7"/>
                        </a:lnTo>
                        <a:lnTo>
                          <a:pt x="57" y="4"/>
                        </a:lnTo>
                        <a:lnTo>
                          <a:pt x="69" y="0"/>
                        </a:lnTo>
                        <a:lnTo>
                          <a:pt x="84" y="0"/>
                        </a:lnTo>
                        <a:lnTo>
                          <a:pt x="98" y="0"/>
                        </a:lnTo>
                        <a:lnTo>
                          <a:pt x="116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822360" y="1969560"/>
                    <a:ext cx="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1">
                        <a:moveTo>
                          <a:pt x="144" y="1"/>
                        </a:moveTo>
                        <a:lnTo>
                          <a:pt x="148" y="21"/>
                        </a:lnTo>
                        <a:lnTo>
                          <a:pt x="150" y="41"/>
                        </a:lnTo>
                        <a:lnTo>
                          <a:pt x="150" y="62"/>
                        </a:lnTo>
                        <a:lnTo>
                          <a:pt x="148" y="83"/>
                        </a:lnTo>
                        <a:lnTo>
                          <a:pt x="144" y="104"/>
                        </a:lnTo>
                        <a:lnTo>
                          <a:pt x="141" y="125"/>
                        </a:lnTo>
                        <a:lnTo>
                          <a:pt x="136" y="145"/>
                        </a:lnTo>
                        <a:lnTo>
                          <a:pt x="130" y="166"/>
                        </a:lnTo>
                        <a:lnTo>
                          <a:pt x="117" y="207"/>
                        </a:lnTo>
                        <a:lnTo>
                          <a:pt x="103" y="249"/>
                        </a:lnTo>
                        <a:lnTo>
                          <a:pt x="91" y="290"/>
                        </a:lnTo>
                        <a:lnTo>
                          <a:pt x="83" y="331"/>
                        </a:lnTo>
                        <a:lnTo>
                          <a:pt x="67" y="327"/>
                        </a:lnTo>
                        <a:lnTo>
                          <a:pt x="53" y="322"/>
                        </a:lnTo>
                        <a:lnTo>
                          <a:pt x="41" y="317"/>
                        </a:lnTo>
                        <a:lnTo>
                          <a:pt x="30" y="311"/>
                        </a:lnTo>
                        <a:lnTo>
                          <a:pt x="21" y="304"/>
                        </a:lnTo>
                        <a:lnTo>
                          <a:pt x="15" y="296"/>
                        </a:lnTo>
                        <a:lnTo>
                          <a:pt x="9" y="290"/>
                        </a:lnTo>
                        <a:lnTo>
                          <a:pt x="6" y="281"/>
                        </a:lnTo>
                        <a:lnTo>
                          <a:pt x="3" y="273"/>
                        </a:lnTo>
                        <a:lnTo>
                          <a:pt x="0" y="264"/>
                        </a:lnTo>
                        <a:lnTo>
                          <a:pt x="0" y="255"/>
                        </a:lnTo>
                        <a:lnTo>
                          <a:pt x="0" y="246"/>
                        </a:lnTo>
                        <a:lnTo>
                          <a:pt x="4" y="227"/>
                        </a:lnTo>
                        <a:lnTo>
                          <a:pt x="11" y="206"/>
                        </a:lnTo>
                        <a:lnTo>
                          <a:pt x="27" y="162"/>
                        </a:lnTo>
                        <a:lnTo>
                          <a:pt x="43" y="119"/>
                        </a:lnTo>
                        <a:lnTo>
                          <a:pt x="47" y="96"/>
                        </a:lnTo>
                        <a:lnTo>
                          <a:pt x="51" y="74"/>
                        </a:lnTo>
                        <a:lnTo>
                          <a:pt x="53" y="62"/>
                        </a:lnTo>
                        <a:lnTo>
                          <a:pt x="51" y="53"/>
                        </a:lnTo>
                        <a:lnTo>
                          <a:pt x="50" y="41"/>
                        </a:lnTo>
                        <a:lnTo>
                          <a:pt x="47" y="32"/>
                        </a:lnTo>
                        <a:lnTo>
                          <a:pt x="51" y="24"/>
                        </a:lnTo>
                        <a:lnTo>
                          <a:pt x="56" y="19"/>
                        </a:lnTo>
                        <a:lnTo>
                          <a:pt x="61" y="14"/>
                        </a:lnTo>
                        <a:lnTo>
                          <a:pt x="67" y="9"/>
                        </a:lnTo>
                        <a:lnTo>
                          <a:pt x="79" y="4"/>
                        </a:lnTo>
                        <a:lnTo>
                          <a:pt x="91" y="1"/>
                        </a:lnTo>
                        <a:lnTo>
                          <a:pt x="117" y="0"/>
                        </a:lnTo>
                        <a:lnTo>
                          <a:pt x="14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868800" y="1980360"/>
                    <a:ext cx="108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336">
                        <a:moveTo>
                          <a:pt x="167" y="0"/>
                        </a:moveTo>
                        <a:lnTo>
                          <a:pt x="160" y="44"/>
                        </a:lnTo>
                        <a:lnTo>
                          <a:pt x="151" y="91"/>
                        </a:lnTo>
                        <a:lnTo>
                          <a:pt x="140" y="139"/>
                        </a:lnTo>
                        <a:lnTo>
                          <a:pt x="125" y="186"/>
                        </a:lnTo>
                        <a:lnTo>
                          <a:pt x="116" y="209"/>
                        </a:lnTo>
                        <a:lnTo>
                          <a:pt x="107" y="232"/>
                        </a:lnTo>
                        <a:lnTo>
                          <a:pt x="95" y="254"/>
                        </a:lnTo>
                        <a:lnTo>
                          <a:pt x="82" y="274"/>
                        </a:lnTo>
                        <a:lnTo>
                          <a:pt x="66" y="294"/>
                        </a:lnTo>
                        <a:lnTo>
                          <a:pt x="50" y="310"/>
                        </a:lnTo>
                        <a:lnTo>
                          <a:pt x="40" y="318"/>
                        </a:lnTo>
                        <a:lnTo>
                          <a:pt x="30" y="324"/>
                        </a:lnTo>
                        <a:lnTo>
                          <a:pt x="21" y="330"/>
                        </a:lnTo>
                        <a:lnTo>
                          <a:pt x="10" y="336"/>
                        </a:lnTo>
                        <a:lnTo>
                          <a:pt x="4" y="318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1" y="257"/>
                        </a:lnTo>
                        <a:lnTo>
                          <a:pt x="3" y="237"/>
                        </a:lnTo>
                        <a:lnTo>
                          <a:pt x="7" y="215"/>
                        </a:lnTo>
                        <a:lnTo>
                          <a:pt x="13" y="194"/>
                        </a:lnTo>
                        <a:lnTo>
                          <a:pt x="19" y="171"/>
                        </a:lnTo>
                        <a:lnTo>
                          <a:pt x="36" y="127"/>
                        </a:lnTo>
                        <a:lnTo>
                          <a:pt x="53" y="83"/>
                        </a:lnTo>
                        <a:lnTo>
                          <a:pt x="71" y="42"/>
                        </a:lnTo>
                        <a:lnTo>
                          <a:pt x="89" y="0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912360" y="199728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01">
                        <a:moveTo>
                          <a:pt x="177" y="0"/>
                        </a:moveTo>
                        <a:lnTo>
                          <a:pt x="180" y="12"/>
                        </a:lnTo>
                        <a:lnTo>
                          <a:pt x="185" y="23"/>
                        </a:lnTo>
                        <a:lnTo>
                          <a:pt x="187" y="33"/>
                        </a:lnTo>
                        <a:lnTo>
                          <a:pt x="188" y="44"/>
                        </a:lnTo>
                        <a:lnTo>
                          <a:pt x="188" y="63"/>
                        </a:lnTo>
                        <a:lnTo>
                          <a:pt x="185" y="83"/>
                        </a:lnTo>
                        <a:lnTo>
                          <a:pt x="178" y="102"/>
                        </a:lnTo>
                        <a:lnTo>
                          <a:pt x="170" y="119"/>
                        </a:lnTo>
                        <a:lnTo>
                          <a:pt x="161" y="137"/>
                        </a:lnTo>
                        <a:lnTo>
                          <a:pt x="149" y="155"/>
                        </a:lnTo>
                        <a:lnTo>
                          <a:pt x="125" y="190"/>
                        </a:lnTo>
                        <a:lnTo>
                          <a:pt x="99" y="226"/>
                        </a:lnTo>
                        <a:lnTo>
                          <a:pt x="90" y="243"/>
                        </a:lnTo>
                        <a:lnTo>
                          <a:pt x="80" y="261"/>
                        </a:lnTo>
                        <a:lnTo>
                          <a:pt x="72" y="281"/>
                        </a:lnTo>
                        <a:lnTo>
                          <a:pt x="66" y="301"/>
                        </a:lnTo>
                        <a:lnTo>
                          <a:pt x="0" y="301"/>
                        </a:lnTo>
                        <a:lnTo>
                          <a:pt x="10" y="257"/>
                        </a:lnTo>
                        <a:lnTo>
                          <a:pt x="24" y="210"/>
                        </a:lnTo>
                        <a:lnTo>
                          <a:pt x="30" y="186"/>
                        </a:lnTo>
                        <a:lnTo>
                          <a:pt x="36" y="162"/>
                        </a:lnTo>
                        <a:lnTo>
                          <a:pt x="45" y="139"/>
                        </a:lnTo>
                        <a:lnTo>
                          <a:pt x="53" y="116"/>
                        </a:lnTo>
                        <a:lnTo>
                          <a:pt x="64" y="94"/>
                        </a:lnTo>
                        <a:lnTo>
                          <a:pt x="74" y="74"/>
                        </a:lnTo>
                        <a:lnTo>
                          <a:pt x="87" y="56"/>
                        </a:lnTo>
                        <a:lnTo>
                          <a:pt x="101" y="39"/>
                        </a:lnTo>
                        <a:lnTo>
                          <a:pt x="109" y="33"/>
                        </a:lnTo>
                        <a:lnTo>
                          <a:pt x="117" y="24"/>
                        </a:lnTo>
                        <a:lnTo>
                          <a:pt x="125" y="20"/>
                        </a:lnTo>
                        <a:lnTo>
                          <a:pt x="134" y="13"/>
                        </a:lnTo>
                        <a:lnTo>
                          <a:pt x="145" y="10"/>
                        </a:lnTo>
                        <a:lnTo>
                          <a:pt x="154" y="6"/>
                        </a:lnTo>
                        <a:lnTo>
                          <a:pt x="166" y="1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991560" y="204624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2">
                        <a:moveTo>
                          <a:pt x="238" y="0"/>
                        </a:moveTo>
                        <a:lnTo>
                          <a:pt x="241" y="9"/>
                        </a:lnTo>
                        <a:lnTo>
                          <a:pt x="244" y="21"/>
                        </a:lnTo>
                        <a:lnTo>
                          <a:pt x="245" y="30"/>
                        </a:lnTo>
                        <a:lnTo>
                          <a:pt x="245" y="40"/>
                        </a:lnTo>
                        <a:lnTo>
                          <a:pt x="244" y="50"/>
                        </a:lnTo>
                        <a:lnTo>
                          <a:pt x="242" y="59"/>
                        </a:lnTo>
                        <a:lnTo>
                          <a:pt x="239" y="68"/>
                        </a:lnTo>
                        <a:lnTo>
                          <a:pt x="236" y="77"/>
                        </a:lnTo>
                        <a:lnTo>
                          <a:pt x="227" y="95"/>
                        </a:lnTo>
                        <a:lnTo>
                          <a:pt x="215" y="111"/>
                        </a:lnTo>
                        <a:lnTo>
                          <a:pt x="203" y="127"/>
                        </a:lnTo>
                        <a:lnTo>
                          <a:pt x="186" y="144"/>
                        </a:lnTo>
                        <a:lnTo>
                          <a:pt x="156" y="175"/>
                        </a:lnTo>
                        <a:lnTo>
                          <a:pt x="123" y="209"/>
                        </a:lnTo>
                        <a:lnTo>
                          <a:pt x="109" y="225"/>
                        </a:lnTo>
                        <a:lnTo>
                          <a:pt x="97" y="243"/>
                        </a:lnTo>
                        <a:lnTo>
                          <a:pt x="86" y="263"/>
                        </a:lnTo>
                        <a:lnTo>
                          <a:pt x="80" y="282"/>
                        </a:lnTo>
                        <a:lnTo>
                          <a:pt x="0" y="282"/>
                        </a:lnTo>
                        <a:lnTo>
                          <a:pt x="2" y="260"/>
                        </a:lnTo>
                        <a:lnTo>
                          <a:pt x="9" y="240"/>
                        </a:lnTo>
                        <a:lnTo>
                          <a:pt x="17" y="222"/>
                        </a:lnTo>
                        <a:lnTo>
                          <a:pt x="24" y="203"/>
                        </a:lnTo>
                        <a:lnTo>
                          <a:pt x="36" y="185"/>
                        </a:lnTo>
                        <a:lnTo>
                          <a:pt x="49" y="169"/>
                        </a:lnTo>
                        <a:lnTo>
                          <a:pt x="62" y="151"/>
                        </a:lnTo>
                        <a:lnTo>
                          <a:pt x="76" y="135"/>
                        </a:lnTo>
                        <a:lnTo>
                          <a:pt x="106" y="103"/>
                        </a:lnTo>
                        <a:lnTo>
                          <a:pt x="133" y="71"/>
                        </a:lnTo>
                        <a:lnTo>
                          <a:pt x="145" y="53"/>
                        </a:lnTo>
                        <a:lnTo>
                          <a:pt x="157" y="35"/>
                        </a:lnTo>
                        <a:lnTo>
                          <a:pt x="168" y="17"/>
                        </a:lnTo>
                        <a:lnTo>
                          <a:pt x="177" y="0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29360" y="207612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9">
                        <a:moveTo>
                          <a:pt x="223" y="0"/>
                        </a:moveTo>
                        <a:lnTo>
                          <a:pt x="226" y="14"/>
                        </a:lnTo>
                        <a:lnTo>
                          <a:pt x="228" y="27"/>
                        </a:lnTo>
                        <a:lnTo>
                          <a:pt x="228" y="40"/>
                        </a:lnTo>
                        <a:lnTo>
                          <a:pt x="226" y="53"/>
                        </a:lnTo>
                        <a:lnTo>
                          <a:pt x="225" y="64"/>
                        </a:lnTo>
                        <a:lnTo>
                          <a:pt x="222" y="76"/>
                        </a:lnTo>
                        <a:lnTo>
                          <a:pt x="217" y="87"/>
                        </a:lnTo>
                        <a:lnTo>
                          <a:pt x="213" y="97"/>
                        </a:lnTo>
                        <a:lnTo>
                          <a:pt x="202" y="117"/>
                        </a:lnTo>
                        <a:lnTo>
                          <a:pt x="187" y="135"/>
                        </a:lnTo>
                        <a:lnTo>
                          <a:pt x="172" y="151"/>
                        </a:lnTo>
                        <a:lnTo>
                          <a:pt x="152" y="167"/>
                        </a:lnTo>
                        <a:lnTo>
                          <a:pt x="113" y="197"/>
                        </a:lnTo>
                        <a:lnTo>
                          <a:pt x="71" y="222"/>
                        </a:lnTo>
                        <a:lnTo>
                          <a:pt x="34" y="247"/>
                        </a:lnTo>
                        <a:lnTo>
                          <a:pt x="2" y="269"/>
                        </a:lnTo>
                        <a:lnTo>
                          <a:pt x="0" y="251"/>
                        </a:lnTo>
                        <a:lnTo>
                          <a:pt x="0" y="232"/>
                        </a:lnTo>
                        <a:lnTo>
                          <a:pt x="5" y="212"/>
                        </a:lnTo>
                        <a:lnTo>
                          <a:pt x="10" y="195"/>
                        </a:lnTo>
                        <a:lnTo>
                          <a:pt x="19" y="177"/>
                        </a:lnTo>
                        <a:lnTo>
                          <a:pt x="30" y="159"/>
                        </a:lnTo>
                        <a:lnTo>
                          <a:pt x="42" y="141"/>
                        </a:lnTo>
                        <a:lnTo>
                          <a:pt x="55" y="126"/>
                        </a:lnTo>
                        <a:lnTo>
                          <a:pt x="86" y="91"/>
                        </a:lnTo>
                        <a:lnTo>
                          <a:pt x="116" y="59"/>
                        </a:lnTo>
                        <a:lnTo>
                          <a:pt x="146" y="29"/>
                        </a:lnTo>
                        <a:lnTo>
                          <a:pt x="175" y="0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60680" y="211032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1">
                        <a:moveTo>
                          <a:pt x="252" y="4"/>
                        </a:moveTo>
                        <a:lnTo>
                          <a:pt x="248" y="22"/>
                        </a:lnTo>
                        <a:lnTo>
                          <a:pt x="244" y="40"/>
                        </a:lnTo>
                        <a:lnTo>
                          <a:pt x="236" y="60"/>
                        </a:lnTo>
                        <a:lnTo>
                          <a:pt x="225" y="78"/>
                        </a:lnTo>
                        <a:lnTo>
                          <a:pt x="213" y="93"/>
                        </a:lnTo>
                        <a:lnTo>
                          <a:pt x="200" y="111"/>
                        </a:lnTo>
                        <a:lnTo>
                          <a:pt x="186" y="128"/>
                        </a:lnTo>
                        <a:lnTo>
                          <a:pt x="169" y="142"/>
                        </a:lnTo>
                        <a:lnTo>
                          <a:pt x="136" y="173"/>
                        </a:lnTo>
                        <a:lnTo>
                          <a:pt x="100" y="199"/>
                        </a:lnTo>
                        <a:lnTo>
                          <a:pt x="65" y="223"/>
                        </a:lnTo>
                        <a:lnTo>
                          <a:pt x="30" y="241"/>
                        </a:lnTo>
                        <a:lnTo>
                          <a:pt x="0" y="211"/>
                        </a:lnTo>
                        <a:lnTo>
                          <a:pt x="6" y="194"/>
                        </a:lnTo>
                        <a:lnTo>
                          <a:pt x="15" y="176"/>
                        </a:lnTo>
                        <a:lnTo>
                          <a:pt x="24" y="156"/>
                        </a:lnTo>
                        <a:lnTo>
                          <a:pt x="34" y="137"/>
                        </a:lnTo>
                        <a:lnTo>
                          <a:pt x="47" y="117"/>
                        </a:lnTo>
                        <a:lnTo>
                          <a:pt x="60" y="99"/>
                        </a:lnTo>
                        <a:lnTo>
                          <a:pt x="74" y="81"/>
                        </a:lnTo>
                        <a:lnTo>
                          <a:pt x="89" y="63"/>
                        </a:lnTo>
                        <a:lnTo>
                          <a:pt x="107" y="46"/>
                        </a:lnTo>
                        <a:lnTo>
                          <a:pt x="124" y="32"/>
                        </a:lnTo>
                        <a:lnTo>
                          <a:pt x="142" y="21"/>
                        </a:lnTo>
                        <a:lnTo>
                          <a:pt x="163" y="11"/>
                        </a:lnTo>
                        <a:lnTo>
                          <a:pt x="172" y="7"/>
                        </a:lnTo>
                        <a:lnTo>
                          <a:pt x="184" y="4"/>
                        </a:lnTo>
                        <a:lnTo>
                          <a:pt x="194" y="2"/>
                        </a:lnTo>
                        <a:lnTo>
                          <a:pt x="205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40" y="2"/>
                        </a:lnTo>
                        <a:lnTo>
                          <a:pt x="25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726960" y="1950840"/>
                    <a:ext cx="16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99">
                        <a:moveTo>
                          <a:pt x="127" y="499"/>
                        </a:moveTo>
                        <a:lnTo>
                          <a:pt x="140" y="498"/>
                        </a:lnTo>
                        <a:lnTo>
                          <a:pt x="153" y="494"/>
                        </a:lnTo>
                        <a:lnTo>
                          <a:pt x="165" y="488"/>
                        </a:lnTo>
                        <a:lnTo>
                          <a:pt x="175" y="478"/>
                        </a:lnTo>
                        <a:lnTo>
                          <a:pt x="187" y="469"/>
                        </a:lnTo>
                        <a:lnTo>
                          <a:pt x="197" y="455"/>
                        </a:lnTo>
                        <a:lnTo>
                          <a:pt x="206" y="441"/>
                        </a:lnTo>
                        <a:lnTo>
                          <a:pt x="216" y="425"/>
                        </a:lnTo>
                        <a:lnTo>
                          <a:pt x="222" y="408"/>
                        </a:lnTo>
                        <a:lnTo>
                          <a:pt x="230" y="388"/>
                        </a:lnTo>
                        <a:lnTo>
                          <a:pt x="237" y="367"/>
                        </a:lnTo>
                        <a:lnTo>
                          <a:pt x="242" y="346"/>
                        </a:lnTo>
                        <a:lnTo>
                          <a:pt x="245" y="322"/>
                        </a:lnTo>
                        <a:lnTo>
                          <a:pt x="248" y="299"/>
                        </a:lnTo>
                        <a:lnTo>
                          <a:pt x="250" y="274"/>
                        </a:lnTo>
                        <a:lnTo>
                          <a:pt x="250" y="248"/>
                        </a:lnTo>
                        <a:lnTo>
                          <a:pt x="250" y="222"/>
                        </a:lnTo>
                        <a:lnTo>
                          <a:pt x="246" y="198"/>
                        </a:lnTo>
                        <a:lnTo>
                          <a:pt x="243" y="174"/>
                        </a:lnTo>
                        <a:lnTo>
                          <a:pt x="240" y="151"/>
                        </a:lnTo>
                        <a:lnTo>
                          <a:pt x="233" y="130"/>
                        </a:lnTo>
                        <a:lnTo>
                          <a:pt x="227" y="109"/>
                        </a:lnTo>
                        <a:lnTo>
                          <a:pt x="221" y="89"/>
                        </a:lnTo>
                        <a:lnTo>
                          <a:pt x="213" y="72"/>
                        </a:lnTo>
                        <a:lnTo>
                          <a:pt x="203" y="56"/>
                        </a:lnTo>
                        <a:lnTo>
                          <a:pt x="193" y="41"/>
                        </a:lnTo>
                        <a:lnTo>
                          <a:pt x="183" y="29"/>
                        </a:lnTo>
                        <a:lnTo>
                          <a:pt x="172" y="19"/>
                        </a:lnTo>
                        <a:lnTo>
                          <a:pt x="162" y="11"/>
                        </a:lnTo>
                        <a:lnTo>
                          <a:pt x="148" y="4"/>
                        </a:lnTo>
                        <a:lnTo>
                          <a:pt x="137" y="1"/>
                        </a:lnTo>
                        <a:lnTo>
                          <a:pt x="124" y="0"/>
                        </a:lnTo>
                        <a:lnTo>
                          <a:pt x="111" y="1"/>
                        </a:lnTo>
                        <a:lnTo>
                          <a:pt x="98" y="4"/>
                        </a:lnTo>
                        <a:lnTo>
                          <a:pt x="86" y="11"/>
                        </a:lnTo>
                        <a:lnTo>
                          <a:pt x="76" y="21"/>
                        </a:lnTo>
                        <a:lnTo>
                          <a:pt x="65" y="30"/>
                        </a:lnTo>
                        <a:lnTo>
                          <a:pt x="54" y="43"/>
                        </a:lnTo>
                        <a:lnTo>
                          <a:pt x="45" y="57"/>
                        </a:lnTo>
                        <a:lnTo>
                          <a:pt x="35" y="74"/>
                        </a:lnTo>
                        <a:lnTo>
                          <a:pt x="27" y="92"/>
                        </a:lnTo>
                        <a:lnTo>
                          <a:pt x="21" y="110"/>
                        </a:lnTo>
                        <a:lnTo>
                          <a:pt x="14" y="132"/>
                        </a:lnTo>
                        <a:lnTo>
                          <a:pt x="9" y="153"/>
                        </a:lnTo>
                        <a:lnTo>
                          <a:pt x="6" y="177"/>
                        </a:lnTo>
                        <a:lnTo>
                          <a:pt x="3" y="199"/>
                        </a:lnTo>
                        <a:lnTo>
                          <a:pt x="1" y="225"/>
                        </a:lnTo>
                        <a:lnTo>
                          <a:pt x="0" y="251"/>
                        </a:lnTo>
                        <a:lnTo>
                          <a:pt x="1" y="275"/>
                        </a:lnTo>
                        <a:lnTo>
                          <a:pt x="3" y="301"/>
                        </a:lnTo>
                        <a:lnTo>
                          <a:pt x="6" y="325"/>
                        </a:lnTo>
                        <a:lnTo>
                          <a:pt x="11" y="348"/>
                        </a:lnTo>
                        <a:lnTo>
                          <a:pt x="16" y="369"/>
                        </a:lnTo>
                        <a:lnTo>
                          <a:pt x="23" y="390"/>
                        </a:lnTo>
                        <a:lnTo>
                          <a:pt x="30" y="409"/>
                        </a:lnTo>
                        <a:lnTo>
                          <a:pt x="38" y="427"/>
                        </a:lnTo>
                        <a:lnTo>
                          <a:pt x="48" y="443"/>
                        </a:lnTo>
                        <a:lnTo>
                          <a:pt x="58" y="458"/>
                        </a:lnTo>
                        <a:lnTo>
                          <a:pt x="68" y="469"/>
                        </a:lnTo>
                        <a:lnTo>
                          <a:pt x="79" y="481"/>
                        </a:lnTo>
                        <a:lnTo>
                          <a:pt x="90" y="488"/>
                        </a:lnTo>
                        <a:lnTo>
                          <a:pt x="103" y="494"/>
                        </a:lnTo>
                        <a:lnTo>
                          <a:pt x="115" y="498"/>
                        </a:lnTo>
                        <a:lnTo>
                          <a:pt x="127" y="4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51600" y="201168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1">
                        <a:moveTo>
                          <a:pt x="215" y="3"/>
                        </a:moveTo>
                        <a:lnTo>
                          <a:pt x="225" y="8"/>
                        </a:lnTo>
                        <a:lnTo>
                          <a:pt x="236" y="15"/>
                        </a:lnTo>
                        <a:lnTo>
                          <a:pt x="246" y="26"/>
                        </a:lnTo>
                        <a:lnTo>
                          <a:pt x="254" y="36"/>
                        </a:lnTo>
                        <a:lnTo>
                          <a:pt x="263" y="50"/>
                        </a:lnTo>
                        <a:lnTo>
                          <a:pt x="268" y="64"/>
                        </a:lnTo>
                        <a:lnTo>
                          <a:pt x="272" y="80"/>
                        </a:lnTo>
                        <a:lnTo>
                          <a:pt x="277" y="100"/>
                        </a:lnTo>
                        <a:lnTo>
                          <a:pt x="278" y="118"/>
                        </a:lnTo>
                        <a:lnTo>
                          <a:pt x="280" y="138"/>
                        </a:lnTo>
                        <a:lnTo>
                          <a:pt x="280" y="161"/>
                        </a:lnTo>
                        <a:lnTo>
                          <a:pt x="278" y="183"/>
                        </a:lnTo>
                        <a:lnTo>
                          <a:pt x="275" y="206"/>
                        </a:lnTo>
                        <a:lnTo>
                          <a:pt x="271" y="230"/>
                        </a:lnTo>
                        <a:lnTo>
                          <a:pt x="266" y="254"/>
                        </a:lnTo>
                        <a:lnTo>
                          <a:pt x="259" y="278"/>
                        </a:lnTo>
                        <a:lnTo>
                          <a:pt x="251" y="303"/>
                        </a:lnTo>
                        <a:lnTo>
                          <a:pt x="242" y="325"/>
                        </a:lnTo>
                        <a:lnTo>
                          <a:pt x="232" y="348"/>
                        </a:lnTo>
                        <a:lnTo>
                          <a:pt x="221" y="369"/>
                        </a:lnTo>
                        <a:lnTo>
                          <a:pt x="209" y="389"/>
                        </a:lnTo>
                        <a:lnTo>
                          <a:pt x="197" y="406"/>
                        </a:lnTo>
                        <a:lnTo>
                          <a:pt x="183" y="422"/>
                        </a:lnTo>
                        <a:lnTo>
                          <a:pt x="171" y="437"/>
                        </a:lnTo>
                        <a:lnTo>
                          <a:pt x="157" y="449"/>
                        </a:lnTo>
                        <a:lnTo>
                          <a:pt x="145" y="459"/>
                        </a:lnTo>
                        <a:lnTo>
                          <a:pt x="130" y="469"/>
                        </a:lnTo>
                        <a:lnTo>
                          <a:pt x="118" y="475"/>
                        </a:lnTo>
                        <a:lnTo>
                          <a:pt x="104" y="480"/>
                        </a:lnTo>
                        <a:lnTo>
                          <a:pt x="89" y="481"/>
                        </a:lnTo>
                        <a:lnTo>
                          <a:pt x="77" y="481"/>
                        </a:lnTo>
                        <a:lnTo>
                          <a:pt x="65" y="480"/>
                        </a:lnTo>
                        <a:lnTo>
                          <a:pt x="53" y="475"/>
                        </a:lnTo>
                        <a:lnTo>
                          <a:pt x="44" y="467"/>
                        </a:lnTo>
                        <a:lnTo>
                          <a:pt x="33" y="457"/>
                        </a:lnTo>
                        <a:lnTo>
                          <a:pt x="24" y="446"/>
                        </a:lnTo>
                        <a:lnTo>
                          <a:pt x="17" y="433"/>
                        </a:lnTo>
                        <a:lnTo>
                          <a:pt x="11" y="417"/>
                        </a:lnTo>
                        <a:lnTo>
                          <a:pt x="6" y="401"/>
                        </a:lnTo>
                        <a:lnTo>
                          <a:pt x="3" y="383"/>
                        </a:lnTo>
                        <a:lnTo>
                          <a:pt x="0" y="364"/>
                        </a:lnTo>
                        <a:lnTo>
                          <a:pt x="0" y="343"/>
                        </a:lnTo>
                        <a:lnTo>
                          <a:pt x="0" y="322"/>
                        </a:lnTo>
                        <a:lnTo>
                          <a:pt x="1" y="300"/>
                        </a:lnTo>
                        <a:lnTo>
                          <a:pt x="3" y="277"/>
                        </a:lnTo>
                        <a:lnTo>
                          <a:pt x="8" y="253"/>
                        </a:lnTo>
                        <a:lnTo>
                          <a:pt x="12" y="228"/>
                        </a:lnTo>
                        <a:lnTo>
                          <a:pt x="21" y="204"/>
                        </a:lnTo>
                        <a:lnTo>
                          <a:pt x="29" y="180"/>
                        </a:lnTo>
                        <a:lnTo>
                          <a:pt x="38" y="156"/>
                        </a:lnTo>
                        <a:lnTo>
                          <a:pt x="48" y="135"/>
                        </a:lnTo>
                        <a:lnTo>
                          <a:pt x="59" y="114"/>
                        </a:lnTo>
                        <a:lnTo>
                          <a:pt x="71" y="94"/>
                        </a:lnTo>
                        <a:lnTo>
                          <a:pt x="82" y="77"/>
                        </a:lnTo>
                        <a:lnTo>
                          <a:pt x="95" y="61"/>
                        </a:lnTo>
                        <a:lnTo>
                          <a:pt x="107" y="46"/>
                        </a:lnTo>
                        <a:lnTo>
                          <a:pt x="121" y="33"/>
                        </a:lnTo>
                        <a:lnTo>
                          <a:pt x="135" y="23"/>
                        </a:lnTo>
                        <a:lnTo>
                          <a:pt x="148" y="14"/>
                        </a:lnTo>
                        <a:lnTo>
                          <a:pt x="162" y="8"/>
                        </a:lnTo>
                        <a:lnTo>
                          <a:pt x="175" y="3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062480" y="2149920"/>
                  <a:ext cx="138960" cy="583920"/>
                  <a:chOff x="7062480" y="2149920"/>
                  <a:chExt cx="138960" cy="5839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7166160" y="2510640"/>
                    <a:ext cx="223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163">
                        <a:moveTo>
                          <a:pt x="346" y="147"/>
                        </a:moveTo>
                        <a:lnTo>
                          <a:pt x="322" y="156"/>
                        </a:lnTo>
                        <a:lnTo>
                          <a:pt x="299" y="160"/>
                        </a:lnTo>
                        <a:lnTo>
                          <a:pt x="277" y="162"/>
                        </a:lnTo>
                        <a:lnTo>
                          <a:pt x="256" y="163"/>
                        </a:lnTo>
                        <a:lnTo>
                          <a:pt x="233" y="162"/>
                        </a:lnTo>
                        <a:lnTo>
                          <a:pt x="212" y="159"/>
                        </a:lnTo>
                        <a:lnTo>
                          <a:pt x="192" y="154"/>
                        </a:lnTo>
                        <a:lnTo>
                          <a:pt x="171" y="149"/>
                        </a:lnTo>
                        <a:lnTo>
                          <a:pt x="128" y="135"/>
                        </a:lnTo>
                        <a:lnTo>
                          <a:pt x="88" y="117"/>
                        </a:lnTo>
                        <a:lnTo>
                          <a:pt x="50" y="99"/>
                        </a:lnTo>
                        <a:lnTo>
                          <a:pt x="11" y="82"/>
                        </a:lnTo>
                        <a:lnTo>
                          <a:pt x="4" y="70"/>
                        </a:lnTo>
                        <a:lnTo>
                          <a:pt x="1" y="61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3" y="29"/>
                        </a:lnTo>
                        <a:lnTo>
                          <a:pt x="7" y="20"/>
                        </a:lnTo>
                        <a:lnTo>
                          <a:pt x="15" y="11"/>
                        </a:lnTo>
                        <a:lnTo>
                          <a:pt x="29" y="0"/>
                        </a:lnTo>
                        <a:lnTo>
                          <a:pt x="74" y="7"/>
                        </a:lnTo>
                        <a:lnTo>
                          <a:pt x="124" y="14"/>
                        </a:lnTo>
                        <a:lnTo>
                          <a:pt x="148" y="17"/>
                        </a:lnTo>
                        <a:lnTo>
                          <a:pt x="172" y="21"/>
                        </a:lnTo>
                        <a:lnTo>
                          <a:pt x="195" y="28"/>
                        </a:lnTo>
                        <a:lnTo>
                          <a:pt x="219" y="35"/>
                        </a:lnTo>
                        <a:lnTo>
                          <a:pt x="239" y="43"/>
                        </a:lnTo>
                        <a:lnTo>
                          <a:pt x="260" y="52"/>
                        </a:lnTo>
                        <a:lnTo>
                          <a:pt x="280" y="64"/>
                        </a:lnTo>
                        <a:lnTo>
                          <a:pt x="298" y="76"/>
                        </a:lnTo>
                        <a:lnTo>
                          <a:pt x="314" y="91"/>
                        </a:lnTo>
                        <a:lnTo>
                          <a:pt x="327" y="107"/>
                        </a:lnTo>
                        <a:lnTo>
                          <a:pt x="333" y="117"/>
                        </a:lnTo>
                        <a:lnTo>
                          <a:pt x="338" y="126"/>
                        </a:lnTo>
                        <a:lnTo>
                          <a:pt x="342" y="136"/>
                        </a:lnTo>
                        <a:lnTo>
                          <a:pt x="346" y="1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52480" y="2558160"/>
                    <a:ext cx="20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89">
                        <a:moveTo>
                          <a:pt x="317" y="189"/>
                        </a:moveTo>
                        <a:lnTo>
                          <a:pt x="277" y="176"/>
                        </a:lnTo>
                        <a:lnTo>
                          <a:pt x="235" y="166"/>
                        </a:lnTo>
                        <a:lnTo>
                          <a:pt x="192" y="157"/>
                        </a:lnTo>
                        <a:lnTo>
                          <a:pt x="149" y="145"/>
                        </a:lnTo>
                        <a:lnTo>
                          <a:pt x="128" y="139"/>
                        </a:lnTo>
                        <a:lnTo>
                          <a:pt x="110" y="133"/>
                        </a:lnTo>
                        <a:lnTo>
                          <a:pt x="89" y="125"/>
                        </a:lnTo>
                        <a:lnTo>
                          <a:pt x="69" y="115"/>
                        </a:lnTo>
                        <a:lnTo>
                          <a:pt x="51" y="105"/>
                        </a:lnTo>
                        <a:lnTo>
                          <a:pt x="33" y="92"/>
                        </a:lnTo>
                        <a:lnTo>
                          <a:pt x="16" y="78"/>
                        </a:lnTo>
                        <a:lnTo>
                          <a:pt x="0" y="62"/>
                        </a:lnTo>
                        <a:lnTo>
                          <a:pt x="30" y="0"/>
                        </a:lnTo>
                        <a:lnTo>
                          <a:pt x="39" y="7"/>
                        </a:lnTo>
                        <a:lnTo>
                          <a:pt x="48" y="13"/>
                        </a:lnTo>
                        <a:lnTo>
                          <a:pt x="59" y="18"/>
                        </a:lnTo>
                        <a:lnTo>
                          <a:pt x="69" y="23"/>
                        </a:lnTo>
                        <a:lnTo>
                          <a:pt x="93" y="31"/>
                        </a:lnTo>
                        <a:lnTo>
                          <a:pt x="118" y="36"/>
                        </a:lnTo>
                        <a:lnTo>
                          <a:pt x="171" y="47"/>
                        </a:lnTo>
                        <a:lnTo>
                          <a:pt x="222" y="57"/>
                        </a:lnTo>
                        <a:lnTo>
                          <a:pt x="245" y="63"/>
                        </a:lnTo>
                        <a:lnTo>
                          <a:pt x="267" y="71"/>
                        </a:lnTo>
                        <a:lnTo>
                          <a:pt x="277" y="78"/>
                        </a:lnTo>
                        <a:lnTo>
                          <a:pt x="287" y="83"/>
                        </a:lnTo>
                        <a:lnTo>
                          <a:pt x="295" y="89"/>
                        </a:lnTo>
                        <a:lnTo>
                          <a:pt x="301" y="95"/>
                        </a:lnTo>
                        <a:lnTo>
                          <a:pt x="308" y="104"/>
                        </a:lnTo>
                        <a:lnTo>
                          <a:pt x="313" y="113"/>
                        </a:lnTo>
                        <a:lnTo>
                          <a:pt x="317" y="122"/>
                        </a:lnTo>
                        <a:lnTo>
                          <a:pt x="320" y="134"/>
                        </a:lnTo>
                        <a:lnTo>
                          <a:pt x="320" y="145"/>
                        </a:lnTo>
                        <a:lnTo>
                          <a:pt x="322" y="160"/>
                        </a:lnTo>
                        <a:lnTo>
                          <a:pt x="320" y="175"/>
                        </a:lnTo>
                        <a:lnTo>
                          <a:pt x="317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37360" y="2599920"/>
                    <a:ext cx="20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98">
                        <a:moveTo>
                          <a:pt x="317" y="195"/>
                        </a:moveTo>
                        <a:lnTo>
                          <a:pt x="307" y="196"/>
                        </a:lnTo>
                        <a:lnTo>
                          <a:pt x="295" y="198"/>
                        </a:lnTo>
                        <a:lnTo>
                          <a:pt x="286" y="198"/>
                        </a:lnTo>
                        <a:lnTo>
                          <a:pt x="274" y="196"/>
                        </a:lnTo>
                        <a:lnTo>
                          <a:pt x="255" y="193"/>
                        </a:lnTo>
                        <a:lnTo>
                          <a:pt x="234" y="188"/>
                        </a:lnTo>
                        <a:lnTo>
                          <a:pt x="214" y="181"/>
                        </a:lnTo>
                        <a:lnTo>
                          <a:pt x="195" y="170"/>
                        </a:lnTo>
                        <a:lnTo>
                          <a:pt x="175" y="160"/>
                        </a:lnTo>
                        <a:lnTo>
                          <a:pt x="158" y="146"/>
                        </a:lnTo>
                        <a:lnTo>
                          <a:pt x="119" y="121"/>
                        </a:lnTo>
                        <a:lnTo>
                          <a:pt x="80" y="98"/>
                        </a:lnTo>
                        <a:lnTo>
                          <a:pt x="62" y="87"/>
                        </a:lnTo>
                        <a:lnTo>
                          <a:pt x="42" y="77"/>
                        </a:lnTo>
                        <a:lnTo>
                          <a:pt x="21" y="71"/>
                        </a:lnTo>
                        <a:lnTo>
                          <a:pt x="0" y="66"/>
                        </a:lnTo>
                        <a:lnTo>
                          <a:pt x="30" y="0"/>
                        </a:lnTo>
                        <a:lnTo>
                          <a:pt x="72" y="18"/>
                        </a:lnTo>
                        <a:lnTo>
                          <a:pt x="119" y="31"/>
                        </a:lnTo>
                        <a:lnTo>
                          <a:pt x="166" y="48"/>
                        </a:lnTo>
                        <a:lnTo>
                          <a:pt x="213" y="66"/>
                        </a:lnTo>
                        <a:lnTo>
                          <a:pt x="234" y="75"/>
                        </a:lnTo>
                        <a:lnTo>
                          <a:pt x="254" y="87"/>
                        </a:lnTo>
                        <a:lnTo>
                          <a:pt x="271" y="99"/>
                        </a:lnTo>
                        <a:lnTo>
                          <a:pt x="287" y="114"/>
                        </a:lnTo>
                        <a:lnTo>
                          <a:pt x="293" y="122"/>
                        </a:lnTo>
                        <a:lnTo>
                          <a:pt x="299" y="131"/>
                        </a:lnTo>
                        <a:lnTo>
                          <a:pt x="305" y="140"/>
                        </a:lnTo>
                        <a:lnTo>
                          <a:pt x="310" y="149"/>
                        </a:lnTo>
                        <a:lnTo>
                          <a:pt x="313" y="160"/>
                        </a:lnTo>
                        <a:lnTo>
                          <a:pt x="316" y="170"/>
                        </a:lnTo>
                        <a:lnTo>
                          <a:pt x="317" y="182"/>
                        </a:lnTo>
                        <a:lnTo>
                          <a:pt x="317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089840" y="2680200"/>
                    <a:ext cx="20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258">
                        <a:moveTo>
                          <a:pt x="317" y="225"/>
                        </a:moveTo>
                        <a:lnTo>
                          <a:pt x="310" y="235"/>
                        </a:lnTo>
                        <a:lnTo>
                          <a:pt x="301" y="242"/>
                        </a:lnTo>
                        <a:lnTo>
                          <a:pt x="292" y="248"/>
                        </a:lnTo>
                        <a:lnTo>
                          <a:pt x="282" y="252"/>
                        </a:lnTo>
                        <a:lnTo>
                          <a:pt x="272" y="257"/>
                        </a:lnTo>
                        <a:lnTo>
                          <a:pt x="261" y="258"/>
                        </a:lnTo>
                        <a:lnTo>
                          <a:pt x="249" y="258"/>
                        </a:lnTo>
                        <a:lnTo>
                          <a:pt x="237" y="257"/>
                        </a:lnTo>
                        <a:lnTo>
                          <a:pt x="0" y="48"/>
                        </a:lnTo>
                        <a:lnTo>
                          <a:pt x="30" y="0"/>
                        </a:lnTo>
                        <a:lnTo>
                          <a:pt x="72" y="16"/>
                        </a:lnTo>
                        <a:lnTo>
                          <a:pt x="115" y="35"/>
                        </a:lnTo>
                        <a:lnTo>
                          <a:pt x="136" y="45"/>
                        </a:lnTo>
                        <a:lnTo>
                          <a:pt x="157" y="56"/>
                        </a:lnTo>
                        <a:lnTo>
                          <a:pt x="177" y="69"/>
                        </a:lnTo>
                        <a:lnTo>
                          <a:pt x="196" y="82"/>
                        </a:lnTo>
                        <a:lnTo>
                          <a:pt x="216" y="95"/>
                        </a:lnTo>
                        <a:lnTo>
                          <a:pt x="234" y="111"/>
                        </a:lnTo>
                        <a:lnTo>
                          <a:pt x="251" y="127"/>
                        </a:lnTo>
                        <a:lnTo>
                          <a:pt x="267" y="143"/>
                        </a:lnTo>
                        <a:lnTo>
                          <a:pt x="282" y="163"/>
                        </a:lnTo>
                        <a:lnTo>
                          <a:pt x="295" y="181"/>
                        </a:lnTo>
                        <a:lnTo>
                          <a:pt x="307" y="203"/>
                        </a:lnTo>
                        <a:lnTo>
                          <a:pt x="317" y="2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062480" y="2717640"/>
                    <a:ext cx="172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248">
                        <a:moveTo>
                          <a:pt x="271" y="238"/>
                        </a:moveTo>
                        <a:lnTo>
                          <a:pt x="260" y="243"/>
                        </a:lnTo>
                        <a:lnTo>
                          <a:pt x="250" y="246"/>
                        </a:lnTo>
                        <a:lnTo>
                          <a:pt x="239" y="248"/>
                        </a:lnTo>
                        <a:lnTo>
                          <a:pt x="230" y="248"/>
                        </a:lnTo>
                        <a:lnTo>
                          <a:pt x="220" y="248"/>
                        </a:lnTo>
                        <a:lnTo>
                          <a:pt x="212" y="248"/>
                        </a:lnTo>
                        <a:lnTo>
                          <a:pt x="203" y="246"/>
                        </a:lnTo>
                        <a:lnTo>
                          <a:pt x="192" y="245"/>
                        </a:lnTo>
                        <a:lnTo>
                          <a:pt x="175" y="237"/>
                        </a:lnTo>
                        <a:lnTo>
                          <a:pt x="159" y="229"/>
                        </a:lnTo>
                        <a:lnTo>
                          <a:pt x="142" y="217"/>
                        </a:lnTo>
                        <a:lnTo>
                          <a:pt x="125" y="205"/>
                        </a:lnTo>
                        <a:lnTo>
                          <a:pt x="94" y="174"/>
                        </a:lnTo>
                        <a:lnTo>
                          <a:pt x="62" y="142"/>
                        </a:lnTo>
                        <a:lnTo>
                          <a:pt x="32" y="110"/>
                        </a:lnTo>
                        <a:lnTo>
                          <a:pt x="0" y="80"/>
                        </a:lnTo>
                        <a:lnTo>
                          <a:pt x="14" y="0"/>
                        </a:lnTo>
                        <a:lnTo>
                          <a:pt x="36" y="7"/>
                        </a:lnTo>
                        <a:lnTo>
                          <a:pt x="58" y="18"/>
                        </a:lnTo>
                        <a:lnTo>
                          <a:pt x="79" y="28"/>
                        </a:lnTo>
                        <a:lnTo>
                          <a:pt x="97" y="42"/>
                        </a:lnTo>
                        <a:lnTo>
                          <a:pt x="117" y="54"/>
                        </a:lnTo>
                        <a:lnTo>
                          <a:pt x="135" y="69"/>
                        </a:lnTo>
                        <a:lnTo>
                          <a:pt x="153" y="84"/>
                        </a:lnTo>
                        <a:lnTo>
                          <a:pt x="168" y="99"/>
                        </a:lnTo>
                        <a:lnTo>
                          <a:pt x="185" y="116"/>
                        </a:lnTo>
                        <a:lnTo>
                          <a:pt x="200" y="134"/>
                        </a:lnTo>
                        <a:lnTo>
                          <a:pt x="214" y="149"/>
                        </a:lnTo>
                        <a:lnTo>
                          <a:pt x="227" y="167"/>
                        </a:lnTo>
                        <a:lnTo>
                          <a:pt x="251" y="202"/>
                        </a:lnTo>
                        <a:lnTo>
                          <a:pt x="271" y="2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111440" y="2637720"/>
                    <a:ext cx="302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1">
                        <a:moveTo>
                          <a:pt x="459" y="261"/>
                        </a:moveTo>
                        <a:lnTo>
                          <a:pt x="463" y="250"/>
                        </a:lnTo>
                        <a:lnTo>
                          <a:pt x="465" y="237"/>
                        </a:lnTo>
                        <a:lnTo>
                          <a:pt x="463" y="224"/>
                        </a:lnTo>
                        <a:lnTo>
                          <a:pt x="462" y="210"/>
                        </a:lnTo>
                        <a:lnTo>
                          <a:pt x="457" y="195"/>
                        </a:lnTo>
                        <a:lnTo>
                          <a:pt x="448" y="181"/>
                        </a:lnTo>
                        <a:lnTo>
                          <a:pt x="441" y="166"/>
                        </a:lnTo>
                        <a:lnTo>
                          <a:pt x="430" y="151"/>
                        </a:lnTo>
                        <a:lnTo>
                          <a:pt x="416" y="136"/>
                        </a:lnTo>
                        <a:lnTo>
                          <a:pt x="401" y="121"/>
                        </a:lnTo>
                        <a:lnTo>
                          <a:pt x="388" y="106"/>
                        </a:lnTo>
                        <a:lnTo>
                          <a:pt x="370" y="94"/>
                        </a:lnTo>
                        <a:lnTo>
                          <a:pt x="350" y="79"/>
                        </a:lnTo>
                        <a:lnTo>
                          <a:pt x="329" y="66"/>
                        </a:lnTo>
                        <a:lnTo>
                          <a:pt x="309" y="54"/>
                        </a:lnTo>
                        <a:lnTo>
                          <a:pt x="286" y="44"/>
                        </a:lnTo>
                        <a:lnTo>
                          <a:pt x="262" y="32"/>
                        </a:lnTo>
                        <a:lnTo>
                          <a:pt x="239" y="24"/>
                        </a:lnTo>
                        <a:lnTo>
                          <a:pt x="217" y="16"/>
                        </a:lnTo>
                        <a:lnTo>
                          <a:pt x="194" y="10"/>
                        </a:lnTo>
                        <a:lnTo>
                          <a:pt x="171" y="6"/>
                        </a:lnTo>
                        <a:lnTo>
                          <a:pt x="150" y="3"/>
                        </a:lnTo>
                        <a:lnTo>
                          <a:pt x="129" y="1"/>
                        </a:lnTo>
                        <a:lnTo>
                          <a:pt x="110" y="0"/>
                        </a:lnTo>
                        <a:lnTo>
                          <a:pt x="93" y="1"/>
                        </a:lnTo>
                        <a:lnTo>
                          <a:pt x="75" y="5"/>
                        </a:lnTo>
                        <a:lnTo>
                          <a:pt x="58" y="8"/>
                        </a:lnTo>
                        <a:lnTo>
                          <a:pt x="46" y="15"/>
                        </a:lnTo>
                        <a:lnTo>
                          <a:pt x="32" y="21"/>
                        </a:lnTo>
                        <a:lnTo>
                          <a:pt x="21" y="29"/>
                        </a:lnTo>
                        <a:lnTo>
                          <a:pt x="13" y="39"/>
                        </a:lnTo>
                        <a:lnTo>
                          <a:pt x="7" y="50"/>
                        </a:lnTo>
                        <a:lnTo>
                          <a:pt x="2" y="62"/>
                        </a:lnTo>
                        <a:lnTo>
                          <a:pt x="0" y="74"/>
                        </a:lnTo>
                        <a:lnTo>
                          <a:pt x="0" y="87"/>
                        </a:lnTo>
                        <a:lnTo>
                          <a:pt x="3" y="101"/>
                        </a:lnTo>
                        <a:lnTo>
                          <a:pt x="8" y="116"/>
                        </a:lnTo>
                        <a:lnTo>
                          <a:pt x="14" y="130"/>
                        </a:lnTo>
                        <a:lnTo>
                          <a:pt x="25" y="145"/>
                        </a:lnTo>
                        <a:lnTo>
                          <a:pt x="34" y="162"/>
                        </a:lnTo>
                        <a:lnTo>
                          <a:pt x="47" y="175"/>
                        </a:lnTo>
                        <a:lnTo>
                          <a:pt x="61" y="190"/>
                        </a:lnTo>
                        <a:lnTo>
                          <a:pt x="78" y="205"/>
                        </a:lnTo>
                        <a:lnTo>
                          <a:pt x="96" y="218"/>
                        </a:lnTo>
                        <a:lnTo>
                          <a:pt x="115" y="233"/>
                        </a:lnTo>
                        <a:lnTo>
                          <a:pt x="134" y="245"/>
                        </a:lnTo>
                        <a:lnTo>
                          <a:pt x="156" y="258"/>
                        </a:lnTo>
                        <a:lnTo>
                          <a:pt x="179" y="269"/>
                        </a:lnTo>
                        <a:lnTo>
                          <a:pt x="202" y="279"/>
                        </a:lnTo>
                        <a:lnTo>
                          <a:pt x="226" y="289"/>
                        </a:lnTo>
                        <a:lnTo>
                          <a:pt x="249" y="295"/>
                        </a:lnTo>
                        <a:lnTo>
                          <a:pt x="271" y="302"/>
                        </a:lnTo>
                        <a:lnTo>
                          <a:pt x="294" y="307"/>
                        </a:lnTo>
                        <a:lnTo>
                          <a:pt x="315" y="310"/>
                        </a:lnTo>
                        <a:lnTo>
                          <a:pt x="336" y="311"/>
                        </a:lnTo>
                        <a:lnTo>
                          <a:pt x="355" y="311"/>
                        </a:lnTo>
                        <a:lnTo>
                          <a:pt x="373" y="310"/>
                        </a:lnTo>
                        <a:lnTo>
                          <a:pt x="391" y="307"/>
                        </a:lnTo>
                        <a:lnTo>
                          <a:pt x="406" y="304"/>
                        </a:lnTo>
                        <a:lnTo>
                          <a:pt x="419" y="298"/>
                        </a:lnTo>
                        <a:lnTo>
                          <a:pt x="433" y="290"/>
                        </a:lnTo>
                        <a:lnTo>
                          <a:pt x="442" y="283"/>
                        </a:lnTo>
                        <a:lnTo>
                          <a:pt x="451" y="272"/>
                        </a:lnTo>
                        <a:lnTo>
                          <a:pt x="459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089840" y="2149920"/>
                    <a:ext cx="19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24">
                        <a:moveTo>
                          <a:pt x="299" y="15"/>
                        </a:moveTo>
                        <a:lnTo>
                          <a:pt x="292" y="37"/>
                        </a:lnTo>
                        <a:lnTo>
                          <a:pt x="281" y="56"/>
                        </a:lnTo>
                        <a:lnTo>
                          <a:pt x="269" y="76"/>
                        </a:lnTo>
                        <a:lnTo>
                          <a:pt x="255" y="91"/>
                        </a:lnTo>
                        <a:lnTo>
                          <a:pt x="240" y="108"/>
                        </a:lnTo>
                        <a:lnTo>
                          <a:pt x="224" y="123"/>
                        </a:lnTo>
                        <a:lnTo>
                          <a:pt x="208" y="136"/>
                        </a:lnTo>
                        <a:lnTo>
                          <a:pt x="190" y="150"/>
                        </a:lnTo>
                        <a:lnTo>
                          <a:pt x="171" y="161"/>
                        </a:lnTo>
                        <a:lnTo>
                          <a:pt x="151" y="172"/>
                        </a:lnTo>
                        <a:lnTo>
                          <a:pt x="133" y="183"/>
                        </a:lnTo>
                        <a:lnTo>
                          <a:pt x="111" y="194"/>
                        </a:lnTo>
                        <a:lnTo>
                          <a:pt x="71" y="209"/>
                        </a:lnTo>
                        <a:lnTo>
                          <a:pt x="30" y="224"/>
                        </a:lnTo>
                        <a:lnTo>
                          <a:pt x="0" y="188"/>
                        </a:lnTo>
                        <a:lnTo>
                          <a:pt x="32" y="159"/>
                        </a:lnTo>
                        <a:lnTo>
                          <a:pt x="66" y="124"/>
                        </a:lnTo>
                        <a:lnTo>
                          <a:pt x="101" y="87"/>
                        </a:lnTo>
                        <a:lnTo>
                          <a:pt x="140" y="52"/>
                        </a:lnTo>
                        <a:lnTo>
                          <a:pt x="158" y="35"/>
                        </a:lnTo>
                        <a:lnTo>
                          <a:pt x="177" y="23"/>
                        </a:lnTo>
                        <a:lnTo>
                          <a:pt x="198" y="11"/>
                        </a:lnTo>
                        <a:lnTo>
                          <a:pt x="217" y="5"/>
                        </a:lnTo>
                        <a:lnTo>
                          <a:pt x="227" y="2"/>
                        </a:lnTo>
                        <a:lnTo>
                          <a:pt x="239" y="0"/>
                        </a:lnTo>
                        <a:lnTo>
                          <a:pt x="248" y="0"/>
                        </a:lnTo>
                        <a:lnTo>
                          <a:pt x="258" y="2"/>
                        </a:lnTo>
                        <a:lnTo>
                          <a:pt x="269" y="3"/>
                        </a:lnTo>
                        <a:lnTo>
                          <a:pt x="279" y="6"/>
                        </a:lnTo>
                        <a:lnTo>
                          <a:pt x="289" y="11"/>
                        </a:lnTo>
                        <a:lnTo>
                          <a:pt x="299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138080" y="2233080"/>
                    <a:ext cx="194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78">
                        <a:moveTo>
                          <a:pt x="304" y="30"/>
                        </a:moveTo>
                        <a:lnTo>
                          <a:pt x="292" y="44"/>
                        </a:lnTo>
                        <a:lnTo>
                          <a:pt x="279" y="59"/>
                        </a:lnTo>
                        <a:lnTo>
                          <a:pt x="265" y="75"/>
                        </a:lnTo>
                        <a:lnTo>
                          <a:pt x="247" y="89"/>
                        </a:lnTo>
                        <a:lnTo>
                          <a:pt x="230" y="104"/>
                        </a:lnTo>
                        <a:lnTo>
                          <a:pt x="211" y="118"/>
                        </a:lnTo>
                        <a:lnTo>
                          <a:pt x="192" y="131"/>
                        </a:lnTo>
                        <a:lnTo>
                          <a:pt x="173" y="142"/>
                        </a:lnTo>
                        <a:lnTo>
                          <a:pt x="152" y="154"/>
                        </a:lnTo>
                        <a:lnTo>
                          <a:pt x="130" y="162"/>
                        </a:lnTo>
                        <a:lnTo>
                          <a:pt x="109" y="170"/>
                        </a:lnTo>
                        <a:lnTo>
                          <a:pt x="87" y="175"/>
                        </a:lnTo>
                        <a:lnTo>
                          <a:pt x="66" y="178"/>
                        </a:lnTo>
                        <a:lnTo>
                          <a:pt x="44" y="178"/>
                        </a:lnTo>
                        <a:lnTo>
                          <a:pt x="23" y="175"/>
                        </a:lnTo>
                        <a:lnTo>
                          <a:pt x="0" y="170"/>
                        </a:lnTo>
                        <a:lnTo>
                          <a:pt x="2" y="159"/>
                        </a:lnTo>
                        <a:lnTo>
                          <a:pt x="3" y="148"/>
                        </a:lnTo>
                        <a:lnTo>
                          <a:pt x="6" y="136"/>
                        </a:lnTo>
                        <a:lnTo>
                          <a:pt x="9" y="127"/>
                        </a:lnTo>
                        <a:lnTo>
                          <a:pt x="13" y="116"/>
                        </a:lnTo>
                        <a:lnTo>
                          <a:pt x="17" y="109"/>
                        </a:lnTo>
                        <a:lnTo>
                          <a:pt x="24" y="101"/>
                        </a:lnTo>
                        <a:lnTo>
                          <a:pt x="31" y="92"/>
                        </a:lnTo>
                        <a:lnTo>
                          <a:pt x="45" y="80"/>
                        </a:lnTo>
                        <a:lnTo>
                          <a:pt x="61" y="67"/>
                        </a:lnTo>
                        <a:lnTo>
                          <a:pt x="81" y="57"/>
                        </a:lnTo>
                        <a:lnTo>
                          <a:pt x="100" y="48"/>
                        </a:lnTo>
                        <a:lnTo>
                          <a:pt x="144" y="33"/>
                        </a:lnTo>
                        <a:lnTo>
                          <a:pt x="187" y="21"/>
                        </a:lnTo>
                        <a:lnTo>
                          <a:pt x="230" y="10"/>
                        </a:lnTo>
                        <a:lnTo>
                          <a:pt x="269" y="0"/>
                        </a:lnTo>
                        <a:lnTo>
                          <a:pt x="30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15248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51">
                        <a:moveTo>
                          <a:pt x="331" y="20"/>
                        </a:moveTo>
                        <a:lnTo>
                          <a:pt x="313" y="27"/>
                        </a:lnTo>
                        <a:lnTo>
                          <a:pt x="293" y="38"/>
                        </a:lnTo>
                        <a:lnTo>
                          <a:pt x="275" y="50"/>
                        </a:lnTo>
                        <a:lnTo>
                          <a:pt x="258" y="63"/>
                        </a:lnTo>
                        <a:lnTo>
                          <a:pt x="219" y="91"/>
                        </a:lnTo>
                        <a:lnTo>
                          <a:pt x="180" y="118"/>
                        </a:lnTo>
                        <a:lnTo>
                          <a:pt x="160" y="129"/>
                        </a:lnTo>
                        <a:lnTo>
                          <a:pt x="139" y="139"/>
                        </a:lnTo>
                        <a:lnTo>
                          <a:pt x="118" y="147"/>
                        </a:lnTo>
                        <a:lnTo>
                          <a:pt x="95" y="151"/>
                        </a:lnTo>
                        <a:lnTo>
                          <a:pt x="83" y="151"/>
                        </a:lnTo>
                        <a:lnTo>
                          <a:pt x="72" y="151"/>
                        </a:lnTo>
                        <a:lnTo>
                          <a:pt x="60" y="151"/>
                        </a:lnTo>
                        <a:lnTo>
                          <a:pt x="50" y="150"/>
                        </a:lnTo>
                        <a:lnTo>
                          <a:pt x="37" y="147"/>
                        </a:lnTo>
                        <a:lnTo>
                          <a:pt x="24" y="142"/>
                        </a:lnTo>
                        <a:lnTo>
                          <a:pt x="13" y="138"/>
                        </a:lnTo>
                        <a:lnTo>
                          <a:pt x="0" y="129"/>
                        </a:lnTo>
                        <a:lnTo>
                          <a:pt x="0" y="113"/>
                        </a:lnTo>
                        <a:lnTo>
                          <a:pt x="3" y="100"/>
                        </a:lnTo>
                        <a:lnTo>
                          <a:pt x="9" y="88"/>
                        </a:lnTo>
                        <a:lnTo>
                          <a:pt x="16" y="77"/>
                        </a:lnTo>
                        <a:lnTo>
                          <a:pt x="25" y="68"/>
                        </a:lnTo>
                        <a:lnTo>
                          <a:pt x="37" y="60"/>
                        </a:lnTo>
                        <a:lnTo>
                          <a:pt x="50" y="53"/>
                        </a:lnTo>
                        <a:lnTo>
                          <a:pt x="63" y="47"/>
                        </a:lnTo>
                        <a:lnTo>
                          <a:pt x="90" y="38"/>
                        </a:lnTo>
                        <a:lnTo>
                          <a:pt x="119" y="27"/>
                        </a:lnTo>
                        <a:lnTo>
                          <a:pt x="133" y="23"/>
                        </a:lnTo>
                        <a:lnTo>
                          <a:pt x="148" y="17"/>
                        </a:lnTo>
                        <a:lnTo>
                          <a:pt x="160" y="9"/>
                        </a:lnTo>
                        <a:lnTo>
                          <a:pt x="172" y="2"/>
                        </a:lnTo>
                        <a:lnTo>
                          <a:pt x="213" y="2"/>
                        </a:lnTo>
                        <a:lnTo>
                          <a:pt x="257" y="0"/>
                        </a:lnTo>
                        <a:lnTo>
                          <a:pt x="277" y="2"/>
                        </a:lnTo>
                        <a:lnTo>
                          <a:pt x="296" y="5"/>
                        </a:lnTo>
                        <a:lnTo>
                          <a:pt x="307" y="6"/>
                        </a:lnTo>
                        <a:lnTo>
                          <a:pt x="314" y="9"/>
                        </a:lnTo>
                        <a:lnTo>
                          <a:pt x="322" y="15"/>
                        </a:lnTo>
                        <a:lnTo>
                          <a:pt x="33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166520" y="232488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44">
                        <a:moveTo>
                          <a:pt x="337" y="17"/>
                        </a:moveTo>
                        <a:lnTo>
                          <a:pt x="333" y="26"/>
                        </a:lnTo>
                        <a:lnTo>
                          <a:pt x="329" y="36"/>
                        </a:lnTo>
                        <a:lnTo>
                          <a:pt x="322" y="45"/>
                        </a:lnTo>
                        <a:lnTo>
                          <a:pt x="318" y="53"/>
                        </a:lnTo>
                        <a:lnTo>
                          <a:pt x="303" y="68"/>
                        </a:lnTo>
                        <a:lnTo>
                          <a:pt x="289" y="83"/>
                        </a:lnTo>
                        <a:lnTo>
                          <a:pt x="271" y="92"/>
                        </a:lnTo>
                        <a:lnTo>
                          <a:pt x="250" y="102"/>
                        </a:lnTo>
                        <a:lnTo>
                          <a:pt x="229" y="110"/>
                        </a:lnTo>
                        <a:lnTo>
                          <a:pt x="208" y="116"/>
                        </a:lnTo>
                        <a:lnTo>
                          <a:pt x="160" y="126"/>
                        </a:lnTo>
                        <a:lnTo>
                          <a:pt x="112" y="133"/>
                        </a:lnTo>
                        <a:lnTo>
                          <a:pt x="65" y="138"/>
                        </a:lnTo>
                        <a:lnTo>
                          <a:pt x="20" y="144"/>
                        </a:lnTo>
                        <a:lnTo>
                          <a:pt x="13" y="142"/>
                        </a:lnTo>
                        <a:lnTo>
                          <a:pt x="9" y="139"/>
                        </a:lnTo>
                        <a:lnTo>
                          <a:pt x="6" y="136"/>
                        </a:lnTo>
                        <a:lnTo>
                          <a:pt x="3" y="133"/>
                        </a:lnTo>
                        <a:lnTo>
                          <a:pt x="0" y="124"/>
                        </a:lnTo>
                        <a:lnTo>
                          <a:pt x="0" y="116"/>
                        </a:lnTo>
                        <a:lnTo>
                          <a:pt x="2" y="98"/>
                        </a:lnTo>
                        <a:lnTo>
                          <a:pt x="2" y="83"/>
                        </a:lnTo>
                        <a:lnTo>
                          <a:pt x="20" y="70"/>
                        </a:lnTo>
                        <a:lnTo>
                          <a:pt x="38" y="59"/>
                        </a:lnTo>
                        <a:lnTo>
                          <a:pt x="56" y="49"/>
                        </a:lnTo>
                        <a:lnTo>
                          <a:pt x="76" y="38"/>
                        </a:lnTo>
                        <a:lnTo>
                          <a:pt x="97" y="29"/>
                        </a:lnTo>
                        <a:lnTo>
                          <a:pt x="116" y="21"/>
                        </a:lnTo>
                        <a:lnTo>
                          <a:pt x="137" y="15"/>
                        </a:lnTo>
                        <a:lnTo>
                          <a:pt x="160" y="10"/>
                        </a:lnTo>
                        <a:lnTo>
                          <a:pt x="180" y="5"/>
                        </a:lnTo>
                        <a:lnTo>
                          <a:pt x="203" y="2"/>
                        </a:lnTo>
                        <a:lnTo>
                          <a:pt x="224" y="0"/>
                        </a:lnTo>
                        <a:lnTo>
                          <a:pt x="247" y="0"/>
                        </a:lnTo>
                        <a:lnTo>
                          <a:pt x="269" y="2"/>
                        </a:lnTo>
                        <a:lnTo>
                          <a:pt x="292" y="5"/>
                        </a:lnTo>
                        <a:lnTo>
                          <a:pt x="315" y="10"/>
                        </a:lnTo>
                        <a:lnTo>
                          <a:pt x="33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173000" y="237312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90">
                        <a:moveTo>
                          <a:pt x="332" y="20"/>
                        </a:moveTo>
                        <a:lnTo>
                          <a:pt x="329" y="32"/>
                        </a:lnTo>
                        <a:lnTo>
                          <a:pt x="324" y="41"/>
                        </a:lnTo>
                        <a:lnTo>
                          <a:pt x="317" y="50"/>
                        </a:lnTo>
                        <a:lnTo>
                          <a:pt x="311" y="58"/>
                        </a:lnTo>
                        <a:lnTo>
                          <a:pt x="305" y="64"/>
                        </a:lnTo>
                        <a:lnTo>
                          <a:pt x="296" y="68"/>
                        </a:lnTo>
                        <a:lnTo>
                          <a:pt x="290" y="74"/>
                        </a:lnTo>
                        <a:lnTo>
                          <a:pt x="281" y="79"/>
                        </a:lnTo>
                        <a:lnTo>
                          <a:pt x="263" y="85"/>
                        </a:lnTo>
                        <a:lnTo>
                          <a:pt x="242" y="88"/>
                        </a:lnTo>
                        <a:lnTo>
                          <a:pt x="221" y="90"/>
                        </a:lnTo>
                        <a:lnTo>
                          <a:pt x="198" y="90"/>
                        </a:lnTo>
                        <a:lnTo>
                          <a:pt x="151" y="88"/>
                        </a:lnTo>
                        <a:lnTo>
                          <a:pt x="103" y="83"/>
                        </a:lnTo>
                        <a:lnTo>
                          <a:pt x="80" y="83"/>
                        </a:lnTo>
                        <a:lnTo>
                          <a:pt x="56" y="83"/>
                        </a:lnTo>
                        <a:lnTo>
                          <a:pt x="35" y="83"/>
                        </a:lnTo>
                        <a:lnTo>
                          <a:pt x="15" y="86"/>
                        </a:lnTo>
                        <a:lnTo>
                          <a:pt x="9" y="85"/>
                        </a:lnTo>
                        <a:lnTo>
                          <a:pt x="6" y="82"/>
                        </a:lnTo>
                        <a:lnTo>
                          <a:pt x="3" y="79"/>
                        </a:lnTo>
                        <a:lnTo>
                          <a:pt x="1" y="74"/>
                        </a:lnTo>
                        <a:lnTo>
                          <a:pt x="0" y="65"/>
                        </a:lnTo>
                        <a:lnTo>
                          <a:pt x="0" y="58"/>
                        </a:lnTo>
                        <a:lnTo>
                          <a:pt x="1" y="38"/>
                        </a:lnTo>
                        <a:lnTo>
                          <a:pt x="1" y="20"/>
                        </a:lnTo>
                        <a:lnTo>
                          <a:pt x="42" y="17"/>
                        </a:lnTo>
                        <a:lnTo>
                          <a:pt x="86" y="11"/>
                        </a:lnTo>
                        <a:lnTo>
                          <a:pt x="128" y="6"/>
                        </a:lnTo>
                        <a:lnTo>
                          <a:pt x="174" y="1"/>
                        </a:lnTo>
                        <a:lnTo>
                          <a:pt x="195" y="0"/>
                        </a:lnTo>
                        <a:lnTo>
                          <a:pt x="218" y="0"/>
                        </a:lnTo>
                        <a:lnTo>
                          <a:pt x="239" y="0"/>
                        </a:lnTo>
                        <a:lnTo>
                          <a:pt x="258" y="1"/>
                        </a:lnTo>
                        <a:lnTo>
                          <a:pt x="278" y="5"/>
                        </a:lnTo>
                        <a:lnTo>
                          <a:pt x="296" y="8"/>
                        </a:lnTo>
                        <a:lnTo>
                          <a:pt x="316" y="14"/>
                        </a:lnTo>
                        <a:lnTo>
                          <a:pt x="33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173000" y="246780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111">
                        <a:moveTo>
                          <a:pt x="318" y="111"/>
                        </a:moveTo>
                        <a:lnTo>
                          <a:pt x="300" y="106"/>
                        </a:lnTo>
                        <a:lnTo>
                          <a:pt x="281" y="103"/>
                        </a:lnTo>
                        <a:lnTo>
                          <a:pt x="260" y="100"/>
                        </a:lnTo>
                        <a:lnTo>
                          <a:pt x="238" y="98"/>
                        </a:lnTo>
                        <a:lnTo>
                          <a:pt x="192" y="95"/>
                        </a:lnTo>
                        <a:lnTo>
                          <a:pt x="144" y="92"/>
                        </a:lnTo>
                        <a:lnTo>
                          <a:pt x="121" y="89"/>
                        </a:lnTo>
                        <a:lnTo>
                          <a:pt x="99" y="85"/>
                        </a:lnTo>
                        <a:lnTo>
                          <a:pt x="78" y="79"/>
                        </a:lnTo>
                        <a:lnTo>
                          <a:pt x="58" y="73"/>
                        </a:lnTo>
                        <a:lnTo>
                          <a:pt x="41" y="62"/>
                        </a:lnTo>
                        <a:lnTo>
                          <a:pt x="25" y="52"/>
                        </a:lnTo>
                        <a:lnTo>
                          <a:pt x="17" y="45"/>
                        </a:lnTo>
                        <a:lnTo>
                          <a:pt x="10" y="37"/>
                        </a:lnTo>
                        <a:lnTo>
                          <a:pt x="5" y="29"/>
                        </a:lnTo>
                        <a:lnTo>
                          <a:pt x="0" y="20"/>
                        </a:lnTo>
                        <a:lnTo>
                          <a:pt x="15" y="14"/>
                        </a:lnTo>
                        <a:lnTo>
                          <a:pt x="31" y="11"/>
                        </a:lnTo>
                        <a:lnTo>
                          <a:pt x="49" y="6"/>
                        </a:lnTo>
                        <a:lnTo>
                          <a:pt x="68" y="5"/>
                        </a:lnTo>
                        <a:lnTo>
                          <a:pt x="109" y="0"/>
                        </a:lnTo>
                        <a:lnTo>
                          <a:pt x="150" y="0"/>
                        </a:lnTo>
                        <a:lnTo>
                          <a:pt x="194" y="0"/>
                        </a:lnTo>
                        <a:lnTo>
                          <a:pt x="238" y="5"/>
                        </a:lnTo>
                        <a:lnTo>
                          <a:pt x="280" y="11"/>
                        </a:lnTo>
                        <a:lnTo>
                          <a:pt x="318" y="20"/>
                        </a:lnTo>
                        <a:lnTo>
                          <a:pt x="318" y="1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169040" y="2414520"/>
                    <a:ext cx="32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50">
                        <a:moveTo>
                          <a:pt x="499" y="123"/>
                        </a:moveTo>
                        <a:lnTo>
                          <a:pt x="499" y="111"/>
                        </a:lnTo>
                        <a:lnTo>
                          <a:pt x="494" y="99"/>
                        </a:lnTo>
                        <a:lnTo>
                          <a:pt x="488" y="86"/>
                        </a:lnTo>
                        <a:lnTo>
                          <a:pt x="479" y="75"/>
                        </a:lnTo>
                        <a:lnTo>
                          <a:pt x="468" y="65"/>
                        </a:lnTo>
                        <a:lnTo>
                          <a:pt x="457" y="53"/>
                        </a:lnTo>
                        <a:lnTo>
                          <a:pt x="443" y="44"/>
                        </a:lnTo>
                        <a:lnTo>
                          <a:pt x="426" y="36"/>
                        </a:lnTo>
                        <a:lnTo>
                          <a:pt x="408" y="28"/>
                        </a:lnTo>
                        <a:lnTo>
                          <a:pt x="389" y="22"/>
                        </a:lnTo>
                        <a:lnTo>
                          <a:pt x="369" y="15"/>
                        </a:lnTo>
                        <a:lnTo>
                          <a:pt x="346" y="10"/>
                        </a:lnTo>
                        <a:lnTo>
                          <a:pt x="323" y="5"/>
                        </a:lnTo>
                        <a:lnTo>
                          <a:pt x="299" y="2"/>
                        </a:lnTo>
                        <a:lnTo>
                          <a:pt x="275" y="0"/>
                        </a:lnTo>
                        <a:lnTo>
                          <a:pt x="249" y="0"/>
                        </a:lnTo>
                        <a:lnTo>
                          <a:pt x="223" y="2"/>
                        </a:lnTo>
                        <a:lnTo>
                          <a:pt x="199" y="4"/>
                        </a:lnTo>
                        <a:lnTo>
                          <a:pt x="175" y="7"/>
                        </a:lnTo>
                        <a:lnTo>
                          <a:pt x="152" y="12"/>
                        </a:lnTo>
                        <a:lnTo>
                          <a:pt x="130" y="17"/>
                        </a:lnTo>
                        <a:lnTo>
                          <a:pt x="109" y="23"/>
                        </a:lnTo>
                        <a:lnTo>
                          <a:pt x="91" y="31"/>
                        </a:lnTo>
                        <a:lnTo>
                          <a:pt x="73" y="40"/>
                        </a:lnTo>
                        <a:lnTo>
                          <a:pt x="57" y="47"/>
                        </a:lnTo>
                        <a:lnTo>
                          <a:pt x="42" y="57"/>
                        </a:lnTo>
                        <a:lnTo>
                          <a:pt x="30" y="68"/>
                        </a:lnTo>
                        <a:lnTo>
                          <a:pt x="20" y="79"/>
                        </a:lnTo>
                        <a:lnTo>
                          <a:pt x="10" y="91"/>
                        </a:lnTo>
                        <a:lnTo>
                          <a:pt x="6" y="102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3" y="141"/>
                        </a:lnTo>
                        <a:lnTo>
                          <a:pt x="6" y="152"/>
                        </a:lnTo>
                        <a:lnTo>
                          <a:pt x="12" y="165"/>
                        </a:lnTo>
                        <a:lnTo>
                          <a:pt x="20" y="176"/>
                        </a:lnTo>
                        <a:lnTo>
                          <a:pt x="31" y="188"/>
                        </a:lnTo>
                        <a:lnTo>
                          <a:pt x="44" y="197"/>
                        </a:lnTo>
                        <a:lnTo>
                          <a:pt x="57" y="207"/>
                        </a:lnTo>
                        <a:lnTo>
                          <a:pt x="75" y="215"/>
                        </a:lnTo>
                        <a:lnTo>
                          <a:pt x="92" y="223"/>
                        </a:lnTo>
                        <a:lnTo>
                          <a:pt x="110" y="229"/>
                        </a:lnTo>
                        <a:lnTo>
                          <a:pt x="131" y="236"/>
                        </a:lnTo>
                        <a:lnTo>
                          <a:pt x="154" y="241"/>
                        </a:lnTo>
                        <a:lnTo>
                          <a:pt x="177" y="246"/>
                        </a:lnTo>
                        <a:lnTo>
                          <a:pt x="201" y="249"/>
                        </a:lnTo>
                        <a:lnTo>
                          <a:pt x="225" y="250"/>
                        </a:lnTo>
                        <a:lnTo>
                          <a:pt x="251" y="250"/>
                        </a:lnTo>
                        <a:lnTo>
                          <a:pt x="276" y="249"/>
                        </a:lnTo>
                        <a:lnTo>
                          <a:pt x="301" y="247"/>
                        </a:lnTo>
                        <a:lnTo>
                          <a:pt x="325" y="244"/>
                        </a:lnTo>
                        <a:lnTo>
                          <a:pt x="347" y="239"/>
                        </a:lnTo>
                        <a:lnTo>
                          <a:pt x="370" y="235"/>
                        </a:lnTo>
                        <a:lnTo>
                          <a:pt x="391" y="227"/>
                        </a:lnTo>
                        <a:lnTo>
                          <a:pt x="410" y="220"/>
                        </a:lnTo>
                        <a:lnTo>
                          <a:pt x="426" y="212"/>
                        </a:lnTo>
                        <a:lnTo>
                          <a:pt x="443" y="203"/>
                        </a:lnTo>
                        <a:lnTo>
                          <a:pt x="457" y="194"/>
                        </a:lnTo>
                        <a:lnTo>
                          <a:pt x="470" y="183"/>
                        </a:lnTo>
                        <a:lnTo>
                          <a:pt x="479" y="173"/>
                        </a:lnTo>
                        <a:lnTo>
                          <a:pt x="490" y="161"/>
                        </a:lnTo>
                        <a:lnTo>
                          <a:pt x="494" y="149"/>
                        </a:lnTo>
                        <a:lnTo>
                          <a:pt x="499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112520" y="2183760"/>
                    <a:ext cx="29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310">
                        <a:moveTo>
                          <a:pt x="458" y="49"/>
                        </a:moveTo>
                        <a:lnTo>
                          <a:pt x="461" y="62"/>
                        </a:lnTo>
                        <a:lnTo>
                          <a:pt x="463" y="74"/>
                        </a:lnTo>
                        <a:lnTo>
                          <a:pt x="463" y="88"/>
                        </a:lnTo>
                        <a:lnTo>
                          <a:pt x="460" y="102"/>
                        </a:lnTo>
                        <a:lnTo>
                          <a:pt x="455" y="116"/>
                        </a:lnTo>
                        <a:lnTo>
                          <a:pt x="449" y="131"/>
                        </a:lnTo>
                        <a:lnTo>
                          <a:pt x="440" y="145"/>
                        </a:lnTo>
                        <a:lnTo>
                          <a:pt x="430" y="160"/>
                        </a:lnTo>
                        <a:lnTo>
                          <a:pt x="416" y="174"/>
                        </a:lnTo>
                        <a:lnTo>
                          <a:pt x="402" y="189"/>
                        </a:lnTo>
                        <a:lnTo>
                          <a:pt x="386" y="204"/>
                        </a:lnTo>
                        <a:lnTo>
                          <a:pt x="368" y="218"/>
                        </a:lnTo>
                        <a:lnTo>
                          <a:pt x="351" y="231"/>
                        </a:lnTo>
                        <a:lnTo>
                          <a:pt x="330" y="245"/>
                        </a:lnTo>
                        <a:lnTo>
                          <a:pt x="309" y="257"/>
                        </a:lnTo>
                        <a:lnTo>
                          <a:pt x="284" y="268"/>
                        </a:lnTo>
                        <a:lnTo>
                          <a:pt x="262" y="280"/>
                        </a:lnTo>
                        <a:lnTo>
                          <a:pt x="239" y="287"/>
                        </a:lnTo>
                        <a:lnTo>
                          <a:pt x="215" y="295"/>
                        </a:lnTo>
                        <a:lnTo>
                          <a:pt x="192" y="301"/>
                        </a:lnTo>
                        <a:lnTo>
                          <a:pt x="171" y="305"/>
                        </a:lnTo>
                        <a:lnTo>
                          <a:pt x="150" y="309"/>
                        </a:lnTo>
                        <a:lnTo>
                          <a:pt x="130" y="310"/>
                        </a:lnTo>
                        <a:lnTo>
                          <a:pt x="110" y="310"/>
                        </a:lnTo>
                        <a:lnTo>
                          <a:pt x="91" y="310"/>
                        </a:lnTo>
                        <a:lnTo>
                          <a:pt x="74" y="307"/>
                        </a:lnTo>
                        <a:lnTo>
                          <a:pt x="59" y="304"/>
                        </a:lnTo>
                        <a:lnTo>
                          <a:pt x="44" y="297"/>
                        </a:lnTo>
                        <a:lnTo>
                          <a:pt x="33" y="290"/>
                        </a:lnTo>
                        <a:lnTo>
                          <a:pt x="21" y="283"/>
                        </a:lnTo>
                        <a:lnTo>
                          <a:pt x="14" y="272"/>
                        </a:lnTo>
                        <a:lnTo>
                          <a:pt x="6" y="262"/>
                        </a:lnTo>
                        <a:lnTo>
                          <a:pt x="2" y="250"/>
                        </a:lnTo>
                        <a:lnTo>
                          <a:pt x="0" y="237"/>
                        </a:lnTo>
                        <a:lnTo>
                          <a:pt x="0" y="223"/>
                        </a:lnTo>
                        <a:lnTo>
                          <a:pt x="3" y="210"/>
                        </a:lnTo>
                        <a:lnTo>
                          <a:pt x="9" y="195"/>
                        </a:lnTo>
                        <a:lnTo>
                          <a:pt x="15" y="181"/>
                        </a:lnTo>
                        <a:lnTo>
                          <a:pt x="23" y="165"/>
                        </a:lnTo>
                        <a:lnTo>
                          <a:pt x="35" y="150"/>
                        </a:lnTo>
                        <a:lnTo>
                          <a:pt x="47" y="136"/>
                        </a:lnTo>
                        <a:lnTo>
                          <a:pt x="62" y="121"/>
                        </a:lnTo>
                        <a:lnTo>
                          <a:pt x="77" y="107"/>
                        </a:lnTo>
                        <a:lnTo>
                          <a:pt x="95" y="92"/>
                        </a:lnTo>
                        <a:lnTo>
                          <a:pt x="113" y="79"/>
                        </a:lnTo>
                        <a:lnTo>
                          <a:pt x="135" y="67"/>
                        </a:lnTo>
                        <a:lnTo>
                          <a:pt x="156" y="53"/>
                        </a:lnTo>
                        <a:lnTo>
                          <a:pt x="180" y="42"/>
                        </a:lnTo>
                        <a:lnTo>
                          <a:pt x="203" y="33"/>
                        </a:lnTo>
                        <a:lnTo>
                          <a:pt x="227" y="23"/>
                        </a:lnTo>
                        <a:lnTo>
                          <a:pt x="249" y="17"/>
                        </a:lnTo>
                        <a:lnTo>
                          <a:pt x="271" y="10"/>
                        </a:lnTo>
                        <a:lnTo>
                          <a:pt x="292" y="5"/>
                        </a:lnTo>
                        <a:lnTo>
                          <a:pt x="315" y="2"/>
                        </a:lnTo>
                        <a:lnTo>
                          <a:pt x="334" y="0"/>
                        </a:lnTo>
                        <a:lnTo>
                          <a:pt x="354" y="0"/>
                        </a:lnTo>
                        <a:lnTo>
                          <a:pt x="373" y="2"/>
                        </a:lnTo>
                        <a:lnTo>
                          <a:pt x="389" y="3"/>
                        </a:lnTo>
                        <a:lnTo>
                          <a:pt x="405" y="9"/>
                        </a:lnTo>
                        <a:lnTo>
                          <a:pt x="420" y="14"/>
                        </a:lnTo>
                        <a:lnTo>
                          <a:pt x="433" y="20"/>
                        </a:lnTo>
                        <a:lnTo>
                          <a:pt x="443" y="27"/>
                        </a:lnTo>
                        <a:lnTo>
                          <a:pt x="452" y="38"/>
                        </a:lnTo>
                        <a:lnTo>
                          <a:pt x="45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420240" y="2752920"/>
                  <a:ext cx="270360" cy="133920"/>
                  <a:chOff x="6420240" y="2752920"/>
                  <a:chExt cx="270360" cy="1339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6420240" y="27529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87">
                        <a:moveTo>
                          <a:pt x="248" y="0"/>
                        </a:moveTo>
                        <a:lnTo>
                          <a:pt x="249" y="13"/>
                        </a:lnTo>
                        <a:lnTo>
                          <a:pt x="249" y="26"/>
                        </a:lnTo>
                        <a:lnTo>
                          <a:pt x="249" y="37"/>
                        </a:lnTo>
                        <a:lnTo>
                          <a:pt x="248" y="48"/>
                        </a:lnTo>
                        <a:lnTo>
                          <a:pt x="245" y="60"/>
                        </a:lnTo>
                        <a:lnTo>
                          <a:pt x="242" y="69"/>
                        </a:lnTo>
                        <a:lnTo>
                          <a:pt x="236" y="79"/>
                        </a:lnTo>
                        <a:lnTo>
                          <a:pt x="231" y="89"/>
                        </a:lnTo>
                        <a:lnTo>
                          <a:pt x="220" y="107"/>
                        </a:lnTo>
                        <a:lnTo>
                          <a:pt x="204" y="122"/>
                        </a:lnTo>
                        <a:lnTo>
                          <a:pt x="188" y="139"/>
                        </a:lnTo>
                        <a:lnTo>
                          <a:pt x="171" y="154"/>
                        </a:lnTo>
                        <a:lnTo>
                          <a:pt x="131" y="184"/>
                        </a:lnTo>
                        <a:lnTo>
                          <a:pt x="92" y="213"/>
                        </a:lnTo>
                        <a:lnTo>
                          <a:pt x="74" y="231"/>
                        </a:lnTo>
                        <a:lnTo>
                          <a:pt x="56" y="249"/>
                        </a:lnTo>
                        <a:lnTo>
                          <a:pt x="41" y="266"/>
                        </a:lnTo>
                        <a:lnTo>
                          <a:pt x="27" y="287"/>
                        </a:lnTo>
                        <a:lnTo>
                          <a:pt x="18" y="275"/>
                        </a:lnTo>
                        <a:lnTo>
                          <a:pt x="12" y="263"/>
                        </a:lnTo>
                        <a:lnTo>
                          <a:pt x="7" y="252"/>
                        </a:lnTo>
                        <a:lnTo>
                          <a:pt x="3" y="242"/>
                        </a:lnTo>
                        <a:lnTo>
                          <a:pt x="1" y="231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1" y="202"/>
                        </a:lnTo>
                        <a:lnTo>
                          <a:pt x="4" y="193"/>
                        </a:lnTo>
                        <a:lnTo>
                          <a:pt x="7" y="184"/>
                        </a:lnTo>
                        <a:lnTo>
                          <a:pt x="12" y="176"/>
                        </a:lnTo>
                        <a:lnTo>
                          <a:pt x="17" y="168"/>
                        </a:lnTo>
                        <a:lnTo>
                          <a:pt x="30" y="152"/>
                        </a:lnTo>
                        <a:lnTo>
                          <a:pt x="44" y="136"/>
                        </a:lnTo>
                        <a:lnTo>
                          <a:pt x="78" y="105"/>
                        </a:lnTo>
                        <a:lnTo>
                          <a:pt x="113" y="72"/>
                        </a:lnTo>
                        <a:lnTo>
                          <a:pt x="130" y="57"/>
                        </a:lnTo>
                        <a:lnTo>
                          <a:pt x="146" y="39"/>
                        </a:lnTo>
                        <a:lnTo>
                          <a:pt x="159" y="19"/>
                        </a:lnTo>
                        <a:lnTo>
                          <a:pt x="169" y="0"/>
                        </a:lnTo>
                        <a:lnTo>
                          <a:pt x="2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457680" y="2781720"/>
                    <a:ext cx="15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82">
                        <a:moveTo>
                          <a:pt x="242" y="0"/>
                        </a:moveTo>
                        <a:lnTo>
                          <a:pt x="225" y="40"/>
                        </a:lnTo>
                        <a:lnTo>
                          <a:pt x="204" y="83"/>
                        </a:lnTo>
                        <a:lnTo>
                          <a:pt x="194" y="105"/>
                        </a:lnTo>
                        <a:lnTo>
                          <a:pt x="182" y="126"/>
                        </a:lnTo>
                        <a:lnTo>
                          <a:pt x="170" y="147"/>
                        </a:lnTo>
                        <a:lnTo>
                          <a:pt x="156" y="168"/>
                        </a:lnTo>
                        <a:lnTo>
                          <a:pt x="142" y="186"/>
                        </a:lnTo>
                        <a:lnTo>
                          <a:pt x="127" y="204"/>
                        </a:lnTo>
                        <a:lnTo>
                          <a:pt x="112" y="222"/>
                        </a:lnTo>
                        <a:lnTo>
                          <a:pt x="94" y="237"/>
                        </a:lnTo>
                        <a:lnTo>
                          <a:pt x="77" y="251"/>
                        </a:lnTo>
                        <a:lnTo>
                          <a:pt x="57" y="265"/>
                        </a:lnTo>
                        <a:lnTo>
                          <a:pt x="38" y="274"/>
                        </a:lnTo>
                        <a:lnTo>
                          <a:pt x="17" y="282"/>
                        </a:lnTo>
                        <a:lnTo>
                          <a:pt x="12" y="269"/>
                        </a:lnTo>
                        <a:lnTo>
                          <a:pt x="8" y="257"/>
                        </a:lnTo>
                        <a:lnTo>
                          <a:pt x="4" y="245"/>
                        </a:lnTo>
                        <a:lnTo>
                          <a:pt x="3" y="235"/>
                        </a:lnTo>
                        <a:lnTo>
                          <a:pt x="0" y="224"/>
                        </a:lnTo>
                        <a:lnTo>
                          <a:pt x="3" y="215"/>
                        </a:lnTo>
                        <a:lnTo>
                          <a:pt x="4" y="204"/>
                        </a:lnTo>
                        <a:lnTo>
                          <a:pt x="6" y="195"/>
                        </a:lnTo>
                        <a:lnTo>
                          <a:pt x="9" y="186"/>
                        </a:lnTo>
                        <a:lnTo>
                          <a:pt x="14" y="177"/>
                        </a:lnTo>
                        <a:lnTo>
                          <a:pt x="18" y="169"/>
                        </a:lnTo>
                        <a:lnTo>
                          <a:pt x="25" y="161"/>
                        </a:lnTo>
                        <a:lnTo>
                          <a:pt x="38" y="145"/>
                        </a:lnTo>
                        <a:lnTo>
                          <a:pt x="54" y="130"/>
                        </a:lnTo>
                        <a:lnTo>
                          <a:pt x="88" y="101"/>
                        </a:lnTo>
                        <a:lnTo>
                          <a:pt x="123" y="71"/>
                        </a:lnTo>
                        <a:lnTo>
                          <a:pt x="139" y="55"/>
                        </a:lnTo>
                        <a:lnTo>
                          <a:pt x="154" y="37"/>
                        </a:lnTo>
                        <a:lnTo>
                          <a:pt x="167" y="20"/>
                        </a:lnTo>
                        <a:lnTo>
                          <a:pt x="177" y="0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542280" y="2827440"/>
                    <a:ext cx="11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1">
                        <a:moveTo>
                          <a:pt x="184" y="33"/>
                        </a:moveTo>
                        <a:lnTo>
                          <a:pt x="172" y="76"/>
                        </a:lnTo>
                        <a:lnTo>
                          <a:pt x="160" y="119"/>
                        </a:lnTo>
                        <a:lnTo>
                          <a:pt x="148" y="165"/>
                        </a:lnTo>
                        <a:lnTo>
                          <a:pt x="132" y="209"/>
                        </a:lnTo>
                        <a:lnTo>
                          <a:pt x="122" y="227"/>
                        </a:lnTo>
                        <a:lnTo>
                          <a:pt x="113" y="247"/>
                        </a:lnTo>
                        <a:lnTo>
                          <a:pt x="99" y="265"/>
                        </a:lnTo>
                        <a:lnTo>
                          <a:pt x="86" y="281"/>
                        </a:lnTo>
                        <a:lnTo>
                          <a:pt x="69" y="293"/>
                        </a:lnTo>
                        <a:lnTo>
                          <a:pt x="51" y="305"/>
                        </a:lnTo>
                        <a:lnTo>
                          <a:pt x="42" y="310"/>
                        </a:lnTo>
                        <a:lnTo>
                          <a:pt x="31" y="315"/>
                        </a:lnTo>
                        <a:lnTo>
                          <a:pt x="19" y="318"/>
                        </a:lnTo>
                        <a:lnTo>
                          <a:pt x="8" y="321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0" y="254"/>
                        </a:lnTo>
                        <a:lnTo>
                          <a:pt x="1" y="234"/>
                        </a:lnTo>
                        <a:lnTo>
                          <a:pt x="7" y="213"/>
                        </a:lnTo>
                        <a:lnTo>
                          <a:pt x="11" y="192"/>
                        </a:lnTo>
                        <a:lnTo>
                          <a:pt x="19" y="172"/>
                        </a:lnTo>
                        <a:lnTo>
                          <a:pt x="29" y="151"/>
                        </a:lnTo>
                        <a:lnTo>
                          <a:pt x="50" y="113"/>
                        </a:lnTo>
                        <a:lnTo>
                          <a:pt x="74" y="76"/>
                        </a:lnTo>
                        <a:lnTo>
                          <a:pt x="98" y="39"/>
                        </a:lnTo>
                        <a:lnTo>
                          <a:pt x="122" y="3"/>
                        </a:lnTo>
                        <a:lnTo>
                          <a:pt x="132" y="0"/>
                        </a:lnTo>
                        <a:lnTo>
                          <a:pt x="140" y="0"/>
                        </a:lnTo>
                        <a:lnTo>
                          <a:pt x="148" y="3"/>
                        </a:lnTo>
                        <a:lnTo>
                          <a:pt x="157" y="6"/>
                        </a:lnTo>
                        <a:lnTo>
                          <a:pt x="171" y="20"/>
                        </a:lnTo>
                        <a:lnTo>
                          <a:pt x="18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585120" y="2844000"/>
                    <a:ext cx="10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51">
                        <a:moveTo>
                          <a:pt x="157" y="0"/>
                        </a:moveTo>
                        <a:lnTo>
                          <a:pt x="163" y="23"/>
                        </a:lnTo>
                        <a:lnTo>
                          <a:pt x="166" y="46"/>
                        </a:lnTo>
                        <a:lnTo>
                          <a:pt x="169" y="70"/>
                        </a:lnTo>
                        <a:lnTo>
                          <a:pt x="169" y="91"/>
                        </a:lnTo>
                        <a:lnTo>
                          <a:pt x="165" y="114"/>
                        </a:lnTo>
                        <a:lnTo>
                          <a:pt x="160" y="136"/>
                        </a:lnTo>
                        <a:lnTo>
                          <a:pt x="156" y="159"/>
                        </a:lnTo>
                        <a:lnTo>
                          <a:pt x="148" y="180"/>
                        </a:lnTo>
                        <a:lnTo>
                          <a:pt x="131" y="224"/>
                        </a:lnTo>
                        <a:lnTo>
                          <a:pt x="113" y="265"/>
                        </a:lnTo>
                        <a:lnTo>
                          <a:pt x="94" y="307"/>
                        </a:lnTo>
                        <a:lnTo>
                          <a:pt x="78" y="349"/>
                        </a:lnTo>
                        <a:lnTo>
                          <a:pt x="67" y="351"/>
                        </a:lnTo>
                        <a:lnTo>
                          <a:pt x="56" y="351"/>
                        </a:lnTo>
                        <a:lnTo>
                          <a:pt x="44" y="349"/>
                        </a:lnTo>
                        <a:lnTo>
                          <a:pt x="33" y="348"/>
                        </a:lnTo>
                        <a:lnTo>
                          <a:pt x="24" y="343"/>
                        </a:lnTo>
                        <a:lnTo>
                          <a:pt x="14" y="338"/>
                        </a:lnTo>
                        <a:lnTo>
                          <a:pt x="6" y="330"/>
                        </a:lnTo>
                        <a:lnTo>
                          <a:pt x="0" y="319"/>
                        </a:lnTo>
                        <a:lnTo>
                          <a:pt x="7" y="274"/>
                        </a:lnTo>
                        <a:lnTo>
                          <a:pt x="18" y="227"/>
                        </a:lnTo>
                        <a:lnTo>
                          <a:pt x="25" y="204"/>
                        </a:lnTo>
                        <a:lnTo>
                          <a:pt x="33" y="182"/>
                        </a:lnTo>
                        <a:lnTo>
                          <a:pt x="41" y="160"/>
                        </a:lnTo>
                        <a:lnTo>
                          <a:pt x="51" y="138"/>
                        </a:lnTo>
                        <a:lnTo>
                          <a:pt x="60" y="117"/>
                        </a:lnTo>
                        <a:lnTo>
                          <a:pt x="72" y="97"/>
                        </a:lnTo>
                        <a:lnTo>
                          <a:pt x="83" y="79"/>
                        </a:lnTo>
                        <a:lnTo>
                          <a:pt x="96" y="61"/>
                        </a:lnTo>
                        <a:lnTo>
                          <a:pt x="110" y="43"/>
                        </a:lnTo>
                        <a:lnTo>
                          <a:pt x="125" y="27"/>
                        </a:lnTo>
                        <a:lnTo>
                          <a:pt x="141" y="14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34080" y="28562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68">
                        <a:moveTo>
                          <a:pt x="160" y="38"/>
                        </a:moveTo>
                        <a:lnTo>
                          <a:pt x="160" y="60"/>
                        </a:lnTo>
                        <a:lnTo>
                          <a:pt x="159" y="85"/>
                        </a:lnTo>
                        <a:lnTo>
                          <a:pt x="156" y="107"/>
                        </a:lnTo>
                        <a:lnTo>
                          <a:pt x="151" y="130"/>
                        </a:lnTo>
                        <a:lnTo>
                          <a:pt x="146" y="152"/>
                        </a:lnTo>
                        <a:lnTo>
                          <a:pt x="140" y="174"/>
                        </a:lnTo>
                        <a:lnTo>
                          <a:pt x="131" y="195"/>
                        </a:lnTo>
                        <a:lnTo>
                          <a:pt x="124" y="216"/>
                        </a:lnTo>
                        <a:lnTo>
                          <a:pt x="103" y="259"/>
                        </a:lnTo>
                        <a:lnTo>
                          <a:pt x="81" y="297"/>
                        </a:lnTo>
                        <a:lnTo>
                          <a:pt x="57" y="334"/>
                        </a:lnTo>
                        <a:lnTo>
                          <a:pt x="33" y="368"/>
                        </a:lnTo>
                        <a:lnTo>
                          <a:pt x="24" y="355"/>
                        </a:lnTo>
                        <a:lnTo>
                          <a:pt x="18" y="344"/>
                        </a:lnTo>
                        <a:lnTo>
                          <a:pt x="10" y="331"/>
                        </a:lnTo>
                        <a:lnTo>
                          <a:pt x="6" y="319"/>
                        </a:lnTo>
                        <a:lnTo>
                          <a:pt x="3" y="307"/>
                        </a:lnTo>
                        <a:lnTo>
                          <a:pt x="1" y="295"/>
                        </a:lnTo>
                        <a:lnTo>
                          <a:pt x="0" y="284"/>
                        </a:lnTo>
                        <a:lnTo>
                          <a:pt x="0" y="273"/>
                        </a:lnTo>
                        <a:lnTo>
                          <a:pt x="1" y="248"/>
                        </a:lnTo>
                        <a:lnTo>
                          <a:pt x="4" y="227"/>
                        </a:lnTo>
                        <a:lnTo>
                          <a:pt x="12" y="204"/>
                        </a:lnTo>
                        <a:lnTo>
                          <a:pt x="21" y="181"/>
                        </a:lnTo>
                        <a:lnTo>
                          <a:pt x="42" y="138"/>
                        </a:lnTo>
                        <a:lnTo>
                          <a:pt x="63" y="92"/>
                        </a:lnTo>
                        <a:lnTo>
                          <a:pt x="74" y="70"/>
                        </a:lnTo>
                        <a:lnTo>
                          <a:pt x="83" y="47"/>
                        </a:lnTo>
                        <a:lnTo>
                          <a:pt x="90" y="24"/>
                        </a:lnTo>
                        <a:lnTo>
                          <a:pt x="95" y="2"/>
                        </a:lnTo>
                        <a:lnTo>
                          <a:pt x="106" y="0"/>
                        </a:lnTo>
                        <a:lnTo>
                          <a:pt x="114" y="0"/>
                        </a:lnTo>
                        <a:lnTo>
                          <a:pt x="124" y="3"/>
                        </a:lnTo>
                        <a:lnTo>
                          <a:pt x="130" y="9"/>
                        </a:lnTo>
                        <a:lnTo>
                          <a:pt x="145" y="23"/>
                        </a:lnTo>
                        <a:lnTo>
                          <a:pt x="16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681600" y="2862720"/>
                    <a:ext cx="90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79">
                        <a:moveTo>
                          <a:pt x="95" y="349"/>
                        </a:moveTo>
                        <a:lnTo>
                          <a:pt x="89" y="356"/>
                        </a:lnTo>
                        <a:lnTo>
                          <a:pt x="81" y="363"/>
                        </a:lnTo>
                        <a:lnTo>
                          <a:pt x="74" y="367"/>
                        </a:lnTo>
                        <a:lnTo>
                          <a:pt x="66" y="371"/>
                        </a:lnTo>
                        <a:lnTo>
                          <a:pt x="50" y="376"/>
                        </a:lnTo>
                        <a:lnTo>
                          <a:pt x="33" y="379"/>
                        </a:lnTo>
                        <a:lnTo>
                          <a:pt x="22" y="358"/>
                        </a:lnTo>
                        <a:lnTo>
                          <a:pt x="15" y="334"/>
                        </a:lnTo>
                        <a:lnTo>
                          <a:pt x="7" y="311"/>
                        </a:lnTo>
                        <a:lnTo>
                          <a:pt x="3" y="287"/>
                        </a:lnTo>
                        <a:lnTo>
                          <a:pt x="1" y="261"/>
                        </a:lnTo>
                        <a:lnTo>
                          <a:pt x="0" y="237"/>
                        </a:lnTo>
                        <a:lnTo>
                          <a:pt x="0" y="211"/>
                        </a:lnTo>
                        <a:lnTo>
                          <a:pt x="3" y="187"/>
                        </a:lnTo>
                        <a:lnTo>
                          <a:pt x="6" y="161"/>
                        </a:lnTo>
                        <a:lnTo>
                          <a:pt x="10" y="135"/>
                        </a:lnTo>
                        <a:lnTo>
                          <a:pt x="18" y="111"/>
                        </a:lnTo>
                        <a:lnTo>
                          <a:pt x="25" y="87"/>
                        </a:lnTo>
                        <a:lnTo>
                          <a:pt x="33" y="64"/>
                        </a:lnTo>
                        <a:lnTo>
                          <a:pt x="43" y="42"/>
                        </a:lnTo>
                        <a:lnTo>
                          <a:pt x="53" y="21"/>
                        </a:lnTo>
                        <a:lnTo>
                          <a:pt x="64" y="0"/>
                        </a:lnTo>
                        <a:lnTo>
                          <a:pt x="78" y="4"/>
                        </a:lnTo>
                        <a:lnTo>
                          <a:pt x="92" y="10"/>
                        </a:lnTo>
                        <a:lnTo>
                          <a:pt x="103" y="16"/>
                        </a:lnTo>
                        <a:lnTo>
                          <a:pt x="113" y="22"/>
                        </a:lnTo>
                        <a:lnTo>
                          <a:pt x="121" y="31"/>
                        </a:lnTo>
                        <a:lnTo>
                          <a:pt x="127" y="37"/>
                        </a:lnTo>
                        <a:lnTo>
                          <a:pt x="131" y="46"/>
                        </a:lnTo>
                        <a:lnTo>
                          <a:pt x="136" y="55"/>
                        </a:lnTo>
                        <a:lnTo>
                          <a:pt x="139" y="64"/>
                        </a:lnTo>
                        <a:lnTo>
                          <a:pt x="140" y="75"/>
                        </a:lnTo>
                        <a:lnTo>
                          <a:pt x="140" y="86"/>
                        </a:lnTo>
                        <a:lnTo>
                          <a:pt x="140" y="96"/>
                        </a:lnTo>
                        <a:lnTo>
                          <a:pt x="137" y="119"/>
                        </a:lnTo>
                        <a:lnTo>
                          <a:pt x="130" y="145"/>
                        </a:lnTo>
                        <a:lnTo>
                          <a:pt x="116" y="195"/>
                        </a:lnTo>
                        <a:lnTo>
                          <a:pt x="101" y="249"/>
                        </a:lnTo>
                        <a:lnTo>
                          <a:pt x="95" y="274"/>
                        </a:lnTo>
                        <a:lnTo>
                          <a:pt x="92" y="300"/>
                        </a:lnTo>
                        <a:lnTo>
                          <a:pt x="92" y="313"/>
                        </a:lnTo>
                        <a:lnTo>
                          <a:pt x="92" y="324"/>
                        </a:lnTo>
                        <a:lnTo>
                          <a:pt x="93" y="337"/>
                        </a:lnTo>
                        <a:lnTo>
                          <a:pt x="95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495120" y="279972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55">
                        <a:moveTo>
                          <a:pt x="279" y="7"/>
                        </a:moveTo>
                        <a:lnTo>
                          <a:pt x="288" y="15"/>
                        </a:lnTo>
                        <a:lnTo>
                          <a:pt x="299" y="22"/>
                        </a:lnTo>
                        <a:lnTo>
                          <a:pt x="306" y="34"/>
                        </a:lnTo>
                        <a:lnTo>
                          <a:pt x="313" y="47"/>
                        </a:lnTo>
                        <a:lnTo>
                          <a:pt x="317" y="61"/>
                        </a:lnTo>
                        <a:lnTo>
                          <a:pt x="321" y="78"/>
                        </a:lnTo>
                        <a:lnTo>
                          <a:pt x="323" y="95"/>
                        </a:lnTo>
                        <a:lnTo>
                          <a:pt x="323" y="113"/>
                        </a:lnTo>
                        <a:lnTo>
                          <a:pt x="321" y="132"/>
                        </a:lnTo>
                        <a:lnTo>
                          <a:pt x="317" y="154"/>
                        </a:lnTo>
                        <a:lnTo>
                          <a:pt x="314" y="175"/>
                        </a:lnTo>
                        <a:lnTo>
                          <a:pt x="308" y="195"/>
                        </a:lnTo>
                        <a:lnTo>
                          <a:pt x="302" y="217"/>
                        </a:lnTo>
                        <a:lnTo>
                          <a:pt x="293" y="240"/>
                        </a:lnTo>
                        <a:lnTo>
                          <a:pt x="282" y="263"/>
                        </a:lnTo>
                        <a:lnTo>
                          <a:pt x="271" y="285"/>
                        </a:lnTo>
                        <a:lnTo>
                          <a:pt x="260" y="308"/>
                        </a:lnTo>
                        <a:lnTo>
                          <a:pt x="245" y="329"/>
                        </a:lnTo>
                        <a:lnTo>
                          <a:pt x="232" y="349"/>
                        </a:lnTo>
                        <a:lnTo>
                          <a:pt x="217" y="367"/>
                        </a:lnTo>
                        <a:lnTo>
                          <a:pt x="203" y="384"/>
                        </a:lnTo>
                        <a:lnTo>
                          <a:pt x="187" y="400"/>
                        </a:lnTo>
                        <a:lnTo>
                          <a:pt x="172" y="413"/>
                        </a:lnTo>
                        <a:lnTo>
                          <a:pt x="157" y="424"/>
                        </a:lnTo>
                        <a:lnTo>
                          <a:pt x="140" y="435"/>
                        </a:lnTo>
                        <a:lnTo>
                          <a:pt x="126" y="444"/>
                        </a:lnTo>
                        <a:lnTo>
                          <a:pt x="111" y="450"/>
                        </a:lnTo>
                        <a:lnTo>
                          <a:pt x="96" y="453"/>
                        </a:lnTo>
                        <a:lnTo>
                          <a:pt x="82" y="455"/>
                        </a:lnTo>
                        <a:lnTo>
                          <a:pt x="69" y="455"/>
                        </a:lnTo>
                        <a:lnTo>
                          <a:pt x="57" y="453"/>
                        </a:lnTo>
                        <a:lnTo>
                          <a:pt x="43" y="449"/>
                        </a:lnTo>
                        <a:lnTo>
                          <a:pt x="34" y="440"/>
                        </a:lnTo>
                        <a:lnTo>
                          <a:pt x="24" y="432"/>
                        </a:lnTo>
                        <a:lnTo>
                          <a:pt x="16" y="421"/>
                        </a:lnTo>
                        <a:lnTo>
                          <a:pt x="10" y="408"/>
                        </a:lnTo>
                        <a:lnTo>
                          <a:pt x="7" y="394"/>
                        </a:lnTo>
                        <a:lnTo>
                          <a:pt x="4" y="378"/>
                        </a:lnTo>
                        <a:lnTo>
                          <a:pt x="0" y="361"/>
                        </a:lnTo>
                        <a:lnTo>
                          <a:pt x="0" y="342"/>
                        </a:lnTo>
                        <a:lnTo>
                          <a:pt x="1" y="323"/>
                        </a:lnTo>
                        <a:lnTo>
                          <a:pt x="5" y="302"/>
                        </a:lnTo>
                        <a:lnTo>
                          <a:pt x="8" y="281"/>
                        </a:lnTo>
                        <a:lnTo>
                          <a:pt x="15" y="260"/>
                        </a:lnTo>
                        <a:lnTo>
                          <a:pt x="21" y="237"/>
                        </a:lnTo>
                        <a:lnTo>
                          <a:pt x="29" y="214"/>
                        </a:lnTo>
                        <a:lnTo>
                          <a:pt x="40" y="192"/>
                        </a:lnTo>
                        <a:lnTo>
                          <a:pt x="52" y="169"/>
                        </a:lnTo>
                        <a:lnTo>
                          <a:pt x="63" y="146"/>
                        </a:lnTo>
                        <a:lnTo>
                          <a:pt x="78" y="126"/>
                        </a:lnTo>
                        <a:lnTo>
                          <a:pt x="90" y="107"/>
                        </a:lnTo>
                        <a:lnTo>
                          <a:pt x="105" y="87"/>
                        </a:lnTo>
                        <a:lnTo>
                          <a:pt x="121" y="71"/>
                        </a:lnTo>
                        <a:lnTo>
                          <a:pt x="136" y="57"/>
                        </a:lnTo>
                        <a:lnTo>
                          <a:pt x="152" y="42"/>
                        </a:lnTo>
                        <a:lnTo>
                          <a:pt x="166" y="31"/>
                        </a:lnTo>
                        <a:lnTo>
                          <a:pt x="182" y="19"/>
                        </a:lnTo>
                        <a:lnTo>
                          <a:pt x="196" y="12"/>
                        </a:lnTo>
                        <a:lnTo>
                          <a:pt x="211" y="7"/>
                        </a:lnTo>
                        <a:lnTo>
                          <a:pt x="226" y="1"/>
                        </a:lnTo>
                        <a:lnTo>
                          <a:pt x="240" y="0"/>
                        </a:lnTo>
                        <a:lnTo>
                          <a:pt x="253" y="0"/>
                        </a:lnTo>
                        <a:lnTo>
                          <a:pt x="266" y="1"/>
                        </a:lnTo>
                        <a:lnTo>
                          <a:pt x="27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584760" y="2764080"/>
                    <a:ext cx="4176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"/>
              <p:cNvSpPr/>
              <p:nvPr/>
            </p:nvSpPr>
            <p:spPr>
              <a:xfrm>
                <a:off x="6737760" y="2426760"/>
                <a:ext cx="203400" cy="345960"/>
              </a:xfrm>
              <a:custGeom>
                <a:avLst/>
                <a:gdLst/>
                <a:ahLst/>
                <a:rect l="l" t="t" r="r" b="b"/>
                <a:pathLst>
                  <a:path w="165" h="281">
                    <a:moveTo>
                      <a:pt x="0" y="0"/>
                    </a:moveTo>
                    <a:lnTo>
                      <a:pt x="165" y="281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37760" y="2429280"/>
                <a:ext cx="306720" cy="67680"/>
              </a:xfrm>
              <a:custGeom>
                <a:avLst/>
                <a:gdLst/>
                <a:ahLst/>
                <a:rect l="l" t="t" r="r" b="b"/>
                <a:pathLst>
                  <a:path w="249" h="55">
                    <a:moveTo>
                      <a:pt x="0" y="0"/>
                    </a:moveTo>
                    <a:lnTo>
                      <a:pt x="249" y="55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05720" y="2398320"/>
                <a:ext cx="61200" cy="62640"/>
              </a:xfrm>
              <a:prstGeom prst="ellipse">
                <a:avLst/>
              </a:prstGeom>
              <a:gradFill rotWithShape="0">
                <a:gsLst>
                  <a:gs pos="0">
                    <a:srgbClr val="e29c6c"/>
                  </a:gs>
                  <a:gs pos="100000">
                    <a:srgbClr val="9566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3" name="" descr=""/>
          <p:cNvPicPr/>
          <p:nvPr/>
        </p:nvPicPr>
        <p:blipFill>
          <a:blip r:embed="rId17"/>
          <a:stretch/>
        </p:blipFill>
        <p:spPr>
          <a:xfrm>
            <a:off x="944640" y="374760"/>
            <a:ext cx="1135080" cy="1584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8"/>
          <a:stretch/>
        </p:blipFill>
        <p:spPr>
          <a:xfrm>
            <a:off x="6896160" y="482760"/>
            <a:ext cx="1533600" cy="127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3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733400" y="4734000"/>
            <a:ext cx="190800" cy="8157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38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38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38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44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4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733400" y="4538520"/>
            <a:ext cx="190800" cy="1011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5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5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5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5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6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733400" y="4924440"/>
            <a:ext cx="190800" cy="625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6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6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6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6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4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73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733400" y="1609560"/>
            <a:ext cx="190800" cy="394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76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76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76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82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85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864480" y="3165480"/>
            <a:ext cx="190440" cy="2371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88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88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88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94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9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733400" y="2386080"/>
            <a:ext cx="190800" cy="3163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00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00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06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2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097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864480" y="2970360"/>
            <a:ext cx="190440" cy="25668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24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125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126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186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0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1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22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733400" y="2778120"/>
            <a:ext cx="190800" cy="2771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8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249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250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251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311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35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6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341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1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864480" y="3946680"/>
            <a:ext cx="190440" cy="1590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368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369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370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430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4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5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466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733400" y="3168720"/>
            <a:ext cx="190800" cy="238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2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493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494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495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555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79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0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4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585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864480" y="4336920"/>
            <a:ext cx="190440" cy="1200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1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612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613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674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98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9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710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0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733400" y="2006640"/>
            <a:ext cx="190800" cy="354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737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738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739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8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799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3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4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8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829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9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6864480" y="4533840"/>
            <a:ext cx="190440" cy="1003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5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856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857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7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918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42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3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6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95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1733400" y="3949560"/>
            <a:ext cx="190800" cy="160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98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98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98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04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07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6864480" y="4334040"/>
            <a:ext cx="190440" cy="120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10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10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10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16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8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7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19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22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22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22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28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2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317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7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6864480" y="5114880"/>
            <a:ext cx="190440" cy="4222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3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344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345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346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406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0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1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d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9640" y="2104560"/>
            <a:ext cx="383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5240" y="679320"/>
            <a:ext cx="7562880" cy="226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Making Purc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Special Off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 Every time you buy 4 or more presentations (in a single basket) the cheapest will be free. Buy 8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get 2 free, buy 12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get 3 free etc. You will be able to monitor the discount as you place the presentations in your basket. Your purchased presentations will appear in your accou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stantly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lease no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at when paying by credit card you must press the “</a:t>
            </a:r>
            <a:r>
              <a:rPr b="0" lang="en-US" sz="1400" spc="-1" strike="noStrike">
                <a:solidFill>
                  <a:srgbClr val="6666ff"/>
                </a:solidFill>
                <a:latin typeface="Comic Sans MS"/>
              </a:rPr>
              <a:t>RETURN TO MERCHA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” button on the final PayPal screen showing your receipt for payment. If this button is not pressed then you will experience a delay in the presentations being placed in your accou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06400" y="3297240"/>
            <a:ext cx="7562880" cy="152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Furth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FREE MONTHLY PRESENT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 free presentation will be added to your account at some point during each calendar mon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ME PAG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More free stuff/sample material at bottom of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DER FORM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Catalogues can also be found here showing some screen sh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9684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7092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7560" y="5200560"/>
            <a:ext cx="7562880" cy="141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Hints an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ntable Worksheet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lways choose “Slide Outline” (top left) before running a presentation to view slide titles and to check for printable workshe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diting Presentation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ll presentations are normally quite easy to edit (particularly text). It is also straightforward to insert your own sli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761160"/>
            <a:ext cx="9144000" cy="9684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44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69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470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471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0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531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55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6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561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864480" y="4900680"/>
            <a:ext cx="190440" cy="636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7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588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589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590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650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74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5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5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686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6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1733400" y="4143240"/>
            <a:ext cx="190800" cy="14065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2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13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714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715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4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775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99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0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805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5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6864480" y="4524480"/>
            <a:ext cx="190440" cy="1012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1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832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833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834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3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894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8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9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930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0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1733400" y="4929120"/>
            <a:ext cx="190800" cy="620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957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958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959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019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43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4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4049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6864480" y="4124160"/>
            <a:ext cx="190440" cy="14130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5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4076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4077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4078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7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4138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2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3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17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733400" y="4543560"/>
            <a:ext cx="190800" cy="1006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420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420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420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26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8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429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864480" y="1771560"/>
            <a:ext cx="190440" cy="3765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432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432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432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438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0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7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7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0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411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47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8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479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480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481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483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4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5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6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7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4488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4489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4490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4491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492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2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4503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504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3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5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526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4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4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4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4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4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4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541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60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8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60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61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62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3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636" name="" descr=""/>
          <p:cNvPicPr/>
          <p:nvPr/>
        </p:nvPicPr>
        <p:blipFill>
          <a:blip r:embed="rId5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637" name="" descr=""/>
          <p:cNvPicPr/>
          <p:nvPr/>
        </p:nvPicPr>
        <p:blipFill>
          <a:blip r:embed="rId6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638" name="" descr=""/>
          <p:cNvPicPr/>
          <p:nvPr/>
        </p:nvPicPr>
        <p:blipFill>
          <a:blip r:embed="rId7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639" name="" descr=""/>
          <p:cNvPicPr/>
          <p:nvPr/>
        </p:nvPicPr>
        <p:blipFill>
          <a:blip r:embed="rId8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640" name="" descr=""/>
          <p:cNvPicPr/>
          <p:nvPr/>
        </p:nvPicPr>
        <p:blipFill>
          <a:blip r:embed="rId9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641" name="" descr=""/>
          <p:cNvPicPr/>
          <p:nvPr/>
        </p:nvPicPr>
        <p:blipFill>
          <a:blip r:embed="rId10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642" name="" descr=""/>
          <p:cNvPicPr/>
          <p:nvPr/>
        </p:nvPicPr>
        <p:blipFill>
          <a:blip r:embed="rId11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643" name="" descr=""/>
          <p:cNvPicPr/>
          <p:nvPr/>
        </p:nvPicPr>
        <p:blipFill>
          <a:blip r:embed="rId12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4644" name="" descr=""/>
          <p:cNvPicPr/>
          <p:nvPr/>
        </p:nvPicPr>
        <p:blipFill>
          <a:blip r:embed="rId13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645" name="" descr=""/>
          <p:cNvPicPr/>
          <p:nvPr/>
        </p:nvPicPr>
        <p:blipFill>
          <a:blip r:embed="rId14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646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7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648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1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3" name="" descr=""/>
          <p:cNvPicPr/>
          <p:nvPr/>
        </p:nvPicPr>
        <p:blipFill>
          <a:blip r:embed="rId2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sp>
        <p:nvSpPr>
          <p:cNvPr id="4694" name=""/>
          <p:cNvSpPr/>
          <p:nvPr/>
        </p:nvSpPr>
        <p:spPr>
          <a:xfrm>
            <a:off x="5227560" y="2322360"/>
            <a:ext cx="92700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2000"/>
                                        <p:tgtEl>
                                          <p:spTgt spid="4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4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4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4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4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4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7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698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2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763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4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5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766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767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76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9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770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1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2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3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4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4775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4776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4777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sp>
        <p:nvSpPr>
          <p:cNvPr id="4778" name=""/>
          <p:cNvSpPr/>
          <p:nvPr/>
        </p:nvSpPr>
        <p:spPr>
          <a:xfrm>
            <a:off x="163980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culate the difference in height between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780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16556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elicopter and the lightho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232416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164628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lphin and the se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5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sp>
        <p:nvSpPr>
          <p:cNvPr id="4796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lob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boat and the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lock of birds and the sea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2320920" y="94464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lphin and the jelly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obster and the anc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jelly fish and the sea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16556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elicopter and the anc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2286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4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4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6" dur="1" fill="hold"/>
                                  <p:tgtEl>
                                    <p:spTgt spid="4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2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813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7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878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9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0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881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5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88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88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88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889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89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89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89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89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894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489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896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89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89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culate the difference in height between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123336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ang glider and the aeropl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12319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kite and the seagu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>
            <a:off x="12319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kite and the di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octo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eagull and the nauti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12175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ver and the octo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urtle and the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121428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arl and the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ver and the sex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pea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ang glider and the sex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1143000" y="884160"/>
            <a:ext cx="19494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4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8" dur="1" fill="hold"/>
                                  <p:tgtEl>
                                    <p:spTgt spid="4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0968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"/>
          <p:cNvGrpSpPr/>
          <p:nvPr/>
        </p:nvGrpSpPr>
        <p:grpSpPr>
          <a:xfrm>
            <a:off x="0" y="2997360"/>
            <a:ext cx="8989920" cy="460080"/>
            <a:chOff x="0" y="2997360"/>
            <a:chExt cx="8989920" cy="460080"/>
          </a:xfrm>
        </p:grpSpPr>
        <p:grpSp>
          <p:nvGrpSpPr>
            <p:cNvPr id="4961" name=""/>
            <p:cNvGrpSpPr/>
            <p:nvPr/>
          </p:nvGrpSpPr>
          <p:grpSpPr>
            <a:xfrm>
              <a:off x="409680" y="2997360"/>
              <a:ext cx="8227440" cy="79200"/>
              <a:chOff x="409680" y="2997360"/>
              <a:chExt cx="8227440" cy="79200"/>
            </a:xfrm>
          </p:grpSpPr>
          <p:grpSp>
            <p:nvGrpSpPr>
              <p:cNvPr id="4962" name=""/>
              <p:cNvGrpSpPr/>
              <p:nvPr/>
            </p:nvGrpSpPr>
            <p:grpSpPr>
              <a:xfrm>
                <a:off x="409680" y="2997360"/>
                <a:ext cx="4113360" cy="79200"/>
                <a:chOff x="409680" y="2997360"/>
                <a:chExt cx="4113360" cy="79200"/>
              </a:xfrm>
            </p:grpSpPr>
            <p:sp>
              <p:nvSpPr>
                <p:cNvPr id="4963" name=""/>
                <p:cNvSpPr/>
                <p:nvPr/>
              </p:nvSpPr>
              <p:spPr>
                <a:xfrm>
                  <a:off x="4096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820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123300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6" name=""/>
                <p:cNvSpPr/>
                <p:nvPr/>
              </p:nvSpPr>
              <p:spPr>
                <a:xfrm>
                  <a:off x="164268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20548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24663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9" name=""/>
                <p:cNvSpPr/>
                <p:nvPr/>
              </p:nvSpPr>
              <p:spPr>
                <a:xfrm>
                  <a:off x="287784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329004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36997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411192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3" name=""/>
              <p:cNvGrpSpPr/>
              <p:nvPr/>
            </p:nvGrpSpPr>
            <p:grpSpPr>
              <a:xfrm>
                <a:off x="4523400" y="2997360"/>
                <a:ext cx="4113720" cy="79200"/>
                <a:chOff x="4523400" y="2997360"/>
                <a:chExt cx="4113720" cy="79200"/>
              </a:xfrm>
            </p:grpSpPr>
            <p:sp>
              <p:nvSpPr>
                <p:cNvPr id="4974" name=""/>
                <p:cNvSpPr/>
                <p:nvPr/>
              </p:nvSpPr>
              <p:spPr>
                <a:xfrm>
                  <a:off x="45234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49345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534708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575676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61689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658044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69919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740412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7813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82260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4" name=""/>
            <p:cNvSpPr/>
            <p:nvPr/>
          </p:nvSpPr>
          <p:spPr>
            <a:xfrm>
              <a:off x="417996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58640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99284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418000" y="3089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8183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62308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66900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0819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48188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88832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82882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3753000" y="3086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3335400" y="3078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903400" y="30798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49084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77920" y="3078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679400" y="3075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25244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853920" y="3073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446040" y="30798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16080" y="30225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01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93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89424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8827920" y="30193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8720280" y="30193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1" name=""/>
          <p:cNvSpPr/>
          <p:nvPr/>
        </p:nvSpPr>
        <p:spPr>
          <a:xfrm>
            <a:off x="324000" y="895320"/>
            <a:ext cx="853416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gative numbers are useful for representing quantities that can have values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below zer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Examples includ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temperature, deb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heigh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low sea level. The part of the number line that consists of the positive and negativ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whole numb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ogether with zero, are called the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857160" y="3790800"/>
            <a:ext cx="7524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s on a number line simply count to th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3" name=""/>
          <p:cNvGrpSpPr/>
          <p:nvPr/>
        </p:nvGrpSpPr>
        <p:grpSpPr>
          <a:xfrm>
            <a:off x="0" y="5651640"/>
            <a:ext cx="8989920" cy="460080"/>
            <a:chOff x="0" y="5651640"/>
            <a:chExt cx="8989920" cy="460080"/>
          </a:xfrm>
        </p:grpSpPr>
        <p:grpSp>
          <p:nvGrpSpPr>
            <p:cNvPr id="5014" name=""/>
            <p:cNvGrpSpPr/>
            <p:nvPr/>
          </p:nvGrpSpPr>
          <p:grpSpPr>
            <a:xfrm>
              <a:off x="409680" y="5651640"/>
              <a:ext cx="8227440" cy="79200"/>
              <a:chOff x="409680" y="5651640"/>
              <a:chExt cx="8227440" cy="79200"/>
            </a:xfrm>
          </p:grpSpPr>
          <p:grpSp>
            <p:nvGrpSpPr>
              <p:cNvPr id="5015" name=""/>
              <p:cNvGrpSpPr/>
              <p:nvPr/>
            </p:nvGrpSpPr>
            <p:grpSpPr>
              <a:xfrm>
                <a:off x="409680" y="5651640"/>
                <a:ext cx="4113360" cy="79200"/>
                <a:chOff x="409680" y="5651640"/>
                <a:chExt cx="4113360" cy="79200"/>
              </a:xfrm>
            </p:grpSpPr>
            <p:sp>
              <p:nvSpPr>
                <p:cNvPr id="5016" name=""/>
                <p:cNvSpPr/>
                <p:nvPr/>
              </p:nvSpPr>
              <p:spPr>
                <a:xfrm>
                  <a:off x="4096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820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123300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164268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>
                  <a:off x="20548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24663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287784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329004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36997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411192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6" name=""/>
              <p:cNvGrpSpPr/>
              <p:nvPr/>
            </p:nvGrpSpPr>
            <p:grpSpPr>
              <a:xfrm>
                <a:off x="4523400" y="5651640"/>
                <a:ext cx="4113720" cy="79200"/>
                <a:chOff x="4523400" y="5651640"/>
                <a:chExt cx="4113720" cy="79200"/>
              </a:xfrm>
            </p:grpSpPr>
            <p:sp>
              <p:nvSpPr>
                <p:cNvPr id="5027" name=""/>
                <p:cNvSpPr/>
                <p:nvPr/>
              </p:nvSpPr>
              <p:spPr>
                <a:xfrm>
                  <a:off x="45234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49345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534708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575676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61689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658044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69919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740412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7813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82260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7" name=""/>
            <p:cNvSpPr/>
            <p:nvPr/>
          </p:nvSpPr>
          <p:spPr>
            <a:xfrm>
              <a:off x="417996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458640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499284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418000" y="5743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8183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2308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66900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0819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48188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88832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82882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753000" y="5740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335400" y="573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903400" y="5734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49084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077920" y="573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679400" y="5729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25244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853920" y="5727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46040" y="5734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16080" y="567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01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93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89424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8827920" y="56736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8720280" y="5673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2657520" y="4991040"/>
            <a:ext cx="5219640" cy="438120"/>
            <a:chOff x="2657520" y="4991040"/>
            <a:chExt cx="5219640" cy="438120"/>
          </a:xfrm>
        </p:grpSpPr>
        <p:sp>
          <p:nvSpPr>
            <p:cNvPr id="5065" name=""/>
            <p:cNvSpPr/>
            <p:nvPr/>
          </p:nvSpPr>
          <p:spPr>
            <a:xfrm>
              <a:off x="2657520" y="542916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800600" y="499104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D </a:t>
              </a:r>
              <a:r>
                <a:rPr b="0" lang="en-US" sz="2000" spc="-1" strike="noStrike">
                  <a:solidFill>
                    <a:srgbClr val="6666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1387080" y="6064200"/>
            <a:ext cx="5219640" cy="398880"/>
            <a:chOff x="1387080" y="6064200"/>
            <a:chExt cx="5219640" cy="398880"/>
          </a:xfrm>
        </p:grpSpPr>
        <p:sp>
          <p:nvSpPr>
            <p:cNvPr id="5068" name=""/>
            <p:cNvSpPr/>
            <p:nvPr/>
          </p:nvSpPr>
          <p:spPr>
            <a:xfrm flipH="1">
              <a:off x="1387080" y="644508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454560" y="606420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tract </a:t>
              </a:r>
              <a:r>
                <a:rPr b="0" lang="en-US" sz="2000" spc="-1" strike="noStrike">
                  <a:solidFill>
                    <a:srgbClr val="6666ff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0" name=""/>
          <p:cNvSpPr/>
          <p:nvPr/>
        </p:nvSpPr>
        <p:spPr>
          <a:xfrm>
            <a:off x="806400" y="4464000"/>
            <a:ext cx="77533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subtr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mbers on a number line simply count to th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4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8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80"/>
                                        <p:tgtEl>
                                          <p:spTgt spid="5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8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80"/>
                                        <p:tgtEl>
                                          <p:spTgt spid="5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20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1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072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073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074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4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085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5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2" name=""/>
          <p:cNvSpPr/>
          <p:nvPr/>
        </p:nvSpPr>
        <p:spPr>
          <a:xfrm>
            <a:off x="7223040" y="874800"/>
            <a:ext cx="13431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ng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5261040" y="16556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5302080" y="1523880"/>
            <a:ext cx="2095560" cy="219240"/>
            <a:chOff x="5302080" y="1523880"/>
            <a:chExt cx="2095560" cy="219240"/>
          </a:xfrm>
        </p:grpSpPr>
        <p:grpSp>
          <p:nvGrpSpPr>
            <p:cNvPr id="5125" name=""/>
            <p:cNvGrpSpPr/>
            <p:nvPr/>
          </p:nvGrpSpPr>
          <p:grpSpPr>
            <a:xfrm>
              <a:off x="5302080" y="1528560"/>
              <a:ext cx="414360" cy="127080"/>
              <a:chOff x="5302080" y="1528560"/>
              <a:chExt cx="414360" cy="127080"/>
            </a:xfrm>
          </p:grpSpPr>
          <p:sp>
            <p:nvSpPr>
              <p:cNvPr id="5126" name=""/>
              <p:cNvSpPr/>
              <p:nvPr/>
            </p:nvSpPr>
            <p:spPr>
              <a:xfrm>
                <a:off x="5302080" y="15285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flipV="1">
                <a:off x="5563800" y="15901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flipH="1" flipV="1">
                <a:off x="5612760" y="15411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5716440" y="1530360"/>
              <a:ext cx="411120" cy="127080"/>
              <a:chOff x="5716440" y="1530360"/>
              <a:chExt cx="411120" cy="127080"/>
            </a:xfrm>
          </p:grpSpPr>
          <p:sp>
            <p:nvSpPr>
              <p:cNvPr id="5130" name=""/>
              <p:cNvSpPr/>
              <p:nvPr/>
            </p:nvSpPr>
            <p:spPr>
              <a:xfrm>
                <a:off x="5716440" y="1530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flipV="1">
                <a:off x="5976000" y="1591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 flipH="1" flipV="1">
                <a:off x="6024960" y="1542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3" name=""/>
            <p:cNvGrpSpPr/>
            <p:nvPr/>
          </p:nvGrpSpPr>
          <p:grpSpPr>
            <a:xfrm>
              <a:off x="6126120" y="1523880"/>
              <a:ext cx="407880" cy="127080"/>
              <a:chOff x="6126120" y="1523880"/>
              <a:chExt cx="407880" cy="127080"/>
            </a:xfrm>
          </p:grpSpPr>
          <p:sp>
            <p:nvSpPr>
              <p:cNvPr id="5134" name=""/>
              <p:cNvSpPr/>
              <p:nvPr/>
            </p:nvSpPr>
            <p:spPr>
              <a:xfrm>
                <a:off x="6126120" y="1523880"/>
                <a:ext cx="40788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flipV="1">
                <a:off x="6383520" y="1585440"/>
                <a:ext cx="608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flipH="1" flipV="1">
                <a:off x="6432120" y="15364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7" name=""/>
            <p:cNvGrpSpPr/>
            <p:nvPr/>
          </p:nvGrpSpPr>
          <p:grpSpPr>
            <a:xfrm>
              <a:off x="6540480" y="1525680"/>
              <a:ext cx="403200" cy="126720"/>
              <a:chOff x="6540480" y="1525680"/>
              <a:chExt cx="403200" cy="126720"/>
            </a:xfrm>
          </p:grpSpPr>
          <p:sp>
            <p:nvSpPr>
              <p:cNvPr id="5138" name=""/>
              <p:cNvSpPr/>
              <p:nvPr/>
            </p:nvSpPr>
            <p:spPr>
              <a:xfrm>
                <a:off x="6540480" y="15256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6795000" y="15872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H="1" flipV="1">
                <a:off x="6842880" y="15375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6953040" y="1527120"/>
              <a:ext cx="403200" cy="127080"/>
              <a:chOff x="6953040" y="1527120"/>
              <a:chExt cx="403200" cy="127080"/>
            </a:xfrm>
          </p:grpSpPr>
          <p:sp>
            <p:nvSpPr>
              <p:cNvPr id="5142" name=""/>
              <p:cNvSpPr/>
              <p:nvPr/>
            </p:nvSpPr>
            <p:spPr>
              <a:xfrm>
                <a:off x="6953040" y="15271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7207560" y="15886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 flipV="1">
                <a:off x="7255440" y="15397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7308720" y="16542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6" name=""/>
          <p:cNvSpPr/>
          <p:nvPr/>
        </p:nvSpPr>
        <p:spPr>
          <a:xfrm>
            <a:off x="1670040" y="8794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3108240" y="8780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8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149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150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151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1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162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2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9" name=""/>
          <p:cNvSpPr/>
          <p:nvPr/>
        </p:nvSpPr>
        <p:spPr>
          <a:xfrm>
            <a:off x="1612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4508640" y="29257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4552920" y="2795760"/>
            <a:ext cx="2513160" cy="219960"/>
            <a:chOff x="4552920" y="2795760"/>
            <a:chExt cx="2513160" cy="219960"/>
          </a:xfrm>
        </p:grpSpPr>
        <p:sp>
          <p:nvSpPr>
            <p:cNvPr id="5202" name=""/>
            <p:cNvSpPr/>
            <p:nvPr/>
          </p:nvSpPr>
          <p:spPr>
            <a:xfrm>
              <a:off x="6977160" y="29271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3" name=""/>
            <p:cNvGrpSpPr/>
            <p:nvPr/>
          </p:nvGrpSpPr>
          <p:grpSpPr>
            <a:xfrm>
              <a:off x="4552920" y="2795760"/>
              <a:ext cx="2467080" cy="132840"/>
              <a:chOff x="4552920" y="2795760"/>
              <a:chExt cx="2467080" cy="132840"/>
            </a:xfrm>
          </p:grpSpPr>
          <p:grpSp>
            <p:nvGrpSpPr>
              <p:cNvPr id="5204" name=""/>
              <p:cNvGrpSpPr/>
              <p:nvPr/>
            </p:nvGrpSpPr>
            <p:grpSpPr>
              <a:xfrm>
                <a:off x="4552920" y="2800440"/>
                <a:ext cx="414360" cy="126360"/>
                <a:chOff x="4552920" y="2800440"/>
                <a:chExt cx="414360" cy="126360"/>
              </a:xfrm>
            </p:grpSpPr>
            <p:sp>
              <p:nvSpPr>
                <p:cNvPr id="5205" name=""/>
                <p:cNvSpPr/>
                <p:nvPr/>
              </p:nvSpPr>
              <p:spPr>
                <a:xfrm>
                  <a:off x="4552920" y="2800440"/>
                  <a:ext cx="41436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4814640" y="286200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H="1" flipV="1">
                  <a:off x="4863600" y="281232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8" name=""/>
              <p:cNvGrpSpPr/>
              <p:nvPr/>
            </p:nvGrpSpPr>
            <p:grpSpPr>
              <a:xfrm>
                <a:off x="4967280" y="2801880"/>
                <a:ext cx="411120" cy="126720"/>
                <a:chOff x="4967280" y="2801880"/>
                <a:chExt cx="411120" cy="126720"/>
              </a:xfrm>
            </p:grpSpPr>
            <p:sp>
              <p:nvSpPr>
                <p:cNvPr id="5209" name=""/>
                <p:cNvSpPr/>
                <p:nvPr/>
              </p:nvSpPr>
              <p:spPr>
                <a:xfrm>
                  <a:off x="4967280" y="2801880"/>
                  <a:ext cx="4111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 flipV="1">
                  <a:off x="5226840" y="2863440"/>
                  <a:ext cx="6120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 flipH="1" flipV="1">
                  <a:off x="5275800" y="28137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2" name=""/>
              <p:cNvGrpSpPr/>
              <p:nvPr/>
            </p:nvGrpSpPr>
            <p:grpSpPr>
              <a:xfrm>
                <a:off x="5376960" y="2795760"/>
                <a:ext cx="407880" cy="126720"/>
                <a:chOff x="5376960" y="2795760"/>
                <a:chExt cx="407880" cy="12672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5376960" y="2795760"/>
                  <a:ext cx="40788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V="1">
                  <a:off x="5634360" y="2857320"/>
                  <a:ext cx="608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 flipH="1" flipV="1">
                  <a:off x="5682960" y="280764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6" name=""/>
              <p:cNvGrpSpPr/>
              <p:nvPr/>
            </p:nvGrpSpPr>
            <p:grpSpPr>
              <a:xfrm>
                <a:off x="5791320" y="2797200"/>
                <a:ext cx="403200" cy="126360"/>
                <a:chOff x="5791320" y="2797200"/>
                <a:chExt cx="403200" cy="126360"/>
              </a:xfrm>
            </p:grpSpPr>
            <p:sp>
              <p:nvSpPr>
                <p:cNvPr id="5217" name=""/>
                <p:cNvSpPr/>
                <p:nvPr/>
              </p:nvSpPr>
              <p:spPr>
                <a:xfrm>
                  <a:off x="5791320" y="2797200"/>
                  <a:ext cx="40320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V="1">
                  <a:off x="6045840" y="285876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 flipH="1" flipV="1">
                  <a:off x="6093720" y="280908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0" name=""/>
              <p:cNvGrpSpPr/>
              <p:nvPr/>
            </p:nvGrpSpPr>
            <p:grpSpPr>
              <a:xfrm>
                <a:off x="6203880" y="2798640"/>
                <a:ext cx="403200" cy="126720"/>
                <a:chOff x="6203880" y="2798640"/>
                <a:chExt cx="403200" cy="126720"/>
              </a:xfrm>
            </p:grpSpPr>
            <p:sp>
              <p:nvSpPr>
                <p:cNvPr id="5221" name=""/>
                <p:cNvSpPr/>
                <p:nvPr/>
              </p:nvSpPr>
              <p:spPr>
                <a:xfrm>
                  <a:off x="6203880" y="27986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 flipV="1">
                  <a:off x="6458400" y="28602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 flipH="1" flipV="1">
                  <a:off x="650628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4" name=""/>
              <p:cNvGrpSpPr/>
              <p:nvPr/>
            </p:nvGrpSpPr>
            <p:grpSpPr>
              <a:xfrm>
                <a:off x="6607080" y="2798640"/>
                <a:ext cx="412920" cy="126720"/>
                <a:chOff x="6607080" y="2798640"/>
                <a:chExt cx="412920" cy="126720"/>
              </a:xfrm>
            </p:grpSpPr>
            <p:sp>
              <p:nvSpPr>
                <p:cNvPr id="5225" name=""/>
                <p:cNvSpPr/>
                <p:nvPr/>
              </p:nvSpPr>
              <p:spPr>
                <a:xfrm>
                  <a:off x="6607080" y="2798640"/>
                  <a:ext cx="4129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 flipV="1">
                  <a:off x="6867720" y="2860200"/>
                  <a:ext cx="6156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 flipH="1" flipV="1">
                  <a:off x="691704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8" name=""/>
          <p:cNvSpPr/>
          <p:nvPr/>
        </p:nvSpPr>
        <p:spPr>
          <a:xfrm>
            <a:off x="3060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9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230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231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232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2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243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3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0" name=""/>
          <p:cNvSpPr/>
          <p:nvPr/>
        </p:nvSpPr>
        <p:spPr>
          <a:xfrm>
            <a:off x="1635120" y="3443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>
            <a:off x="332568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2" name=""/>
          <p:cNvGrpSpPr/>
          <p:nvPr/>
        </p:nvGrpSpPr>
        <p:grpSpPr>
          <a:xfrm>
            <a:off x="3370320" y="4065480"/>
            <a:ext cx="2922480" cy="220680"/>
            <a:chOff x="3370320" y="4065480"/>
            <a:chExt cx="2922480" cy="220680"/>
          </a:xfrm>
        </p:grpSpPr>
        <p:sp>
          <p:nvSpPr>
            <p:cNvPr id="5283" name=""/>
            <p:cNvSpPr/>
            <p:nvPr/>
          </p:nvSpPr>
          <p:spPr>
            <a:xfrm>
              <a:off x="6203880" y="41972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4" name=""/>
            <p:cNvGrpSpPr/>
            <p:nvPr/>
          </p:nvGrpSpPr>
          <p:grpSpPr>
            <a:xfrm>
              <a:off x="3370320" y="4070160"/>
              <a:ext cx="414360" cy="127080"/>
              <a:chOff x="3370320" y="4070160"/>
              <a:chExt cx="414360" cy="127080"/>
            </a:xfrm>
          </p:grpSpPr>
          <p:sp>
            <p:nvSpPr>
              <p:cNvPr id="5285" name=""/>
              <p:cNvSpPr/>
              <p:nvPr/>
            </p:nvSpPr>
            <p:spPr>
              <a:xfrm>
                <a:off x="3370320" y="40701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V="1">
                <a:off x="3632040" y="41317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 flipV="1">
                <a:off x="3681000" y="40827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8" name=""/>
            <p:cNvGrpSpPr/>
            <p:nvPr/>
          </p:nvGrpSpPr>
          <p:grpSpPr>
            <a:xfrm>
              <a:off x="3784680" y="4071600"/>
              <a:ext cx="411120" cy="127080"/>
              <a:chOff x="3784680" y="4071600"/>
              <a:chExt cx="411120" cy="127080"/>
            </a:xfrm>
          </p:grpSpPr>
          <p:sp>
            <p:nvSpPr>
              <p:cNvPr id="5289" name=""/>
              <p:cNvSpPr/>
              <p:nvPr/>
            </p:nvSpPr>
            <p:spPr>
              <a:xfrm>
                <a:off x="3784680" y="407160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V="1">
                <a:off x="4044240" y="413316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 flipV="1">
                <a:off x="4093200" y="408420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2" name=""/>
            <p:cNvGrpSpPr/>
            <p:nvPr/>
          </p:nvGrpSpPr>
          <p:grpSpPr>
            <a:xfrm>
              <a:off x="4194000" y="4065480"/>
              <a:ext cx="408240" cy="126720"/>
              <a:chOff x="4194000" y="4065480"/>
              <a:chExt cx="408240" cy="126720"/>
            </a:xfrm>
          </p:grpSpPr>
          <p:sp>
            <p:nvSpPr>
              <p:cNvPr id="5293" name=""/>
              <p:cNvSpPr/>
              <p:nvPr/>
            </p:nvSpPr>
            <p:spPr>
              <a:xfrm>
                <a:off x="4194000" y="406548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V="1">
                <a:off x="4451760" y="412704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 flipV="1">
                <a:off x="45003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6" name=""/>
            <p:cNvGrpSpPr/>
            <p:nvPr/>
          </p:nvGrpSpPr>
          <p:grpSpPr>
            <a:xfrm>
              <a:off x="4608360" y="4066920"/>
              <a:ext cx="403200" cy="127080"/>
              <a:chOff x="4608360" y="4066920"/>
              <a:chExt cx="403200" cy="127080"/>
            </a:xfrm>
          </p:grpSpPr>
          <p:sp>
            <p:nvSpPr>
              <p:cNvPr id="5297" name=""/>
              <p:cNvSpPr/>
              <p:nvPr/>
            </p:nvSpPr>
            <p:spPr>
              <a:xfrm>
                <a:off x="4608360" y="40669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V="1">
                <a:off x="4862880" y="41284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 flipV="1">
                <a:off x="491076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0" name=""/>
            <p:cNvGrpSpPr/>
            <p:nvPr/>
          </p:nvGrpSpPr>
          <p:grpSpPr>
            <a:xfrm>
              <a:off x="5021280" y="4068720"/>
              <a:ext cx="403200" cy="126720"/>
              <a:chOff x="5021280" y="4068720"/>
              <a:chExt cx="403200" cy="126720"/>
            </a:xfrm>
          </p:grpSpPr>
          <p:sp>
            <p:nvSpPr>
              <p:cNvPr id="5301" name=""/>
              <p:cNvSpPr/>
              <p:nvPr/>
            </p:nvSpPr>
            <p:spPr>
              <a:xfrm>
                <a:off x="5021280" y="406872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V="1">
                <a:off x="5275800" y="413028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 flipV="1">
                <a:off x="532368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4" name=""/>
            <p:cNvGrpSpPr/>
            <p:nvPr/>
          </p:nvGrpSpPr>
          <p:grpSpPr>
            <a:xfrm>
              <a:off x="5424480" y="4068720"/>
              <a:ext cx="412920" cy="126720"/>
              <a:chOff x="5424480" y="4068720"/>
              <a:chExt cx="412920" cy="126720"/>
            </a:xfrm>
          </p:grpSpPr>
          <p:sp>
            <p:nvSpPr>
              <p:cNvPr id="5305" name=""/>
              <p:cNvSpPr/>
              <p:nvPr/>
            </p:nvSpPr>
            <p:spPr>
              <a:xfrm>
                <a:off x="5424480" y="406872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V="1">
                <a:off x="5685120" y="413028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 flipV="1">
                <a:off x="573444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8" name=""/>
            <p:cNvGrpSpPr/>
            <p:nvPr/>
          </p:nvGrpSpPr>
          <p:grpSpPr>
            <a:xfrm>
              <a:off x="5840280" y="4066920"/>
              <a:ext cx="412920" cy="127080"/>
              <a:chOff x="5840280" y="4066920"/>
              <a:chExt cx="412920" cy="127080"/>
            </a:xfrm>
          </p:grpSpPr>
          <p:sp>
            <p:nvSpPr>
              <p:cNvPr id="5309" name=""/>
              <p:cNvSpPr/>
              <p:nvPr/>
            </p:nvSpPr>
            <p:spPr>
              <a:xfrm>
                <a:off x="5840280" y="406692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V="1">
                <a:off x="6100920" y="412848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 flipV="1">
                <a:off x="615024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2" name=""/>
          <p:cNvSpPr/>
          <p:nvPr/>
        </p:nvSpPr>
        <p:spPr>
          <a:xfrm>
            <a:off x="3084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3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314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315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316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6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327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7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4" name=""/>
          <p:cNvSpPr/>
          <p:nvPr/>
        </p:nvSpPr>
        <p:spPr>
          <a:xfrm>
            <a:off x="1660680" y="4640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>
            <a:off x="2546280" y="53053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6" name=""/>
          <p:cNvGrpSpPr/>
          <p:nvPr/>
        </p:nvGrpSpPr>
        <p:grpSpPr>
          <a:xfrm>
            <a:off x="2600280" y="5178600"/>
            <a:ext cx="2095560" cy="218520"/>
            <a:chOff x="2600280" y="5178600"/>
            <a:chExt cx="2095560" cy="218520"/>
          </a:xfrm>
        </p:grpSpPr>
        <p:grpSp>
          <p:nvGrpSpPr>
            <p:cNvPr id="5367" name=""/>
            <p:cNvGrpSpPr/>
            <p:nvPr/>
          </p:nvGrpSpPr>
          <p:grpSpPr>
            <a:xfrm>
              <a:off x="2600280" y="5182920"/>
              <a:ext cx="414360" cy="126720"/>
              <a:chOff x="2600280" y="5182920"/>
              <a:chExt cx="414360" cy="126720"/>
            </a:xfrm>
          </p:grpSpPr>
          <p:sp>
            <p:nvSpPr>
              <p:cNvPr id="5368" name=""/>
              <p:cNvSpPr/>
              <p:nvPr/>
            </p:nvSpPr>
            <p:spPr>
              <a:xfrm>
                <a:off x="2600280" y="518292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V="1">
                <a:off x="2862000" y="524448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 flipV="1">
                <a:off x="2910960" y="519480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1" name=""/>
            <p:cNvGrpSpPr/>
            <p:nvPr/>
          </p:nvGrpSpPr>
          <p:grpSpPr>
            <a:xfrm>
              <a:off x="3014640" y="5184720"/>
              <a:ext cx="411120" cy="126720"/>
              <a:chOff x="3014640" y="5184720"/>
              <a:chExt cx="411120" cy="126720"/>
            </a:xfrm>
          </p:grpSpPr>
          <p:sp>
            <p:nvSpPr>
              <p:cNvPr id="5372" name=""/>
              <p:cNvSpPr/>
              <p:nvPr/>
            </p:nvSpPr>
            <p:spPr>
              <a:xfrm>
                <a:off x="3014640" y="518472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V="1">
                <a:off x="3274200" y="524628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 flipV="1">
                <a:off x="3323160" y="5196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5" name=""/>
            <p:cNvGrpSpPr/>
            <p:nvPr/>
          </p:nvGrpSpPr>
          <p:grpSpPr>
            <a:xfrm>
              <a:off x="3424320" y="5178600"/>
              <a:ext cx="407880" cy="126720"/>
              <a:chOff x="3424320" y="5178600"/>
              <a:chExt cx="407880" cy="126720"/>
            </a:xfrm>
          </p:grpSpPr>
          <p:sp>
            <p:nvSpPr>
              <p:cNvPr id="5376" name=""/>
              <p:cNvSpPr/>
              <p:nvPr/>
            </p:nvSpPr>
            <p:spPr>
              <a:xfrm>
                <a:off x="3424320" y="517860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V="1">
                <a:off x="3681720" y="524016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 flipH="1" flipV="1">
                <a:off x="3730320" y="51904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9" name=""/>
            <p:cNvGrpSpPr/>
            <p:nvPr/>
          </p:nvGrpSpPr>
          <p:grpSpPr>
            <a:xfrm>
              <a:off x="3838680" y="5180040"/>
              <a:ext cx="403200" cy="126360"/>
              <a:chOff x="3838680" y="5180040"/>
              <a:chExt cx="403200" cy="126360"/>
            </a:xfrm>
          </p:grpSpPr>
          <p:sp>
            <p:nvSpPr>
              <p:cNvPr id="5380" name=""/>
              <p:cNvSpPr/>
              <p:nvPr/>
            </p:nvSpPr>
            <p:spPr>
              <a:xfrm>
                <a:off x="3838680" y="518004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V="1">
                <a:off x="4093200" y="52416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 flipH="1" flipV="1">
                <a:off x="4141080" y="51919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3" name=""/>
            <p:cNvGrpSpPr/>
            <p:nvPr/>
          </p:nvGrpSpPr>
          <p:grpSpPr>
            <a:xfrm>
              <a:off x="4251240" y="5181480"/>
              <a:ext cx="403200" cy="126720"/>
              <a:chOff x="4251240" y="5181480"/>
              <a:chExt cx="403200" cy="126720"/>
            </a:xfrm>
          </p:grpSpPr>
          <p:sp>
            <p:nvSpPr>
              <p:cNvPr id="5384" name=""/>
              <p:cNvSpPr/>
              <p:nvPr/>
            </p:nvSpPr>
            <p:spPr>
              <a:xfrm>
                <a:off x="4251240" y="5181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4505760" y="5243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 flipH="1" flipV="1">
                <a:off x="455364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7" name=""/>
            <p:cNvSpPr/>
            <p:nvPr/>
          </p:nvSpPr>
          <p:spPr>
            <a:xfrm>
              <a:off x="4606920" y="53085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3108240" y="4640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390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391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392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2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403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4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3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0" name=""/>
          <p:cNvSpPr/>
          <p:nvPr/>
        </p:nvSpPr>
        <p:spPr>
          <a:xfrm>
            <a:off x="1649520" y="575136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>
            <a:off x="2922480" y="63500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2" name=""/>
          <p:cNvGrpSpPr/>
          <p:nvPr/>
        </p:nvGrpSpPr>
        <p:grpSpPr>
          <a:xfrm>
            <a:off x="2975040" y="6227640"/>
            <a:ext cx="2922480" cy="220680"/>
            <a:chOff x="2975040" y="6227640"/>
            <a:chExt cx="2922480" cy="220680"/>
          </a:xfrm>
        </p:grpSpPr>
        <p:sp>
          <p:nvSpPr>
            <p:cNvPr id="5443" name=""/>
            <p:cNvSpPr/>
            <p:nvPr/>
          </p:nvSpPr>
          <p:spPr>
            <a:xfrm>
              <a:off x="5808600" y="6359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"/>
            <p:cNvGrpSpPr/>
            <p:nvPr/>
          </p:nvGrpSpPr>
          <p:grpSpPr>
            <a:xfrm>
              <a:off x="2975040" y="6232320"/>
              <a:ext cx="414360" cy="127080"/>
              <a:chOff x="2975040" y="6232320"/>
              <a:chExt cx="414360" cy="127080"/>
            </a:xfrm>
          </p:grpSpPr>
          <p:sp>
            <p:nvSpPr>
              <p:cNvPr id="5445" name=""/>
              <p:cNvSpPr/>
              <p:nvPr/>
            </p:nvSpPr>
            <p:spPr>
              <a:xfrm>
                <a:off x="2975040" y="62323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3236760" y="62938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H="1" flipV="1">
                <a:off x="3285720" y="62449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8" name=""/>
            <p:cNvGrpSpPr/>
            <p:nvPr/>
          </p:nvGrpSpPr>
          <p:grpSpPr>
            <a:xfrm>
              <a:off x="3389400" y="6233760"/>
              <a:ext cx="411120" cy="127080"/>
              <a:chOff x="3389400" y="6233760"/>
              <a:chExt cx="411120" cy="127080"/>
            </a:xfrm>
          </p:grpSpPr>
          <p:sp>
            <p:nvSpPr>
              <p:cNvPr id="5449" name=""/>
              <p:cNvSpPr/>
              <p:nvPr/>
            </p:nvSpPr>
            <p:spPr>
              <a:xfrm>
                <a:off x="3389400" y="62337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V="1">
                <a:off x="3648960" y="62953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 flipV="1">
                <a:off x="3697920" y="62463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2" name=""/>
            <p:cNvGrpSpPr/>
            <p:nvPr/>
          </p:nvGrpSpPr>
          <p:grpSpPr>
            <a:xfrm>
              <a:off x="3798720" y="6227640"/>
              <a:ext cx="408240" cy="126720"/>
              <a:chOff x="3798720" y="6227640"/>
              <a:chExt cx="408240" cy="126720"/>
            </a:xfrm>
          </p:grpSpPr>
          <p:sp>
            <p:nvSpPr>
              <p:cNvPr id="5453" name=""/>
              <p:cNvSpPr/>
              <p:nvPr/>
            </p:nvSpPr>
            <p:spPr>
              <a:xfrm>
                <a:off x="3798720" y="62276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V="1">
                <a:off x="4056480" y="62892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 flipV="1">
                <a:off x="4105080" y="62395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6" name=""/>
            <p:cNvGrpSpPr/>
            <p:nvPr/>
          </p:nvGrpSpPr>
          <p:grpSpPr>
            <a:xfrm>
              <a:off x="4213080" y="6229080"/>
              <a:ext cx="403200" cy="127080"/>
              <a:chOff x="4213080" y="6229080"/>
              <a:chExt cx="403200" cy="127080"/>
            </a:xfrm>
          </p:grpSpPr>
          <p:sp>
            <p:nvSpPr>
              <p:cNvPr id="5457" name=""/>
              <p:cNvSpPr/>
              <p:nvPr/>
            </p:nvSpPr>
            <p:spPr>
              <a:xfrm>
                <a:off x="4213080" y="62290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467600" y="62906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 flipV="1">
                <a:off x="451548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0" name=""/>
            <p:cNvGrpSpPr/>
            <p:nvPr/>
          </p:nvGrpSpPr>
          <p:grpSpPr>
            <a:xfrm>
              <a:off x="4626000" y="6230880"/>
              <a:ext cx="403200" cy="126720"/>
              <a:chOff x="4626000" y="6230880"/>
              <a:chExt cx="403200" cy="126720"/>
            </a:xfrm>
          </p:grpSpPr>
          <p:sp>
            <p:nvSpPr>
              <p:cNvPr id="5461" name=""/>
              <p:cNvSpPr/>
              <p:nvPr/>
            </p:nvSpPr>
            <p:spPr>
              <a:xfrm>
                <a:off x="4626000" y="62308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4880520" y="62924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 flipV="1">
                <a:off x="492840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4" name=""/>
            <p:cNvGrpSpPr/>
            <p:nvPr/>
          </p:nvGrpSpPr>
          <p:grpSpPr>
            <a:xfrm>
              <a:off x="5029200" y="6230880"/>
              <a:ext cx="412920" cy="126720"/>
              <a:chOff x="5029200" y="6230880"/>
              <a:chExt cx="412920" cy="126720"/>
            </a:xfrm>
          </p:grpSpPr>
          <p:sp>
            <p:nvSpPr>
              <p:cNvPr id="5465" name=""/>
              <p:cNvSpPr/>
              <p:nvPr/>
            </p:nvSpPr>
            <p:spPr>
              <a:xfrm>
                <a:off x="5029200" y="62308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5289840" y="62924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 flipV="1">
                <a:off x="533916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5445000" y="6229080"/>
              <a:ext cx="412920" cy="127080"/>
              <a:chOff x="5445000" y="6229080"/>
              <a:chExt cx="412920" cy="127080"/>
            </a:xfrm>
          </p:grpSpPr>
          <p:sp>
            <p:nvSpPr>
              <p:cNvPr id="5469" name=""/>
              <p:cNvSpPr/>
              <p:nvPr/>
            </p:nvSpPr>
            <p:spPr>
              <a:xfrm>
                <a:off x="5445000" y="62290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 flipV="1">
                <a:off x="5705640" y="62906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 flipV="1">
                <a:off x="575496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2" name=""/>
          <p:cNvSpPr/>
          <p:nvPr/>
        </p:nvSpPr>
        <p:spPr>
          <a:xfrm>
            <a:off x="3090960" y="5751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3000"/>
                                        <p:tgtEl>
                                          <p:spTgt spid="5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2" dur="500"/>
                                        <p:tgtEl>
                                          <p:spTgt spid="5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5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3000"/>
                                        <p:tgtEl>
                                          <p:spTgt spid="5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500"/>
                                        <p:tgtEl>
                                          <p:spTgt spid="5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30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5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5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3000"/>
                                        <p:tgtEl>
                                          <p:spTgt spid="5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30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47680" y="1512720"/>
            <a:ext cx="417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33400" y="3956040"/>
            <a:ext cx="190800" cy="15937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8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5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5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"/>
          <p:cNvSpPr/>
          <p:nvPr/>
        </p:nvSpPr>
        <p:spPr>
          <a:xfrm>
            <a:off x="3327480" y="2727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5" name=""/>
          <p:cNvGrpSpPr/>
          <p:nvPr/>
        </p:nvGrpSpPr>
        <p:grpSpPr>
          <a:xfrm>
            <a:off x="563400" y="2727360"/>
            <a:ext cx="2764080" cy="459720"/>
            <a:chOff x="563400" y="2727360"/>
            <a:chExt cx="2764080" cy="459720"/>
          </a:xfrm>
        </p:grpSpPr>
        <p:sp>
          <p:nvSpPr>
            <p:cNvPr id="5476" name=""/>
            <p:cNvSpPr/>
            <p:nvPr/>
          </p:nvSpPr>
          <p:spPr>
            <a:xfrm>
              <a:off x="1359000" y="2727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+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63400" y="2727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563400" y="3193920"/>
            <a:ext cx="2764080" cy="459720"/>
            <a:chOff x="563400" y="3193920"/>
            <a:chExt cx="2764080" cy="459720"/>
          </a:xfrm>
        </p:grpSpPr>
        <p:sp>
          <p:nvSpPr>
            <p:cNvPr id="5479" name=""/>
            <p:cNvSpPr/>
            <p:nvPr/>
          </p:nvSpPr>
          <p:spPr>
            <a:xfrm>
              <a:off x="1359000" y="3193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4 +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563400" y="3193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1" name=""/>
          <p:cNvGrpSpPr/>
          <p:nvPr/>
        </p:nvGrpSpPr>
        <p:grpSpPr>
          <a:xfrm>
            <a:off x="563400" y="3660840"/>
            <a:ext cx="2764080" cy="459720"/>
            <a:chOff x="563400" y="3660840"/>
            <a:chExt cx="2764080" cy="459720"/>
          </a:xfrm>
        </p:grpSpPr>
        <p:sp>
          <p:nvSpPr>
            <p:cNvPr id="5482" name=""/>
            <p:cNvSpPr/>
            <p:nvPr/>
          </p:nvSpPr>
          <p:spPr>
            <a:xfrm>
              <a:off x="1359000" y="3660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63400" y="3660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4" name=""/>
          <p:cNvGrpSpPr/>
          <p:nvPr/>
        </p:nvGrpSpPr>
        <p:grpSpPr>
          <a:xfrm>
            <a:off x="563400" y="4127400"/>
            <a:ext cx="2764080" cy="459720"/>
            <a:chOff x="563400" y="4127400"/>
            <a:chExt cx="2764080" cy="459720"/>
          </a:xfrm>
        </p:grpSpPr>
        <p:sp>
          <p:nvSpPr>
            <p:cNvPr id="5485" name=""/>
            <p:cNvSpPr/>
            <p:nvPr/>
          </p:nvSpPr>
          <p:spPr>
            <a:xfrm>
              <a:off x="1359000" y="4127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+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63400" y="4127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7" name=""/>
          <p:cNvGrpSpPr/>
          <p:nvPr/>
        </p:nvGrpSpPr>
        <p:grpSpPr>
          <a:xfrm>
            <a:off x="563400" y="4594320"/>
            <a:ext cx="2764080" cy="459720"/>
            <a:chOff x="563400" y="4594320"/>
            <a:chExt cx="2764080" cy="459720"/>
          </a:xfrm>
        </p:grpSpPr>
        <p:sp>
          <p:nvSpPr>
            <p:cNvPr id="5488" name=""/>
            <p:cNvSpPr/>
            <p:nvPr/>
          </p:nvSpPr>
          <p:spPr>
            <a:xfrm>
              <a:off x="1359000" y="45943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1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563400" y="45943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0" name=""/>
          <p:cNvGrpSpPr/>
          <p:nvPr/>
        </p:nvGrpSpPr>
        <p:grpSpPr>
          <a:xfrm>
            <a:off x="4975200" y="2727360"/>
            <a:ext cx="2763360" cy="459720"/>
            <a:chOff x="4975200" y="2727360"/>
            <a:chExt cx="2763360" cy="459720"/>
          </a:xfrm>
        </p:grpSpPr>
        <p:sp>
          <p:nvSpPr>
            <p:cNvPr id="5491" name=""/>
            <p:cNvSpPr/>
            <p:nvPr/>
          </p:nvSpPr>
          <p:spPr>
            <a:xfrm>
              <a:off x="5770440" y="2727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8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975200" y="2727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4975200" y="3193920"/>
            <a:ext cx="2763360" cy="459720"/>
            <a:chOff x="4975200" y="3193920"/>
            <a:chExt cx="2763360" cy="459720"/>
          </a:xfrm>
        </p:grpSpPr>
        <p:sp>
          <p:nvSpPr>
            <p:cNvPr id="5494" name=""/>
            <p:cNvSpPr/>
            <p:nvPr/>
          </p:nvSpPr>
          <p:spPr>
            <a:xfrm>
              <a:off x="5770440" y="3193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9 +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975200" y="3193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"/>
          <p:cNvGrpSpPr/>
          <p:nvPr/>
        </p:nvGrpSpPr>
        <p:grpSpPr>
          <a:xfrm>
            <a:off x="4975200" y="3660840"/>
            <a:ext cx="2763360" cy="459720"/>
            <a:chOff x="4975200" y="3660840"/>
            <a:chExt cx="2763360" cy="459720"/>
          </a:xfrm>
        </p:grpSpPr>
        <p:sp>
          <p:nvSpPr>
            <p:cNvPr id="5497" name=""/>
            <p:cNvSpPr/>
            <p:nvPr/>
          </p:nvSpPr>
          <p:spPr>
            <a:xfrm>
              <a:off x="5770440" y="3660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+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975200" y="3660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9" name=""/>
          <p:cNvGrpSpPr/>
          <p:nvPr/>
        </p:nvGrpSpPr>
        <p:grpSpPr>
          <a:xfrm>
            <a:off x="4975200" y="4127400"/>
            <a:ext cx="2763360" cy="459720"/>
            <a:chOff x="4975200" y="4127400"/>
            <a:chExt cx="2763360" cy="459720"/>
          </a:xfrm>
        </p:grpSpPr>
        <p:sp>
          <p:nvSpPr>
            <p:cNvPr id="5500" name=""/>
            <p:cNvSpPr/>
            <p:nvPr/>
          </p:nvSpPr>
          <p:spPr>
            <a:xfrm>
              <a:off x="5770440" y="4127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0 + 2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975200" y="4127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2" name=""/>
          <p:cNvGrpSpPr/>
          <p:nvPr/>
        </p:nvGrpSpPr>
        <p:grpSpPr>
          <a:xfrm>
            <a:off x="4975200" y="4594320"/>
            <a:ext cx="2763360" cy="459720"/>
            <a:chOff x="4975200" y="4594320"/>
            <a:chExt cx="2763360" cy="459720"/>
          </a:xfrm>
        </p:grpSpPr>
        <p:sp>
          <p:nvSpPr>
            <p:cNvPr id="5503" name=""/>
            <p:cNvSpPr/>
            <p:nvPr/>
          </p:nvSpPr>
          <p:spPr>
            <a:xfrm>
              <a:off x="5770440" y="45943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5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975200" y="45943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5" name=""/>
          <p:cNvSpPr/>
          <p:nvPr/>
        </p:nvSpPr>
        <p:spPr>
          <a:xfrm>
            <a:off x="3327480" y="3193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3327480" y="3660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>
            <a:off x="3327480" y="4127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3327480" y="45943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7738920" y="2727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7738920" y="31939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7738920" y="36608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7738920" y="4127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7738920" y="45943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4" name=""/>
          <p:cNvGrpSpPr/>
          <p:nvPr/>
        </p:nvGrpSpPr>
        <p:grpSpPr>
          <a:xfrm>
            <a:off x="-44280" y="228600"/>
            <a:ext cx="8989920" cy="1888920"/>
            <a:chOff x="-44280" y="228600"/>
            <a:chExt cx="8989920" cy="1888920"/>
          </a:xfrm>
        </p:grpSpPr>
        <p:grpSp>
          <p:nvGrpSpPr>
            <p:cNvPr id="5515" name=""/>
            <p:cNvGrpSpPr/>
            <p:nvPr/>
          </p:nvGrpSpPr>
          <p:grpSpPr>
            <a:xfrm>
              <a:off x="-44280" y="1657440"/>
              <a:ext cx="8989920" cy="460080"/>
              <a:chOff x="-44280" y="1657440"/>
              <a:chExt cx="8989920" cy="460080"/>
            </a:xfrm>
          </p:grpSpPr>
          <p:grpSp>
            <p:nvGrpSpPr>
              <p:cNvPr id="5516" name=""/>
              <p:cNvGrpSpPr/>
              <p:nvPr/>
            </p:nvGrpSpPr>
            <p:grpSpPr>
              <a:xfrm>
                <a:off x="365400" y="1657440"/>
                <a:ext cx="8227440" cy="79200"/>
                <a:chOff x="365400" y="1657440"/>
                <a:chExt cx="8227440" cy="79200"/>
              </a:xfrm>
            </p:grpSpPr>
            <p:grpSp>
              <p:nvGrpSpPr>
                <p:cNvPr id="5517" name=""/>
                <p:cNvGrpSpPr/>
                <p:nvPr/>
              </p:nvGrpSpPr>
              <p:grpSpPr>
                <a:xfrm>
                  <a:off x="365400" y="1657440"/>
                  <a:ext cx="4113360" cy="79200"/>
                  <a:chOff x="365400" y="1657440"/>
                  <a:chExt cx="4113360" cy="79200"/>
                </a:xfrm>
              </p:grpSpPr>
              <p:sp>
                <p:nvSpPr>
                  <p:cNvPr id="5518" name=""/>
                  <p:cNvSpPr/>
                  <p:nvPr/>
                </p:nvSpPr>
                <p:spPr>
                  <a:xfrm>
                    <a:off x="3654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>
                    <a:off x="776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0" name=""/>
                  <p:cNvSpPr/>
                  <p:nvPr/>
                </p:nvSpPr>
                <p:spPr>
                  <a:xfrm>
                    <a:off x="118872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1" name=""/>
                  <p:cNvSpPr/>
                  <p:nvPr/>
                </p:nvSpPr>
                <p:spPr>
                  <a:xfrm>
                    <a:off x="159840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20106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24220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4" name=""/>
                  <p:cNvSpPr/>
                  <p:nvPr/>
                </p:nvSpPr>
                <p:spPr>
                  <a:xfrm>
                    <a:off x="283356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>
                    <a:off x="324576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6" name=""/>
                  <p:cNvSpPr/>
                  <p:nvPr/>
                </p:nvSpPr>
                <p:spPr>
                  <a:xfrm>
                    <a:off x="36554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>
                    <a:off x="406764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8" name=""/>
                <p:cNvGrpSpPr/>
                <p:nvPr/>
              </p:nvGrpSpPr>
              <p:grpSpPr>
                <a:xfrm>
                  <a:off x="4479120" y="1657440"/>
                  <a:ext cx="4113720" cy="79200"/>
                  <a:chOff x="4479120" y="1657440"/>
                  <a:chExt cx="4113720" cy="79200"/>
                </a:xfrm>
              </p:grpSpPr>
              <p:sp>
                <p:nvSpPr>
                  <p:cNvPr id="5529" name=""/>
                  <p:cNvSpPr/>
                  <p:nvPr/>
                </p:nvSpPr>
                <p:spPr>
                  <a:xfrm>
                    <a:off x="44791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0" name=""/>
                  <p:cNvSpPr/>
                  <p:nvPr/>
                </p:nvSpPr>
                <p:spPr>
                  <a:xfrm>
                    <a:off x="48902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1" name=""/>
                  <p:cNvSpPr/>
                  <p:nvPr/>
                </p:nvSpPr>
                <p:spPr>
                  <a:xfrm>
                    <a:off x="530280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>
                    <a:off x="571248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3" name=""/>
                  <p:cNvSpPr/>
                  <p:nvPr/>
                </p:nvSpPr>
                <p:spPr>
                  <a:xfrm>
                    <a:off x="61246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653616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69476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735984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7769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81817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9" name=""/>
              <p:cNvSpPr/>
              <p:nvPr/>
            </p:nvSpPr>
            <p:spPr>
              <a:xfrm>
                <a:off x="413568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454212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494856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373720" y="17492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7740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61866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662472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0376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43760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84404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82440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3708720" y="174636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3291120" y="17380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859120" y="17398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244656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2033640" y="17380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35120" y="17352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20816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809640" y="17334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401760" y="17398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-4428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271800" y="168264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57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9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88981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8783640" y="167940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8676000" y="167940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6" name=""/>
            <p:cNvSpPr/>
            <p:nvPr/>
          </p:nvSpPr>
          <p:spPr>
            <a:xfrm>
              <a:off x="7554960" y="763560"/>
              <a:ext cx="134280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ding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01760" y="1077840"/>
              <a:ext cx="790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ou may use the number line if you wish, to answer the follow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1387440" y="228600"/>
              <a:ext cx="6500880" cy="45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ff"/>
                  </a:solidFill>
                  <a:latin typeface="Comic Sans MS"/>
                </a:rPr>
                <a:t>Negative Numbers on the Number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5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5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9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570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571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572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2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583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3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0" name=""/>
          <p:cNvSpPr/>
          <p:nvPr/>
        </p:nvSpPr>
        <p:spPr>
          <a:xfrm>
            <a:off x="824040" y="898560"/>
            <a:ext cx="1962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racting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7310520" y="165096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2" name=""/>
          <p:cNvGrpSpPr/>
          <p:nvPr/>
        </p:nvGrpSpPr>
        <p:grpSpPr>
          <a:xfrm>
            <a:off x="5256000" y="1523880"/>
            <a:ext cx="2101680" cy="214560"/>
            <a:chOff x="5256000" y="1523880"/>
            <a:chExt cx="2101680" cy="214560"/>
          </a:xfrm>
        </p:grpSpPr>
        <p:grpSp>
          <p:nvGrpSpPr>
            <p:cNvPr id="5623" name=""/>
            <p:cNvGrpSpPr/>
            <p:nvPr/>
          </p:nvGrpSpPr>
          <p:grpSpPr>
            <a:xfrm>
              <a:off x="5303880" y="1523880"/>
              <a:ext cx="2053800" cy="133560"/>
              <a:chOff x="5303880" y="1523880"/>
              <a:chExt cx="2053800" cy="133560"/>
            </a:xfrm>
          </p:grpSpPr>
          <p:grpSp>
            <p:nvGrpSpPr>
              <p:cNvPr id="5624" name=""/>
              <p:cNvGrpSpPr/>
              <p:nvPr/>
            </p:nvGrpSpPr>
            <p:grpSpPr>
              <a:xfrm>
                <a:off x="6943320" y="1528560"/>
                <a:ext cx="414360" cy="127080"/>
                <a:chOff x="6943320" y="1528560"/>
                <a:chExt cx="414360" cy="127080"/>
              </a:xfrm>
            </p:grpSpPr>
            <p:sp>
              <p:nvSpPr>
                <p:cNvPr id="5625" name=""/>
                <p:cNvSpPr/>
                <p:nvPr/>
              </p:nvSpPr>
              <p:spPr>
                <a:xfrm flipH="1">
                  <a:off x="6942960" y="1528560"/>
                  <a:ext cx="41436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 flipH="1" flipV="1">
                  <a:off x="7034040" y="1590120"/>
                  <a:ext cx="61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 flipV="1">
                  <a:off x="7034400" y="1541160"/>
                  <a:ext cx="1260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8" name=""/>
              <p:cNvGrpSpPr/>
              <p:nvPr/>
            </p:nvGrpSpPr>
            <p:grpSpPr>
              <a:xfrm>
                <a:off x="6532560" y="1530360"/>
                <a:ext cx="411120" cy="127080"/>
                <a:chOff x="6532560" y="1530360"/>
                <a:chExt cx="411120" cy="127080"/>
              </a:xfrm>
            </p:grpSpPr>
            <p:sp>
              <p:nvSpPr>
                <p:cNvPr id="5629" name=""/>
                <p:cNvSpPr/>
                <p:nvPr/>
              </p:nvSpPr>
              <p:spPr>
                <a:xfrm flipH="1">
                  <a:off x="6532560" y="153036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 flipH="1" flipV="1">
                  <a:off x="6622920" y="159192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 flipV="1">
                  <a:off x="6622920" y="154296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2" name=""/>
              <p:cNvGrpSpPr/>
              <p:nvPr/>
            </p:nvGrpSpPr>
            <p:grpSpPr>
              <a:xfrm>
                <a:off x="6125760" y="1523880"/>
                <a:ext cx="407880" cy="127080"/>
                <a:chOff x="6125760" y="1523880"/>
                <a:chExt cx="407880" cy="127080"/>
              </a:xfrm>
            </p:grpSpPr>
            <p:sp>
              <p:nvSpPr>
                <p:cNvPr id="5633" name=""/>
                <p:cNvSpPr/>
                <p:nvPr/>
              </p:nvSpPr>
              <p:spPr>
                <a:xfrm flipH="1">
                  <a:off x="6125400" y="152388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 flipH="1" flipV="1">
                  <a:off x="6215400" y="158544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 flipV="1">
                  <a:off x="6215400" y="1536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6" name=""/>
              <p:cNvGrpSpPr/>
              <p:nvPr/>
            </p:nvGrpSpPr>
            <p:grpSpPr>
              <a:xfrm>
                <a:off x="5716440" y="1525680"/>
                <a:ext cx="403200" cy="126720"/>
                <a:chOff x="5716440" y="1525680"/>
                <a:chExt cx="403200" cy="126720"/>
              </a:xfrm>
            </p:grpSpPr>
            <p:sp>
              <p:nvSpPr>
                <p:cNvPr id="5637" name=""/>
                <p:cNvSpPr/>
                <p:nvPr/>
              </p:nvSpPr>
              <p:spPr>
                <a:xfrm flipH="1">
                  <a:off x="5716440" y="152568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 flipH="1" flipV="1">
                  <a:off x="5805000" y="158724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 flipV="1">
                  <a:off x="5805000" y="15375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0" name=""/>
              <p:cNvGrpSpPr/>
              <p:nvPr/>
            </p:nvGrpSpPr>
            <p:grpSpPr>
              <a:xfrm>
                <a:off x="5303880" y="1527120"/>
                <a:ext cx="403200" cy="127080"/>
                <a:chOff x="5303880" y="1527120"/>
                <a:chExt cx="403200" cy="127080"/>
              </a:xfrm>
            </p:grpSpPr>
            <p:sp>
              <p:nvSpPr>
                <p:cNvPr id="5641" name=""/>
                <p:cNvSpPr/>
                <p:nvPr/>
              </p:nvSpPr>
              <p:spPr>
                <a:xfrm flipH="1">
                  <a:off x="5303880" y="152712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 flipH="1" flipV="1">
                  <a:off x="5392440" y="158868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 flipV="1">
                  <a:off x="5392440" y="1539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44" name=""/>
            <p:cNvSpPr/>
            <p:nvPr/>
          </p:nvSpPr>
          <p:spPr>
            <a:xfrm flipH="1">
              <a:off x="5255640" y="164952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5" name=""/>
          <p:cNvSpPr/>
          <p:nvPr/>
        </p:nvSpPr>
        <p:spPr>
          <a:xfrm>
            <a:off x="6566040" y="87948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8004240" y="8780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648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649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650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0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661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1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6508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6977160" y="29084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0" name=""/>
          <p:cNvGrpSpPr/>
          <p:nvPr/>
        </p:nvGrpSpPr>
        <p:grpSpPr>
          <a:xfrm>
            <a:off x="4498560" y="2798640"/>
            <a:ext cx="2513160" cy="220680"/>
            <a:chOff x="4498560" y="2798640"/>
            <a:chExt cx="2513160" cy="220680"/>
          </a:xfrm>
        </p:grpSpPr>
        <p:sp>
          <p:nvSpPr>
            <p:cNvPr id="5701" name=""/>
            <p:cNvSpPr/>
            <p:nvPr/>
          </p:nvSpPr>
          <p:spPr>
            <a:xfrm flipH="1">
              <a:off x="4498200" y="2930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2" name=""/>
            <p:cNvGrpSpPr/>
            <p:nvPr/>
          </p:nvGrpSpPr>
          <p:grpSpPr>
            <a:xfrm>
              <a:off x="4544640" y="2798640"/>
              <a:ext cx="2467080" cy="133560"/>
              <a:chOff x="4544640" y="2798640"/>
              <a:chExt cx="2467080" cy="133560"/>
            </a:xfrm>
          </p:grpSpPr>
          <p:grpSp>
            <p:nvGrpSpPr>
              <p:cNvPr id="5703" name=""/>
              <p:cNvGrpSpPr/>
              <p:nvPr/>
            </p:nvGrpSpPr>
            <p:grpSpPr>
              <a:xfrm>
                <a:off x="6597360" y="2803680"/>
                <a:ext cx="414360" cy="126720"/>
                <a:chOff x="6597360" y="2803680"/>
                <a:chExt cx="414360" cy="126720"/>
              </a:xfrm>
            </p:grpSpPr>
            <p:sp>
              <p:nvSpPr>
                <p:cNvPr id="5704" name=""/>
                <p:cNvSpPr/>
                <p:nvPr/>
              </p:nvSpPr>
              <p:spPr>
                <a:xfrm flipH="1">
                  <a:off x="6597000" y="2803680"/>
                  <a:ext cx="41436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H="1" flipV="1">
                  <a:off x="6688080" y="286524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V="1">
                  <a:off x="6688440" y="281556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7" name=""/>
              <p:cNvGrpSpPr/>
              <p:nvPr/>
            </p:nvGrpSpPr>
            <p:grpSpPr>
              <a:xfrm>
                <a:off x="6186240" y="2805120"/>
                <a:ext cx="411120" cy="127080"/>
                <a:chOff x="6186240" y="2805120"/>
                <a:chExt cx="411120" cy="127080"/>
              </a:xfrm>
            </p:grpSpPr>
            <p:sp>
              <p:nvSpPr>
                <p:cNvPr id="5708" name=""/>
                <p:cNvSpPr/>
                <p:nvPr/>
              </p:nvSpPr>
              <p:spPr>
                <a:xfrm flipH="1">
                  <a:off x="6186240" y="280512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 flipH="1" flipV="1">
                  <a:off x="6276600" y="286668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 flipV="1">
                  <a:off x="6276600" y="2817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1" name=""/>
              <p:cNvGrpSpPr/>
              <p:nvPr/>
            </p:nvGrpSpPr>
            <p:grpSpPr>
              <a:xfrm>
                <a:off x="5779800" y="2798640"/>
                <a:ext cx="407880" cy="127080"/>
                <a:chOff x="5779800" y="2798640"/>
                <a:chExt cx="407880" cy="127080"/>
              </a:xfrm>
            </p:grpSpPr>
            <p:sp>
              <p:nvSpPr>
                <p:cNvPr id="5712" name=""/>
                <p:cNvSpPr/>
                <p:nvPr/>
              </p:nvSpPr>
              <p:spPr>
                <a:xfrm flipH="1">
                  <a:off x="5779440" y="279864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 flipH="1" flipV="1">
                  <a:off x="5869440" y="286020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 flipV="1">
                  <a:off x="5869440" y="281124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5" name=""/>
              <p:cNvGrpSpPr/>
              <p:nvPr/>
            </p:nvGrpSpPr>
            <p:grpSpPr>
              <a:xfrm>
                <a:off x="5370120" y="2800440"/>
                <a:ext cx="403200" cy="126720"/>
                <a:chOff x="5370120" y="2800440"/>
                <a:chExt cx="403200" cy="126720"/>
              </a:xfrm>
            </p:grpSpPr>
            <p:sp>
              <p:nvSpPr>
                <p:cNvPr id="5716" name=""/>
                <p:cNvSpPr/>
                <p:nvPr/>
              </p:nvSpPr>
              <p:spPr>
                <a:xfrm flipH="1">
                  <a:off x="5370120" y="28004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 flipH="1" flipV="1">
                  <a:off x="5458680" y="28620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 flipV="1">
                  <a:off x="5458680" y="28123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9" name=""/>
              <p:cNvGrpSpPr/>
              <p:nvPr/>
            </p:nvGrpSpPr>
            <p:grpSpPr>
              <a:xfrm>
                <a:off x="4957560" y="2801880"/>
                <a:ext cx="403200" cy="127080"/>
                <a:chOff x="4957560" y="2801880"/>
                <a:chExt cx="403200" cy="127080"/>
              </a:xfrm>
            </p:grpSpPr>
            <p:sp>
              <p:nvSpPr>
                <p:cNvPr id="5720" name=""/>
                <p:cNvSpPr/>
                <p:nvPr/>
              </p:nvSpPr>
              <p:spPr>
                <a:xfrm flipH="1">
                  <a:off x="4957560" y="280188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 flipH="1" flipV="1">
                  <a:off x="5046120" y="286344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 flipV="1">
                  <a:off x="504612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3" name=""/>
              <p:cNvGrpSpPr/>
              <p:nvPr/>
            </p:nvGrpSpPr>
            <p:grpSpPr>
              <a:xfrm>
                <a:off x="4544640" y="2801880"/>
                <a:ext cx="412920" cy="127080"/>
                <a:chOff x="4544640" y="2801880"/>
                <a:chExt cx="412920" cy="127080"/>
              </a:xfrm>
            </p:grpSpPr>
            <p:sp>
              <p:nvSpPr>
                <p:cNvPr id="5724" name=""/>
                <p:cNvSpPr/>
                <p:nvPr/>
              </p:nvSpPr>
              <p:spPr>
                <a:xfrm flipH="1">
                  <a:off x="4544280" y="2801880"/>
                  <a:ext cx="4129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 flipH="1" flipV="1">
                  <a:off x="4635360" y="2863440"/>
                  <a:ext cx="615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 flipV="1">
                  <a:off x="463536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27" name=""/>
          <p:cNvSpPr/>
          <p:nvPr/>
        </p:nvSpPr>
        <p:spPr>
          <a:xfrm>
            <a:off x="7956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8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729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730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1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742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2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9" name=""/>
          <p:cNvSpPr/>
          <p:nvPr/>
        </p:nvSpPr>
        <p:spPr>
          <a:xfrm>
            <a:off x="6531120" y="3443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-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>
            <a:off x="619776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1" name=""/>
          <p:cNvGrpSpPr/>
          <p:nvPr/>
        </p:nvGrpSpPr>
        <p:grpSpPr>
          <a:xfrm>
            <a:off x="3325680" y="4062240"/>
            <a:ext cx="2922480" cy="220680"/>
            <a:chOff x="3325680" y="4062240"/>
            <a:chExt cx="2922480" cy="220680"/>
          </a:xfrm>
        </p:grpSpPr>
        <p:sp>
          <p:nvSpPr>
            <p:cNvPr id="5782" name=""/>
            <p:cNvSpPr/>
            <p:nvPr/>
          </p:nvSpPr>
          <p:spPr>
            <a:xfrm flipH="1">
              <a:off x="3325320" y="41940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3" name=""/>
            <p:cNvGrpSpPr/>
            <p:nvPr/>
          </p:nvGrpSpPr>
          <p:grpSpPr>
            <a:xfrm>
              <a:off x="5833800" y="4066920"/>
              <a:ext cx="414360" cy="127080"/>
              <a:chOff x="5833800" y="4066920"/>
              <a:chExt cx="414360" cy="127080"/>
            </a:xfrm>
          </p:grpSpPr>
          <p:sp>
            <p:nvSpPr>
              <p:cNvPr id="5784" name=""/>
              <p:cNvSpPr/>
              <p:nvPr/>
            </p:nvSpPr>
            <p:spPr>
              <a:xfrm flipH="1">
                <a:off x="5833440" y="40669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 flipH="1" flipV="1">
                <a:off x="5924520" y="41284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 flipV="1">
                <a:off x="5924880" y="40795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7" name=""/>
            <p:cNvGrpSpPr/>
            <p:nvPr/>
          </p:nvGrpSpPr>
          <p:grpSpPr>
            <a:xfrm>
              <a:off x="5422680" y="4068360"/>
              <a:ext cx="411120" cy="127080"/>
              <a:chOff x="5422680" y="4068360"/>
              <a:chExt cx="411120" cy="127080"/>
            </a:xfrm>
          </p:grpSpPr>
          <p:sp>
            <p:nvSpPr>
              <p:cNvPr id="5788" name=""/>
              <p:cNvSpPr/>
              <p:nvPr/>
            </p:nvSpPr>
            <p:spPr>
              <a:xfrm flipH="1">
                <a:off x="5422680" y="4068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 flipH="1" flipV="1">
                <a:off x="5513040" y="4129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 flipV="1">
                <a:off x="5513040" y="4080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1" name=""/>
            <p:cNvGrpSpPr/>
            <p:nvPr/>
          </p:nvGrpSpPr>
          <p:grpSpPr>
            <a:xfrm>
              <a:off x="5016240" y="4062240"/>
              <a:ext cx="408240" cy="126720"/>
              <a:chOff x="5016240" y="4062240"/>
              <a:chExt cx="408240" cy="126720"/>
            </a:xfrm>
          </p:grpSpPr>
          <p:sp>
            <p:nvSpPr>
              <p:cNvPr id="5792" name=""/>
              <p:cNvSpPr/>
              <p:nvPr/>
            </p:nvSpPr>
            <p:spPr>
              <a:xfrm flipH="1">
                <a:off x="5016240" y="40622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 flipH="1" flipV="1">
                <a:off x="5105880" y="41238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 flipV="1">
                <a:off x="5105880" y="4074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5" name=""/>
            <p:cNvGrpSpPr/>
            <p:nvPr/>
          </p:nvGrpSpPr>
          <p:grpSpPr>
            <a:xfrm>
              <a:off x="4606920" y="4063680"/>
              <a:ext cx="403200" cy="127080"/>
              <a:chOff x="4606920" y="4063680"/>
              <a:chExt cx="403200" cy="127080"/>
            </a:xfrm>
          </p:grpSpPr>
          <p:sp>
            <p:nvSpPr>
              <p:cNvPr id="5796" name=""/>
              <p:cNvSpPr/>
              <p:nvPr/>
            </p:nvSpPr>
            <p:spPr>
              <a:xfrm flipH="1">
                <a:off x="4606920" y="40636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 flipH="1" flipV="1">
                <a:off x="4695480" y="41252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 flipV="1">
                <a:off x="469548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"/>
            <p:cNvGrpSpPr/>
            <p:nvPr/>
          </p:nvGrpSpPr>
          <p:grpSpPr>
            <a:xfrm>
              <a:off x="4194000" y="4065480"/>
              <a:ext cx="403200" cy="126720"/>
              <a:chOff x="4194000" y="4065480"/>
              <a:chExt cx="403200" cy="126720"/>
            </a:xfrm>
          </p:grpSpPr>
          <p:sp>
            <p:nvSpPr>
              <p:cNvPr id="5800" name=""/>
              <p:cNvSpPr/>
              <p:nvPr/>
            </p:nvSpPr>
            <p:spPr>
              <a:xfrm flipH="1">
                <a:off x="4194000" y="4065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 flipH="1" flipV="1">
                <a:off x="4282560" y="4127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 flipV="1">
                <a:off x="42825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3" name=""/>
            <p:cNvGrpSpPr/>
            <p:nvPr/>
          </p:nvGrpSpPr>
          <p:grpSpPr>
            <a:xfrm>
              <a:off x="3781080" y="4065480"/>
              <a:ext cx="412920" cy="126720"/>
              <a:chOff x="3781080" y="4065480"/>
              <a:chExt cx="412920" cy="126720"/>
            </a:xfrm>
          </p:grpSpPr>
          <p:sp>
            <p:nvSpPr>
              <p:cNvPr id="5804" name=""/>
              <p:cNvSpPr/>
              <p:nvPr/>
            </p:nvSpPr>
            <p:spPr>
              <a:xfrm flipH="1">
                <a:off x="3780720" y="40654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 flipH="1" flipV="1">
                <a:off x="3871800" y="41270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 flipV="1">
                <a:off x="387180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7" name=""/>
            <p:cNvGrpSpPr/>
            <p:nvPr/>
          </p:nvGrpSpPr>
          <p:grpSpPr>
            <a:xfrm>
              <a:off x="3365280" y="4063680"/>
              <a:ext cx="412920" cy="127080"/>
              <a:chOff x="3365280" y="4063680"/>
              <a:chExt cx="412920" cy="127080"/>
            </a:xfrm>
          </p:grpSpPr>
          <p:sp>
            <p:nvSpPr>
              <p:cNvPr id="5808" name=""/>
              <p:cNvSpPr/>
              <p:nvPr/>
            </p:nvSpPr>
            <p:spPr>
              <a:xfrm flipH="1">
                <a:off x="3364920" y="40636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 flipH="1" flipV="1">
                <a:off x="3456000" y="41252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 flipV="1">
                <a:off x="345600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1" name=""/>
          <p:cNvSpPr/>
          <p:nvPr/>
        </p:nvSpPr>
        <p:spPr>
          <a:xfrm>
            <a:off x="7980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2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813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814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815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826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3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6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3" name=""/>
          <p:cNvSpPr/>
          <p:nvPr/>
        </p:nvSpPr>
        <p:spPr>
          <a:xfrm>
            <a:off x="6556320" y="4640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"/>
          <p:cNvSpPr/>
          <p:nvPr/>
        </p:nvSpPr>
        <p:spPr>
          <a:xfrm>
            <a:off x="4587840" y="53118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5" name=""/>
          <p:cNvGrpSpPr/>
          <p:nvPr/>
        </p:nvGrpSpPr>
        <p:grpSpPr>
          <a:xfrm>
            <a:off x="2561760" y="5175360"/>
            <a:ext cx="2095560" cy="218520"/>
            <a:chOff x="2561760" y="5175360"/>
            <a:chExt cx="2095560" cy="218520"/>
          </a:xfrm>
        </p:grpSpPr>
        <p:grpSp>
          <p:nvGrpSpPr>
            <p:cNvPr id="5866" name=""/>
            <p:cNvGrpSpPr/>
            <p:nvPr/>
          </p:nvGrpSpPr>
          <p:grpSpPr>
            <a:xfrm>
              <a:off x="4242960" y="5179680"/>
              <a:ext cx="414360" cy="126720"/>
              <a:chOff x="4242960" y="5179680"/>
              <a:chExt cx="414360" cy="126720"/>
            </a:xfrm>
          </p:grpSpPr>
          <p:sp>
            <p:nvSpPr>
              <p:cNvPr id="5867" name=""/>
              <p:cNvSpPr/>
              <p:nvPr/>
            </p:nvSpPr>
            <p:spPr>
              <a:xfrm flipH="1">
                <a:off x="4242600" y="517968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 flipH="1" flipV="1">
                <a:off x="4333680" y="524124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 flipV="1">
                <a:off x="4334040" y="519156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0" name=""/>
            <p:cNvGrpSpPr/>
            <p:nvPr/>
          </p:nvGrpSpPr>
          <p:grpSpPr>
            <a:xfrm>
              <a:off x="3831840" y="5181480"/>
              <a:ext cx="411120" cy="126720"/>
              <a:chOff x="3831840" y="5181480"/>
              <a:chExt cx="411120" cy="126720"/>
            </a:xfrm>
          </p:grpSpPr>
          <p:sp>
            <p:nvSpPr>
              <p:cNvPr id="5871" name=""/>
              <p:cNvSpPr/>
              <p:nvPr/>
            </p:nvSpPr>
            <p:spPr>
              <a:xfrm flipH="1">
                <a:off x="3831840" y="518148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H="1" flipV="1">
                <a:off x="3922200" y="524304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V="1">
                <a:off x="392220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4" name=""/>
            <p:cNvGrpSpPr/>
            <p:nvPr/>
          </p:nvGrpSpPr>
          <p:grpSpPr>
            <a:xfrm>
              <a:off x="3425400" y="5175360"/>
              <a:ext cx="407880" cy="126720"/>
              <a:chOff x="3425400" y="5175360"/>
              <a:chExt cx="407880" cy="126720"/>
            </a:xfrm>
          </p:grpSpPr>
          <p:sp>
            <p:nvSpPr>
              <p:cNvPr id="5875" name=""/>
              <p:cNvSpPr/>
              <p:nvPr/>
            </p:nvSpPr>
            <p:spPr>
              <a:xfrm flipH="1">
                <a:off x="3425040" y="517536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 flipH="1" flipV="1">
                <a:off x="3515040" y="523692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 flipV="1">
                <a:off x="3515040" y="51872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8" name=""/>
            <p:cNvGrpSpPr/>
            <p:nvPr/>
          </p:nvGrpSpPr>
          <p:grpSpPr>
            <a:xfrm>
              <a:off x="3015720" y="5176800"/>
              <a:ext cx="403200" cy="126360"/>
              <a:chOff x="3015720" y="5176800"/>
              <a:chExt cx="403200" cy="126360"/>
            </a:xfrm>
          </p:grpSpPr>
          <p:sp>
            <p:nvSpPr>
              <p:cNvPr id="5879" name=""/>
              <p:cNvSpPr/>
              <p:nvPr/>
            </p:nvSpPr>
            <p:spPr>
              <a:xfrm flipH="1">
                <a:off x="3015720" y="517680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 flipH="1" flipV="1">
                <a:off x="3104280" y="523836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 flipV="1">
                <a:off x="3104280" y="51886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2" name=""/>
            <p:cNvGrpSpPr/>
            <p:nvPr/>
          </p:nvGrpSpPr>
          <p:grpSpPr>
            <a:xfrm>
              <a:off x="2603160" y="5178240"/>
              <a:ext cx="403200" cy="126720"/>
              <a:chOff x="2603160" y="5178240"/>
              <a:chExt cx="403200" cy="126720"/>
            </a:xfrm>
          </p:grpSpPr>
          <p:sp>
            <p:nvSpPr>
              <p:cNvPr id="5883" name=""/>
              <p:cNvSpPr/>
              <p:nvPr/>
            </p:nvSpPr>
            <p:spPr>
              <a:xfrm flipH="1">
                <a:off x="2603160" y="517824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 flipV="1">
                <a:off x="2691720" y="52398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V="1">
                <a:off x="2691720" y="5190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6" name=""/>
            <p:cNvSpPr/>
            <p:nvPr/>
          </p:nvSpPr>
          <p:spPr>
            <a:xfrm flipH="1">
              <a:off x="2561400" y="530532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7" name=""/>
          <p:cNvSpPr/>
          <p:nvPr/>
        </p:nvSpPr>
        <p:spPr>
          <a:xfrm>
            <a:off x="8004240" y="4640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889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890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891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1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902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12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9" name=""/>
          <p:cNvSpPr/>
          <p:nvPr/>
        </p:nvSpPr>
        <p:spPr>
          <a:xfrm>
            <a:off x="6545160" y="575136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 –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>
            <a:off x="3745080" y="6350040"/>
            <a:ext cx="8856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1" name=""/>
          <p:cNvGrpSpPr/>
          <p:nvPr/>
        </p:nvGrpSpPr>
        <p:grpSpPr>
          <a:xfrm>
            <a:off x="882720" y="6221520"/>
            <a:ext cx="2922480" cy="220680"/>
            <a:chOff x="882720" y="6221520"/>
            <a:chExt cx="2922480" cy="220680"/>
          </a:xfrm>
        </p:grpSpPr>
        <p:sp>
          <p:nvSpPr>
            <p:cNvPr id="5942" name=""/>
            <p:cNvSpPr/>
            <p:nvPr/>
          </p:nvSpPr>
          <p:spPr>
            <a:xfrm flipH="1">
              <a:off x="882360" y="63532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3" name=""/>
            <p:cNvGrpSpPr/>
            <p:nvPr/>
          </p:nvGrpSpPr>
          <p:grpSpPr>
            <a:xfrm>
              <a:off x="3390840" y="6226200"/>
              <a:ext cx="414360" cy="127080"/>
              <a:chOff x="3390840" y="6226200"/>
              <a:chExt cx="414360" cy="127080"/>
            </a:xfrm>
          </p:grpSpPr>
          <p:sp>
            <p:nvSpPr>
              <p:cNvPr id="5944" name=""/>
              <p:cNvSpPr/>
              <p:nvPr/>
            </p:nvSpPr>
            <p:spPr>
              <a:xfrm flipH="1">
                <a:off x="3390480" y="622620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 flipH="1" flipV="1">
                <a:off x="3481560" y="628776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 flipV="1">
                <a:off x="3481920" y="623880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7" name=""/>
            <p:cNvGrpSpPr/>
            <p:nvPr/>
          </p:nvGrpSpPr>
          <p:grpSpPr>
            <a:xfrm>
              <a:off x="2979720" y="6227640"/>
              <a:ext cx="411120" cy="127080"/>
              <a:chOff x="2979720" y="6227640"/>
              <a:chExt cx="411120" cy="127080"/>
            </a:xfrm>
          </p:grpSpPr>
          <p:sp>
            <p:nvSpPr>
              <p:cNvPr id="5948" name=""/>
              <p:cNvSpPr/>
              <p:nvPr/>
            </p:nvSpPr>
            <p:spPr>
              <a:xfrm flipH="1">
                <a:off x="2979720" y="622764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 flipV="1">
                <a:off x="3070080" y="628920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 flipV="1">
                <a:off x="3070080" y="624024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1" name=""/>
            <p:cNvGrpSpPr/>
            <p:nvPr/>
          </p:nvGrpSpPr>
          <p:grpSpPr>
            <a:xfrm>
              <a:off x="2573280" y="6221520"/>
              <a:ext cx="408240" cy="126720"/>
              <a:chOff x="2573280" y="6221520"/>
              <a:chExt cx="408240" cy="126720"/>
            </a:xfrm>
          </p:grpSpPr>
          <p:sp>
            <p:nvSpPr>
              <p:cNvPr id="5952" name=""/>
              <p:cNvSpPr/>
              <p:nvPr/>
            </p:nvSpPr>
            <p:spPr>
              <a:xfrm flipH="1">
                <a:off x="2573280" y="622152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 flipV="1">
                <a:off x="2662920" y="628308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V="1">
                <a:off x="2662920" y="62334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5" name=""/>
            <p:cNvGrpSpPr/>
            <p:nvPr/>
          </p:nvGrpSpPr>
          <p:grpSpPr>
            <a:xfrm>
              <a:off x="2163960" y="6222960"/>
              <a:ext cx="403200" cy="127080"/>
              <a:chOff x="2163960" y="6222960"/>
              <a:chExt cx="403200" cy="127080"/>
            </a:xfrm>
          </p:grpSpPr>
          <p:sp>
            <p:nvSpPr>
              <p:cNvPr id="5956" name=""/>
              <p:cNvSpPr/>
              <p:nvPr/>
            </p:nvSpPr>
            <p:spPr>
              <a:xfrm flipH="1">
                <a:off x="2163960" y="622296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 flipH="1" flipV="1">
                <a:off x="2252520" y="628452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 flipV="1">
                <a:off x="225252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9" name=""/>
            <p:cNvGrpSpPr/>
            <p:nvPr/>
          </p:nvGrpSpPr>
          <p:grpSpPr>
            <a:xfrm>
              <a:off x="1751040" y="6224760"/>
              <a:ext cx="403200" cy="126720"/>
              <a:chOff x="1751040" y="6224760"/>
              <a:chExt cx="403200" cy="126720"/>
            </a:xfrm>
          </p:grpSpPr>
          <p:sp>
            <p:nvSpPr>
              <p:cNvPr id="5960" name=""/>
              <p:cNvSpPr/>
              <p:nvPr/>
            </p:nvSpPr>
            <p:spPr>
              <a:xfrm flipH="1">
                <a:off x="1751040" y="622476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 flipH="1" flipV="1">
                <a:off x="1839600" y="628632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V="1">
                <a:off x="183960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3" name=""/>
            <p:cNvGrpSpPr/>
            <p:nvPr/>
          </p:nvGrpSpPr>
          <p:grpSpPr>
            <a:xfrm>
              <a:off x="1338120" y="6224760"/>
              <a:ext cx="412920" cy="126720"/>
              <a:chOff x="1338120" y="6224760"/>
              <a:chExt cx="412920" cy="126720"/>
            </a:xfrm>
          </p:grpSpPr>
          <p:sp>
            <p:nvSpPr>
              <p:cNvPr id="5964" name=""/>
              <p:cNvSpPr/>
              <p:nvPr/>
            </p:nvSpPr>
            <p:spPr>
              <a:xfrm flipH="1">
                <a:off x="1337760" y="622476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 flipH="1" flipV="1">
                <a:off x="1428840" y="628632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 flipV="1">
                <a:off x="142884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7" name=""/>
            <p:cNvGrpSpPr/>
            <p:nvPr/>
          </p:nvGrpSpPr>
          <p:grpSpPr>
            <a:xfrm>
              <a:off x="922320" y="6222960"/>
              <a:ext cx="412920" cy="127080"/>
              <a:chOff x="922320" y="6222960"/>
              <a:chExt cx="412920" cy="127080"/>
            </a:xfrm>
          </p:grpSpPr>
          <p:sp>
            <p:nvSpPr>
              <p:cNvPr id="5968" name=""/>
              <p:cNvSpPr/>
              <p:nvPr/>
            </p:nvSpPr>
            <p:spPr>
              <a:xfrm flipH="1">
                <a:off x="921960" y="622296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 flipH="1" flipV="1">
                <a:off x="1013040" y="628452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 flipV="1">
                <a:off x="101304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1" name=""/>
          <p:cNvSpPr/>
          <p:nvPr/>
        </p:nvSpPr>
        <p:spPr>
          <a:xfrm>
            <a:off x="7986600" y="5751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6" dur="30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6" dur="500"/>
                                        <p:tgtEl>
                                          <p:spTgt spid="5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5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3000"/>
                                        <p:tgtEl>
                                          <p:spTgt spid="5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" dur="500"/>
                                        <p:tgtEl>
                                          <p:spTgt spid="5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5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30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500"/>
                                        <p:tgtEl>
                                          <p:spTgt spid="5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1" dur="30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5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1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6" dur="3000"/>
                                        <p:tgtEl>
                                          <p:spTgt spid="5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5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3" name=""/>
          <p:cNvGrpSpPr/>
          <p:nvPr/>
        </p:nvGrpSpPr>
        <p:grpSpPr>
          <a:xfrm>
            <a:off x="171360" y="1873080"/>
            <a:ext cx="8989920" cy="460080"/>
            <a:chOff x="171360" y="1873080"/>
            <a:chExt cx="8989920" cy="460080"/>
          </a:xfrm>
        </p:grpSpPr>
        <p:grpSp>
          <p:nvGrpSpPr>
            <p:cNvPr id="5974" name=""/>
            <p:cNvGrpSpPr/>
            <p:nvPr/>
          </p:nvGrpSpPr>
          <p:grpSpPr>
            <a:xfrm>
              <a:off x="581040" y="1873080"/>
              <a:ext cx="8227440" cy="79200"/>
              <a:chOff x="581040" y="1873080"/>
              <a:chExt cx="8227440" cy="79200"/>
            </a:xfrm>
          </p:grpSpPr>
          <p:grpSp>
            <p:nvGrpSpPr>
              <p:cNvPr id="5975" name=""/>
              <p:cNvGrpSpPr/>
              <p:nvPr/>
            </p:nvGrpSpPr>
            <p:grpSpPr>
              <a:xfrm>
                <a:off x="581040" y="1873080"/>
                <a:ext cx="4113360" cy="79200"/>
                <a:chOff x="581040" y="1873080"/>
                <a:chExt cx="4113360" cy="79200"/>
              </a:xfrm>
            </p:grpSpPr>
            <p:sp>
              <p:nvSpPr>
                <p:cNvPr id="5976" name=""/>
                <p:cNvSpPr/>
                <p:nvPr/>
              </p:nvSpPr>
              <p:spPr>
                <a:xfrm>
                  <a:off x="5810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992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140436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181404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22262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26377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304920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346140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38710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428328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6" name=""/>
              <p:cNvGrpSpPr/>
              <p:nvPr/>
            </p:nvGrpSpPr>
            <p:grpSpPr>
              <a:xfrm>
                <a:off x="4694760" y="1873080"/>
                <a:ext cx="4113720" cy="79200"/>
                <a:chOff x="4694760" y="1873080"/>
                <a:chExt cx="4113720" cy="7920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46947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51058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551844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592812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3403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75180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71632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757548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7985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83973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7" name=""/>
            <p:cNvSpPr/>
            <p:nvPr/>
          </p:nvSpPr>
          <p:spPr>
            <a:xfrm>
              <a:off x="435132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475776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16420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589360" y="1964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9896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64022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684036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2532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65324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805968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84596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924360" y="1962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506760" y="1953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074760" y="1955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66220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49280" y="1953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50760" y="195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42380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1025280" y="194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17400" y="19555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17136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87440" y="1898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72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64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91137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8999280" y="1895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8891640" y="189504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4" name=""/>
          <p:cNvSpPr/>
          <p:nvPr/>
        </p:nvSpPr>
        <p:spPr>
          <a:xfrm>
            <a:off x="264960" y="887400"/>
            <a:ext cx="24814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racting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617400" y="1293840"/>
            <a:ext cx="79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use the number line if you wish, to answ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/>
          <p:nvPr/>
        </p:nvSpPr>
        <p:spPr>
          <a:xfrm>
            <a:off x="354348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779400" y="2943360"/>
            <a:ext cx="2764080" cy="459720"/>
            <a:chOff x="779400" y="2943360"/>
            <a:chExt cx="2764080" cy="459720"/>
          </a:xfrm>
        </p:grpSpPr>
        <p:sp>
          <p:nvSpPr>
            <p:cNvPr id="6028" name=""/>
            <p:cNvSpPr/>
            <p:nvPr/>
          </p:nvSpPr>
          <p:spPr>
            <a:xfrm>
              <a:off x="1575000" y="2943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79400" y="2943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0" name=""/>
          <p:cNvGrpSpPr/>
          <p:nvPr/>
        </p:nvGrpSpPr>
        <p:grpSpPr>
          <a:xfrm>
            <a:off x="779400" y="3409920"/>
            <a:ext cx="2764080" cy="459720"/>
            <a:chOff x="779400" y="3409920"/>
            <a:chExt cx="2764080" cy="459720"/>
          </a:xfrm>
        </p:grpSpPr>
        <p:sp>
          <p:nvSpPr>
            <p:cNvPr id="6031" name=""/>
            <p:cNvSpPr/>
            <p:nvPr/>
          </p:nvSpPr>
          <p:spPr>
            <a:xfrm>
              <a:off x="1575000" y="3409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-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79400" y="3409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3" name=""/>
          <p:cNvGrpSpPr/>
          <p:nvPr/>
        </p:nvGrpSpPr>
        <p:grpSpPr>
          <a:xfrm>
            <a:off x="779400" y="3876840"/>
            <a:ext cx="2764080" cy="459720"/>
            <a:chOff x="779400" y="3876840"/>
            <a:chExt cx="2764080" cy="459720"/>
          </a:xfrm>
        </p:grpSpPr>
        <p:sp>
          <p:nvSpPr>
            <p:cNvPr id="6034" name=""/>
            <p:cNvSpPr/>
            <p:nvPr/>
          </p:nvSpPr>
          <p:spPr>
            <a:xfrm>
              <a:off x="1575000" y="3876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-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79400" y="3876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6" name=""/>
          <p:cNvGrpSpPr/>
          <p:nvPr/>
        </p:nvGrpSpPr>
        <p:grpSpPr>
          <a:xfrm>
            <a:off x="779400" y="4343400"/>
            <a:ext cx="2764080" cy="459720"/>
            <a:chOff x="779400" y="4343400"/>
            <a:chExt cx="2764080" cy="459720"/>
          </a:xfrm>
        </p:grpSpPr>
        <p:sp>
          <p:nvSpPr>
            <p:cNvPr id="6037" name=""/>
            <p:cNvSpPr/>
            <p:nvPr/>
          </p:nvSpPr>
          <p:spPr>
            <a:xfrm>
              <a:off x="1575000" y="4343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 -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79400" y="4343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9" name=""/>
          <p:cNvGrpSpPr/>
          <p:nvPr/>
        </p:nvGrpSpPr>
        <p:grpSpPr>
          <a:xfrm>
            <a:off x="779400" y="4809960"/>
            <a:ext cx="2764080" cy="459720"/>
            <a:chOff x="779400" y="4809960"/>
            <a:chExt cx="2764080" cy="459720"/>
          </a:xfrm>
        </p:grpSpPr>
        <p:sp>
          <p:nvSpPr>
            <p:cNvPr id="6040" name=""/>
            <p:cNvSpPr/>
            <p:nvPr/>
          </p:nvSpPr>
          <p:spPr>
            <a:xfrm>
              <a:off x="1575000" y="48099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 -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79400" y="48099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2" name=""/>
          <p:cNvGrpSpPr/>
          <p:nvPr/>
        </p:nvGrpSpPr>
        <p:grpSpPr>
          <a:xfrm>
            <a:off x="5191200" y="2943360"/>
            <a:ext cx="2763360" cy="459720"/>
            <a:chOff x="5191200" y="2943360"/>
            <a:chExt cx="2763360" cy="459720"/>
          </a:xfrm>
        </p:grpSpPr>
        <p:sp>
          <p:nvSpPr>
            <p:cNvPr id="6043" name=""/>
            <p:cNvSpPr/>
            <p:nvPr/>
          </p:nvSpPr>
          <p:spPr>
            <a:xfrm>
              <a:off x="5986440" y="2943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- 1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191200" y="2943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5" name=""/>
          <p:cNvGrpSpPr/>
          <p:nvPr/>
        </p:nvGrpSpPr>
        <p:grpSpPr>
          <a:xfrm>
            <a:off x="5191200" y="3409920"/>
            <a:ext cx="2763360" cy="459720"/>
            <a:chOff x="5191200" y="3409920"/>
            <a:chExt cx="2763360" cy="459720"/>
          </a:xfrm>
        </p:grpSpPr>
        <p:sp>
          <p:nvSpPr>
            <p:cNvPr id="6046" name=""/>
            <p:cNvSpPr/>
            <p:nvPr/>
          </p:nvSpPr>
          <p:spPr>
            <a:xfrm>
              <a:off x="5986440" y="3409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2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191200" y="3409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8" name=""/>
          <p:cNvGrpSpPr/>
          <p:nvPr/>
        </p:nvGrpSpPr>
        <p:grpSpPr>
          <a:xfrm>
            <a:off x="5191200" y="3876840"/>
            <a:ext cx="2763360" cy="459720"/>
            <a:chOff x="5191200" y="3876840"/>
            <a:chExt cx="2763360" cy="459720"/>
          </a:xfrm>
        </p:grpSpPr>
        <p:sp>
          <p:nvSpPr>
            <p:cNvPr id="6049" name=""/>
            <p:cNvSpPr/>
            <p:nvPr/>
          </p:nvSpPr>
          <p:spPr>
            <a:xfrm>
              <a:off x="5986440" y="3876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191200" y="3876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1" name=""/>
          <p:cNvGrpSpPr/>
          <p:nvPr/>
        </p:nvGrpSpPr>
        <p:grpSpPr>
          <a:xfrm>
            <a:off x="5191200" y="4343400"/>
            <a:ext cx="2763360" cy="459720"/>
            <a:chOff x="5191200" y="4343400"/>
            <a:chExt cx="2763360" cy="459720"/>
          </a:xfrm>
        </p:grpSpPr>
        <p:sp>
          <p:nvSpPr>
            <p:cNvPr id="6052" name=""/>
            <p:cNvSpPr/>
            <p:nvPr/>
          </p:nvSpPr>
          <p:spPr>
            <a:xfrm>
              <a:off x="5986440" y="4343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91200" y="4343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4" name=""/>
          <p:cNvGrpSpPr/>
          <p:nvPr/>
        </p:nvGrpSpPr>
        <p:grpSpPr>
          <a:xfrm>
            <a:off x="5191200" y="4809960"/>
            <a:ext cx="2763360" cy="459720"/>
            <a:chOff x="5191200" y="4809960"/>
            <a:chExt cx="2763360" cy="459720"/>
          </a:xfrm>
        </p:grpSpPr>
        <p:sp>
          <p:nvSpPr>
            <p:cNvPr id="6055" name=""/>
            <p:cNvSpPr/>
            <p:nvPr/>
          </p:nvSpPr>
          <p:spPr>
            <a:xfrm>
              <a:off x="5986440" y="48099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3 -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191200" y="48099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7" name=""/>
          <p:cNvSpPr/>
          <p:nvPr/>
        </p:nvSpPr>
        <p:spPr>
          <a:xfrm>
            <a:off x="354348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"/>
          <p:cNvSpPr/>
          <p:nvPr/>
        </p:nvSpPr>
        <p:spPr>
          <a:xfrm>
            <a:off x="354348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"/>
          <p:cNvSpPr/>
          <p:nvPr/>
        </p:nvSpPr>
        <p:spPr>
          <a:xfrm>
            <a:off x="354348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"/>
          <p:cNvSpPr/>
          <p:nvPr/>
        </p:nvSpPr>
        <p:spPr>
          <a:xfrm>
            <a:off x="354348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"/>
          <p:cNvSpPr/>
          <p:nvPr/>
        </p:nvSpPr>
        <p:spPr>
          <a:xfrm>
            <a:off x="795492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"/>
          <p:cNvSpPr/>
          <p:nvPr/>
        </p:nvSpPr>
        <p:spPr>
          <a:xfrm>
            <a:off x="795492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"/>
          <p:cNvSpPr/>
          <p:nvPr/>
        </p:nvSpPr>
        <p:spPr>
          <a:xfrm>
            <a:off x="795492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"/>
          <p:cNvSpPr/>
          <p:nvPr/>
        </p:nvSpPr>
        <p:spPr>
          <a:xfrm>
            <a:off x="795492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>
            <a:off x="795492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6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6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6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6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6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6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6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6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6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6070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13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7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138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139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14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142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3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4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5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6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6147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6148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6149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6150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6151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1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6162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6163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2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4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185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000"/>
                                        <p:tgtEl>
                                          <p:spTgt spid="6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20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6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5" dur="500"/>
                                        <p:tgtEl>
                                          <p:spTgt spid="6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8" dur="500"/>
                                        <p:tgtEl>
                                          <p:spTgt spid="6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6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6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0" dur="500"/>
                                        <p:tgtEl>
                                          <p:spTgt spid="6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6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2" dur="500"/>
                                        <p:tgtEl>
                                          <p:spTgt spid="6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3" dur="500"/>
                                        <p:tgtEl>
                                          <p:spTgt spid="6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4" dur="500"/>
                                        <p:tgtEl>
                                          <p:spTgt spid="6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5" dur="500"/>
                                        <p:tgtEl>
                                          <p:spTgt spid="6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0" fill="hold"/>
                                        <p:tgtEl>
                                          <p:spTgt spid="6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0" fill="hold"/>
                                        <p:tgtEl>
                                          <p:spTgt spid="6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3" dur="500"/>
                                        <p:tgtEl>
                                          <p:spTgt spid="6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0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201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26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68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26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"/>
          <p:cNvSpPr/>
          <p:nvPr/>
        </p:nvSpPr>
        <p:spPr>
          <a:xfrm>
            <a:off x="1806480" y="154944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5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6276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5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6286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6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297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298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299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300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301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302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303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304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305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6306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307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308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9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310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3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2000"/>
                                        <p:tgtEl>
                                          <p:spTgt spid="6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2000"/>
                                        <p:tgtEl>
                                          <p:spTgt spid="6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6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1" dur="500"/>
                                        <p:tgtEl>
                                          <p:spTgt spid="6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6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6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6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4" dur="500"/>
                                        <p:tgtEl>
                                          <p:spTgt spid="6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6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6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6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6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6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6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500"/>
                                        <p:tgtEl>
                                          <p:spTgt spid="6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0" dur="500"/>
                                        <p:tgtEl>
                                          <p:spTgt spid="6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6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6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6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6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6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8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6359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3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424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5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6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427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428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42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0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431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2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3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4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5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6436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6437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6438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pic>
        <p:nvPicPr>
          <p:cNvPr id="6439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440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2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5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456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0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521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2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23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524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8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529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530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531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532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533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534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535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536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537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6538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539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540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1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542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5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828720" y="617400"/>
            <a:ext cx="1371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3" name=""/>
          <p:cNvGrpSpPr/>
          <p:nvPr/>
        </p:nvGrpSpPr>
        <p:grpSpPr>
          <a:xfrm>
            <a:off x="771480" y="609480"/>
            <a:ext cx="1666800" cy="5676840"/>
            <a:chOff x="771480" y="609480"/>
            <a:chExt cx="1666800" cy="5676840"/>
          </a:xfrm>
        </p:grpSpPr>
        <p:sp>
          <p:nvSpPr>
            <p:cNvPr id="6584" name=""/>
            <p:cNvSpPr/>
            <p:nvPr/>
          </p:nvSpPr>
          <p:spPr>
            <a:xfrm rot="5400000">
              <a:off x="-1233360" y="26143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988920" y="8888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1460520" y="52639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1504800" y="11365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8" name=""/>
            <p:cNvGrpSpPr/>
            <p:nvPr/>
          </p:nvGrpSpPr>
          <p:grpSpPr>
            <a:xfrm>
              <a:off x="1695600" y="1536480"/>
              <a:ext cx="304560" cy="3514680"/>
              <a:chOff x="1695600" y="1536480"/>
              <a:chExt cx="304560" cy="3514680"/>
            </a:xfrm>
          </p:grpSpPr>
          <p:sp>
            <p:nvSpPr>
              <p:cNvPr id="6589" name=""/>
              <p:cNvSpPr/>
              <p:nvPr/>
            </p:nvSpPr>
            <p:spPr>
              <a:xfrm>
                <a:off x="1695600" y="5051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1695600" y="46605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1695600" y="4269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1695600" y="3879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1695600" y="3489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1695600" y="3098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1695600" y="2707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1695600" y="2317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1695600" y="1926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1695600" y="15364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9" name=""/>
            <p:cNvSpPr/>
            <p:nvPr/>
          </p:nvSpPr>
          <p:spPr>
            <a:xfrm>
              <a:off x="1127160" y="36860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925560" y="4071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917640" y="44686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928800" y="48416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988920" y="32972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976320" y="291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973080" y="25048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979560" y="2125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981000" y="1736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977760" y="13478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950760" y="9064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025720" y="58323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1060560" y="58291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013120" y="9525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1047600" y="9493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1509840" y="52768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5" name=""/>
          <p:cNvGrpSpPr/>
          <p:nvPr/>
        </p:nvGrpSpPr>
        <p:grpSpPr>
          <a:xfrm>
            <a:off x="3711600" y="615960"/>
            <a:ext cx="1666800" cy="5676840"/>
            <a:chOff x="3711600" y="615960"/>
            <a:chExt cx="1666800" cy="5676840"/>
          </a:xfrm>
        </p:grpSpPr>
        <p:sp>
          <p:nvSpPr>
            <p:cNvPr id="6616" name=""/>
            <p:cNvSpPr/>
            <p:nvPr/>
          </p:nvSpPr>
          <p:spPr>
            <a:xfrm rot="5400000">
              <a:off x="1706400" y="262080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929040" y="89532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400640" y="527040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444920" y="114300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0" name=""/>
            <p:cNvGrpSpPr/>
            <p:nvPr/>
          </p:nvGrpSpPr>
          <p:grpSpPr>
            <a:xfrm>
              <a:off x="4635720" y="1542960"/>
              <a:ext cx="304560" cy="3514680"/>
              <a:chOff x="4635720" y="1542960"/>
              <a:chExt cx="304560" cy="3514680"/>
            </a:xfrm>
          </p:grpSpPr>
          <p:sp>
            <p:nvSpPr>
              <p:cNvPr id="6621" name=""/>
              <p:cNvSpPr/>
              <p:nvPr/>
            </p:nvSpPr>
            <p:spPr>
              <a:xfrm>
                <a:off x="4635720" y="50576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635720" y="46670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4635720" y="42764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4635720" y="38858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4635720" y="34956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4635720" y="31050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4635720" y="27144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4635720" y="23238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4635720" y="19332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4635720" y="1542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1" name=""/>
            <p:cNvSpPr/>
            <p:nvPr/>
          </p:nvSpPr>
          <p:spPr>
            <a:xfrm>
              <a:off x="4067280" y="369252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865680" y="4078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857760" y="447516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868920" y="48481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929040" y="33037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916440" y="291960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913200" y="25113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919680" y="21319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921120" y="174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917880" y="13543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890880" y="912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4965840" y="583884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4000680" y="583560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4953240" y="95904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987720" y="95580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4449960" y="528336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7" name=""/>
          <p:cNvGrpSpPr/>
          <p:nvPr/>
        </p:nvGrpSpPr>
        <p:grpSpPr>
          <a:xfrm>
            <a:off x="6823080" y="584280"/>
            <a:ext cx="1666800" cy="5676840"/>
            <a:chOff x="6823080" y="584280"/>
            <a:chExt cx="1666800" cy="5676840"/>
          </a:xfrm>
        </p:grpSpPr>
        <p:sp>
          <p:nvSpPr>
            <p:cNvPr id="6648" name=""/>
            <p:cNvSpPr/>
            <p:nvPr/>
          </p:nvSpPr>
          <p:spPr>
            <a:xfrm rot="5400000">
              <a:off x="4817880" y="25891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7040520" y="8636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7512120" y="52387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7556400" y="11113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2" name=""/>
            <p:cNvGrpSpPr/>
            <p:nvPr/>
          </p:nvGrpSpPr>
          <p:grpSpPr>
            <a:xfrm>
              <a:off x="7747200" y="1511280"/>
              <a:ext cx="304560" cy="3514680"/>
              <a:chOff x="7747200" y="1511280"/>
              <a:chExt cx="304560" cy="3514680"/>
            </a:xfrm>
          </p:grpSpPr>
          <p:sp>
            <p:nvSpPr>
              <p:cNvPr id="6653" name=""/>
              <p:cNvSpPr/>
              <p:nvPr/>
            </p:nvSpPr>
            <p:spPr>
              <a:xfrm>
                <a:off x="7747200" y="5025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747200" y="4635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747200" y="42447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747200" y="3854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747200" y="3463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747200" y="3073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747200" y="2682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747200" y="2292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747200" y="1901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7747200" y="15112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3" name=""/>
            <p:cNvSpPr/>
            <p:nvPr/>
          </p:nvSpPr>
          <p:spPr>
            <a:xfrm>
              <a:off x="7178760" y="3660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6977160" y="40467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6969240" y="44434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6980400" y="4816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7040520" y="32720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7027920" y="28879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024680" y="24796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7031160" y="21002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7032600" y="1711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7029360" y="1322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7002360" y="881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077320" y="58071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7112160" y="58039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064720" y="9273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7099200" y="9241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7561440" y="52516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6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733400" y="3174840"/>
            <a:ext cx="190800" cy="23749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6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6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6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6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72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2000160"/>
            <a:ext cx="190800" cy="354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5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76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76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76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82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8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33400" y="2967120"/>
            <a:ext cx="190800" cy="2582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88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88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88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94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9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33400" y="3952800"/>
            <a:ext cx="190800" cy="15969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0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0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0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1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733400" y="4338720"/>
            <a:ext cx="190800" cy="121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1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1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1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1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22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733400" y="4138560"/>
            <a:ext cx="190800" cy="1411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26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32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8:41:55Z</dcterms:created>
  <dc:creator/>
  <dc:description/>
  <dc:language>en-US</dc:language>
  <cp:lastModifiedBy>Mike Crowley</cp:lastModifiedBy>
  <dcterms:modified xsi:type="dcterms:W3CDTF">2007-04-29T16:26:10Z</dcterms:modified>
  <cp:revision>46</cp:revision>
  <dc:subject/>
  <dc:title>Negative Numbers</dc:title>
</cp:coreProperties>
</file>